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914400" y="4419720"/>
            <a:ext cx="5029200" cy="39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"/>
          <p:cNvSpPr/>
          <p:nvPr/>
        </p:nvSpPr>
        <p:spPr>
          <a:xfrm>
            <a:off x="2769120" y="8858160"/>
            <a:ext cx="132192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Schoolbook"/>
              </a:rPr>
              <a:t>Page </a:t>
            </a:r>
            <a:fld id="{BB9A1E35-F67D-4F36-9CDD-4E05B8C389F1}" type="slidenum">
              <a:rPr b="0" lang="en-US" sz="12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ldImg"/>
          </p:nvPr>
        </p:nvSpPr>
        <p:spPr>
          <a:xfrm>
            <a:off x="1257120" y="810720"/>
            <a:ext cx="4343400" cy="325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914400" y="4419720"/>
            <a:ext cx="5029200" cy="39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ldImg"/>
          </p:nvPr>
        </p:nvSpPr>
        <p:spPr>
          <a:xfrm>
            <a:off x="1257480" y="8110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62120" y="392400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44800" y="125712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62120" y="3924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44800" y="3924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0120" y="125712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7760" y="125712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762120" y="3924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0120" y="3924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7760" y="3924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25712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666800" y="180720"/>
            <a:ext cx="6858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4800" y="125712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924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4800" y="125712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44800" y="3924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4800" y="125712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392400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600" y="314280"/>
            <a:ext cx="1006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IT audi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80972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2381400" indent="-3812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952720" indent="-3808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952720" indent="-3808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952720" indent="-3808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2760" y="6118200"/>
            <a:ext cx="984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6480" y="6593040"/>
            <a:ext cx="1063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IT Security : S1/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0400" y="6602400"/>
            <a:ext cx="349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34BE-08AD-438E-B2C7-F1A8CF435644}" type="slidenum"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9067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600" y="212760"/>
            <a:ext cx="1527120" cy="927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80880" y="66600"/>
            <a:ext cx="1276560" cy="11620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0" y="6546960"/>
            <a:ext cx="9067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2840" y="824040"/>
            <a:ext cx="388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f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209520"/>
            <a:ext cx="9067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077400" y="200160"/>
            <a:ext cx="0" cy="942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5160" y="6613560"/>
            <a:ext cx="1154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Times New Roman"/>
              </a:rPr>
              <a:t>March 200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1752480"/>
            <a:ext cx="8762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</a:rPr>
              <a:t>IT Security</a:t>
            </a:r>
            <a:br>
              <a:rPr sz="5400"/>
            </a:br>
            <a:br>
              <a:rPr sz="54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Session 1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Security Objectives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4762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SO 17799 – Main Sections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1760" y="125712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Risk assessment and treatment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Security Policy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Organisation of Information Security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Asset Management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HR Security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Physical and Environmental Security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24280" y="1257120"/>
            <a:ext cx="38102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Communications &amp; Operations Management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Access Control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IS Acquisition, Dvpt &amp; Maintenance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Business Continuity Management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Compliance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CoBIT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Released by ITGI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Control objectives relevant to security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PO9 – Assess and Manage IT Risks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DS4 – Ensure Continuous Service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DS5 – Ensure Systems Security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National Institute of Standards and Technology (NIST)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Several Useful Publications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Information Security Handbook: A Guide for Managements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Recommended Security Controls for Federal Information Systems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Guide for Assessing Security Controls in Federal Information Systems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Trusted Computer Systems – Evaluation Criteria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TCSEC (DOD Orange Book)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ITSEC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Common Criteria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12 controls – based on  ISO/ IEC 17799 : 2005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Security Policy (session 4)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Organization of Information security (session 5)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Asset management (session 6)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Human resources security (including incident response) (session 7)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T security controls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Physical and environmental security (IT Control Module)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Communications and Operations management (Session 9)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Access Control (IT Control module)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Information Systems Acquisition, Development and maintenance (session 8)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T security controls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Business continuity management (BCP Module)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Compliance (session 10)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T security controls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 fontScale="95000"/>
          </a:bodyPr>
          <a:p>
            <a:pPr marL="452160" indent="-452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Real (and growing) need for IT security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52160" indent="-452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General perception is poor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52160" indent="-452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C.I.A. (and non-repudiation)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52160" indent="-452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An investment - need for value for money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52160" indent="-452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Must be accepted by the users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52160" indent="-452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Different IT Security Standards and Frameworks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Why is IT security important?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Heavy reliance placed on IT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Pressure to deliver services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Increasing range of threats 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Risks to national security?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92280" y="2139840"/>
            <a:ext cx="7607160" cy="32641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224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General perceptions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Cost (procure, train, operate, maintain)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Return on investment? (like insurance)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Can inhibit operations (inefficiency)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Negative image (brings restrictions)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91320" y="4495680"/>
            <a:ext cx="1476360" cy="1873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360" y="4495680"/>
            <a:ext cx="2276640" cy="2268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562720" y="2057400"/>
            <a:ext cx="2361960" cy="31240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What can go wrong?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IT security problems include :-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fire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flood 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explosion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natural disaster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industrial action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breakdown,  failure, sabotage, theft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viral attack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error/negligence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80880" y="1371600"/>
          <a:ext cx="914400" cy="170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1371600"/>
                    <a:ext cx="914400" cy="17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 flipV="1">
            <a:off x="6172200" y="2971800"/>
            <a:ext cx="2362320" cy="838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000160" y="2228760"/>
            <a:ext cx="5600880" cy="3162240"/>
          </a:xfrm>
          <a:prstGeom prst="rect">
            <a:avLst/>
          </a:prstGeom>
          <a:solidFill>
            <a:srgbClr val="00008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T security objectives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86080"/>
            <a:ext cx="7772400" cy="453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3600"/>
              </a:spcBef>
              <a:buClr>
                <a:srgbClr val="fafd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i="1" lang="en-US" sz="9600" spc="-1" strike="noStrike">
                <a:solidFill>
                  <a:srgbClr val="fafd00"/>
                </a:solidFill>
                <a:latin typeface="Times New Roman"/>
              </a:rPr>
              <a:t>C.I.A.</a:t>
            </a:r>
            <a:endParaRPr b="1" i="1" lang="en-US" sz="9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and non-repudiation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" dur="1" fill="hold"/>
                                  <p:tgtEl>
                                    <p:spTgt spid="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C.I.A.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8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Confidentiality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8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Ensuring information is accessible only those authorised to have access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8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Integrity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8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Safeguarding the accuracy and completeness of information and processing methods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8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Availability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8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Ensuring that authorised users have access to information and associated assets when required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effective</a:t>
            </a: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 - does what is expected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efficient</a:t>
            </a: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 - simple to operate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economical</a:t>
            </a: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 - most protection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for least cost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accepted</a:t>
            </a: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 - unobtrusive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04960" y="5286240"/>
            <a:ext cx="5581800" cy="857520"/>
          </a:xfrm>
          <a:prstGeom prst="rect">
            <a:avLst/>
          </a:prstGeom>
          <a:solidFill>
            <a:srgbClr val="00008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Good IT security must be.....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25640" y="5457960"/>
            <a:ext cx="5140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Nothing is ever 100% sec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IT Security Standards and Frameworks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ISO/ IEC 17799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CoBIT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NIST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Trusted Computer Systems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SO/ IEC 17799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ISO 17799 (based on BS 7799) originally released in 2000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ISO 17799: 2005 released in June 2005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5T07:12:40Z</dcterms:created>
  <dc:creator>National Audit Office</dc:creator>
  <dc:description/>
  <cp:keywords/>
  <dc:language>en-US</dc:language>
  <cp:lastModifiedBy>Vani Sriram</cp:lastModifiedBy>
  <cp:lastPrinted>1997-02-03T09:27:20Z</cp:lastPrinted>
  <dcterms:modified xsi:type="dcterms:W3CDTF">2007-02-20T10:02:48Z</dcterms:modified>
  <cp:revision>20</cp:revision>
  <dc:subject>Introduction</dc:subject>
  <dc:title>IT security</dc:title>
</cp:coreProperties>
</file>