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5C6-DC96-4C27-836E-668D18EC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CE7-EA50-48BA-A5FB-4F530C04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2BD-C1B0-4E0A-8212-B3C1E57D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5EC-F3E4-4B9E-A7DE-EDAD1A8A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9AED-652A-459E-858B-7380A4D0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8DF7-9CDA-4F74-BD5D-CF47B0E8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D9D7-640E-4ED4-B974-8C5B4728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AD2A-6A50-4A14-9D73-9776D9AD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B171-19C0-4BD2-B648-0BCDE404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48C6-F4CA-4FD1-B429-573123E6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515D-23B2-448A-9E4F-9CF754F6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BEB-0D45-408C-9C16-40949B43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B2FC-7E22-459C-A4FF-B8A149D3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76F2-DF74-4143-A7E9-956E7428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2E81-7CB9-44A5-82EC-680779B8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FE7B-F8B7-4DE1-A19F-BABA063D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F77B-DF39-4D97-A896-8AE4256A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B95B6-1250-4F54-B459-84042C96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6A3A-7356-4D6A-8780-F25CDFC2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C9F3-7050-4256-8AD3-BD0F2553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2080-B358-4F4E-BEEB-600AE12C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363F-06F5-4A81-9DD9-1929F7E4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73D-589B-4352-82AA-FA05FA9A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9C6CA-D8DB-45E8-A73D-CA4A097E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CA798-C4BF-4574-83CB-F34EC9D5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CCF82-108F-4039-B7C2-6509E14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656E-4177-43AB-B200-060B651C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828D-DAD6-4229-B1E0-65AAF33C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ACA1-F190-4450-B46F-2EE953F7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EE10-F192-4C68-AB1B-99B2C211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D877-0891-4503-AA7A-CF4BE63A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E79C-F69C-4179-A699-F3FBBFA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BAA8C-E535-4D0A-8D58-EFA52B9B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E4F-5DED-4E57-9C3D-4002ADFA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84BC-2014-4D31-8429-8D9F8075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CB74F-C728-4768-B001-AFE19384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F2226-DA47-442C-9121-C5CFDF2E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0CD7D-6DF6-45C8-B140-50A06873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BE9C2-7995-42BD-936C-03EFC314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7781-5DB0-40BC-9096-B62A052A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70E47-0893-4B70-BB5A-61532268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938B-FEE2-48AF-A183-707E0874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2451-5C17-4F32-B23D-F688512D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446-F21F-4A07-B225-34C8FA7C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0F3-0811-4CAD-BF5D-08E49DAC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235-9782-496B-859D-8BD99F3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AA3-9853-43B8-8CA6-03CE3C2E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0E9-E2CD-4897-BFEC-AC644D08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100F-1E9C-412A-9762-79068FB4304E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DD49-B529-4A11-AA97-DA93102D06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690F-91E8-41E6-9342-5F7DCD0CBE79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DEAA-457C-43BF-BD4C-5AC82FE52F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9B5D-C6C4-4F43-B20F-5BF3C6EF083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BC43-EB6E-4AD8-83D6-FB7604DE98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CCCA-46CA-4CB7-9B68-3814C0C12532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2D36-D01E-4CFA-88BA-B0489DEC42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229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C1D2-8E01-4DEC-8D17-D500646ADC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6720" y="620640"/>
            <a:ext cx="684072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ata Interface Standard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or Accounting Software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Project Progress Repor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44720" y="3502080"/>
            <a:ext cx="568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une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0FF4-0B65-432A-9D6F-17E6BFCAA4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1C09-58C9-45E9-9C4F-16B1891419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23640" y="49413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oject 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background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oject roadmap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3. Previous work review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4. Working draft 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231-F96C-45B8-84C0-DBCAA8441A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E95C-CE75-4E33-AA39-C79B0C82DD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右箭头 62"/>
          <p:cNvSpPr/>
          <p:nvPr/>
        </p:nvSpPr>
        <p:spPr>
          <a:xfrm>
            <a:off x="324000" y="1844640"/>
            <a:ext cx="8677080" cy="719280"/>
          </a:xfrm>
          <a:prstGeom prst="right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cccc00">
                  <a:alpha val="52156"/>
                </a:srgbClr>
              </a:gs>
              <a:gs pos="100000">
                <a:srgbClr val="5e5e00"/>
              </a:gs>
            </a:gsLst>
            <a:lin ang="10800000"/>
          </a:gradFill>
          <a:ln w="2556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63"/>
          <p:cNvSpPr/>
          <p:nvPr/>
        </p:nvSpPr>
        <p:spPr>
          <a:xfrm>
            <a:off x="324000" y="2033640"/>
            <a:ext cx="0" cy="48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65"/>
          <p:cNvSpPr/>
          <p:nvPr/>
        </p:nvSpPr>
        <p:spPr>
          <a:xfrm>
            <a:off x="3276720" y="217800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66"/>
          <p:cNvSpPr/>
          <p:nvPr/>
        </p:nvSpPr>
        <p:spPr>
          <a:xfrm flipH="1">
            <a:off x="4858920" y="2106720"/>
            <a:ext cx="1800" cy="475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69"/>
          <p:cNvSpPr/>
          <p:nvPr/>
        </p:nvSpPr>
        <p:spPr>
          <a:xfrm flipH="1">
            <a:off x="8531280" y="1996920"/>
            <a:ext cx="1440" cy="4789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0"/>
          <p:cNvSpPr/>
          <p:nvPr/>
        </p:nvSpPr>
        <p:spPr>
          <a:xfrm>
            <a:off x="1800" y="163836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2"/>
          <p:cNvSpPr/>
          <p:nvPr/>
        </p:nvSpPr>
        <p:spPr>
          <a:xfrm>
            <a:off x="2845080" y="162396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73"/>
          <p:cNvSpPr/>
          <p:nvPr/>
        </p:nvSpPr>
        <p:spPr>
          <a:xfrm>
            <a:off x="4358880" y="162864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6"/>
          <p:cNvSpPr/>
          <p:nvPr/>
        </p:nvSpPr>
        <p:spPr>
          <a:xfrm>
            <a:off x="7713360" y="1636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77"/>
          <p:cNvSpPr/>
          <p:nvPr/>
        </p:nvSpPr>
        <p:spPr>
          <a:xfrm>
            <a:off x="324000" y="2708280"/>
            <a:ext cx="2952720" cy="72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Extract data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77"/>
          <p:cNvSpPr/>
          <p:nvPr/>
        </p:nvSpPr>
        <p:spPr>
          <a:xfrm>
            <a:off x="4859280" y="5516640"/>
            <a:ext cx="3673440" cy="72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Draw up the original working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77"/>
          <p:cNvSpPr/>
          <p:nvPr/>
        </p:nvSpPr>
        <p:spPr>
          <a:xfrm>
            <a:off x="3276720" y="3860640"/>
            <a:ext cx="1582560" cy="72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onfirm data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9"/>
          <p:cNvSpPr/>
          <p:nvPr/>
        </p:nvSpPr>
        <p:spPr>
          <a:xfrm>
            <a:off x="321480" y="112392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文鼎CS中等线"/>
              </a:rPr>
              <a:t>Three ph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397440" y="260280"/>
            <a:ext cx="27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 Work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B6C-379C-427C-9765-42B2B2C9BD2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3534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AO team negotiation started in Jan of 20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king draft proposed by CNAO was sent to other project team members on Feb 16.  Comments and suggestions are appreciated before Apr 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541800" y="333360"/>
            <a:ext cx="27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 Work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A69-3C78-42C7-A58B-BDD4840616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632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s on the proposed working draf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 India: several comments, for instance, country ID is needed for staff citizenship, ownership of fixed assets is jointly held or self-constructed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 Poland:  asked for the XML Schema in tex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397440" y="333360"/>
            <a:ext cx="27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 Work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04A-ACFA-432B-89AE-9F0EA5B072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FB81-4066-449D-80C4-ACC860F658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6840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ify output data from two asp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tent of output data</a:t>
            </a:r>
            <a:r>
              <a:rPr b="1" lang="zh-CN" sz="2000" spc="-1" strike="noStrike">
                <a:solidFill>
                  <a:srgbClr val="ff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ccounting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ject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ccounting vou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nancial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ormat of out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put data should be in the form of X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9"/>
          <p:cNvSpPr/>
          <p:nvPr/>
        </p:nvSpPr>
        <p:spPr>
          <a:xfrm>
            <a:off x="612720" y="33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4 Work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034-B0C4-4FE6-8323-18007D3595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E06A-828C-4E60-BCC6-BC0413BFE1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901800" y="1701720"/>
            <a:ext cx="6983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ing draft content mainly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and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f interfac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9"/>
          <p:cNvSpPr/>
          <p:nvPr/>
        </p:nvSpPr>
        <p:spPr>
          <a:xfrm>
            <a:off x="612720" y="33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4 Work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A35-5DE0-4221-A52F-1CC5764460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46C2-11BA-4DEB-8396-A9A4AF5268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4.1 Terms and Defini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6696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otally 7 terms and defin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interfa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lication for data transfer and inform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nsible markup languag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fi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ata exchange o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04D-813B-4753-A22C-7BFBE59A88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8AE5-B53C-45EA-B213-CFECF3F1BE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4.1 Terms and Defini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6561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 ele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ic unit of data exported which employs a group of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structur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ternal structur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ronic accounting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idiary accou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record business                                             from different aspects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C3B-F108-447D-B889-4BA1E3037A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E62E-BC20-4C72-A9C8-267D597586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8920" y="406440"/>
            <a:ext cx="75438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2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Description principles of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ata elem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7775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standard, each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ata element is describ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5 aspect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s follow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dentifier: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ique six-digit number for each data el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he first two digits repres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01 for common fi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——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02 for general led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——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03 for accounting receivable and pay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——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04 for fixed ass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——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05 for staff payro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he third and fourth digits indicate the data table number, and the last two digits are the assigned number of each data el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ame: the name of data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3A5-D537-4804-B013-56DA54F74D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6868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cription: the meaning of data el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pression: describing the type and length of each data el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      for numbers, alphabets and other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 n   for fixed length of n-bit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..n   for variable length of maximum n-bit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..n    for computable form of maximum n-bit inte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w.d  for decimal and fractional computable form; w for the maximum bits of character which includes characters before and after the decimal point; d for the maximum bits of character after the decimal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notation: Other explanation relating to the data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79280" y="406440"/>
            <a:ext cx="7543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2 Description principles of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ata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2AB0-E08D-48FA-A62C-4C2AA24A1C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53D-4BBB-4B7D-9BE4-E7F5890442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BE3C-9CB6-4809-9058-8029DC75A0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590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Project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background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oject roadmap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3. Previous work review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 Working draft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9E6-48F3-45F4-AB2B-54F8CF807F2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137E-93BD-4649-B7E7-457E6CA61D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539640" y="1614240"/>
            <a:ext cx="8064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r: 0108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Name: Identification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 the type name of valid identification for staff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Denotation: C.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Annotation: such as identity card,passport,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dentifier: 0405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ame: Service Condi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cription: indicating the current condition of fix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notation: C..6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notation: such as in use, not in use, and seasonal unavailabl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79280" y="260280"/>
            <a:ext cx="7543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4.3 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  <a:ea typeface="Arial"/>
              </a:rPr>
              <a:t>Examples of data element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D3B-0F3A-4470-BE6C-3EB9EEB74F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58A4-9080-4347-BC26-9F990C0132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4.4 Data element overview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611280" y="1628640"/>
          <a:ext cx="7319880" cy="4264200"/>
        </p:xfrm>
        <a:graphic>
          <a:graphicData uri="http://schemas.openxmlformats.org/drawingml/2006/table">
            <a:tbl>
              <a:tblPr/>
              <a:tblGrid>
                <a:gridCol w="3017880"/>
                <a:gridCol w="2252520"/>
                <a:gridCol w="204948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 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led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able and pay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payr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DFF-5E80-45FD-A248-0F23D96A29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4" descr=""/>
          <p:cNvPicPr/>
          <p:nvPr/>
        </p:nvPicPr>
        <p:blipFill>
          <a:blip r:embed="rId1"/>
          <a:stretch/>
        </p:blipFill>
        <p:spPr>
          <a:xfrm>
            <a:off x="69840" y="880920"/>
            <a:ext cx="9074160" cy="59770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754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5 Part 1. Common files</a:t>
            </a: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——51 data elements, 12 data table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ED4-2701-42F9-B5A7-FF12294802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40464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6 Part 2. General ledger</a:t>
            </a: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——71 data elements, 9 data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52360" y="911160"/>
            <a:ext cx="8209080" cy="568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B79-57F6-4D7E-AAC2-BE9D9A2A55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79280" y="331920"/>
            <a:ext cx="756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7 Part 3. Receivable and Payable</a:t>
            </a: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——21 data elements, 4 data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71600" y="1125360"/>
            <a:ext cx="7415280" cy="51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110-7E42-4483-A32F-256397D7EE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50920" y="331920"/>
            <a:ext cx="756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8 Part 4. Fixed Assets</a:t>
            </a: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——53 data elements, 11 data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9840" y="839880"/>
            <a:ext cx="907416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0EA-F973-47F6-A9FC-C6C9F008DB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52360" y="47628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9 Part 5. Staff Payroll</a:t>
            </a: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——9 data elements, 4 data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921440" cy="49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67F-7439-40F5-8676-8A314CE563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666E-CB40-47A5-A474-0414012C72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539640" y="836640"/>
          <a:ext cx="7202520" cy="5796000"/>
        </p:xfrm>
        <a:graphic>
          <a:graphicData uri="http://schemas.openxmlformats.org/drawingml/2006/table">
            <a:tbl>
              <a:tblPr/>
              <a:tblGrid>
                <a:gridCol w="905040"/>
                <a:gridCol w="1819080"/>
                <a:gridCol w="1876320"/>
                <a:gridCol w="2602080"/>
              </a:tblGrid>
              <a:tr h="343080"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Elemen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06360">
                <a:tc rowSpan="2"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Typ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Typ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rowSpan="2"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 Typ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 Typ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 rowSpan="16"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6"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Receivable 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1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s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cher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ing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…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urity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ation Voucher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ice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 Method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yment 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ation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0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aft 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7904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10 Example-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ata 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structure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of receivabl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FA0-A7EE-4C83-8A76-B2C5F8FE6C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9CD9-079A-4497-B297-69F19E0A7B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84036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Thanks 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03" name="Picture 3" descr="together"/>
          <p:cNvPicPr/>
          <p:nvPr/>
        </p:nvPicPr>
        <p:blipFill>
          <a:blip r:embed="rId1"/>
          <a:stretch/>
        </p:blipFill>
        <p:spPr>
          <a:xfrm>
            <a:off x="2484360" y="3429000"/>
            <a:ext cx="2876760" cy="28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DCE5-6E25-45ED-9D1B-63B4A37608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E8A8-6DB1-46A4-AEAE-4E43F5E564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9"/>
          <p:cNvSpPr/>
          <p:nvPr/>
        </p:nvSpPr>
        <p:spPr>
          <a:xfrm>
            <a:off x="142920" y="18900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oject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99960" y="1546560"/>
            <a:ext cx="75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fac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da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for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ountin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uideline on Data Interface Standard for Enterprise      Account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 to ISO standa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 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SO / IEC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rect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art 1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cedures for the technical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st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A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i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rs: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A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, Indonesia, Kiribat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laysia, Pola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nited Stat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F5D-2E8E-4273-9F35-C746BAC8C5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6030-79AD-4EAF-9E9C-655D04B889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590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oject 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background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Project roadmap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3. Previous work review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4. Working draft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EC2-DD65-4135-BBD6-C6A29EEA94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DADB-8B48-4487-BFFA-B0EBBF28D5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253800" y="476280"/>
            <a:ext cx="32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2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Project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右箭头 62"/>
          <p:cNvSpPr/>
          <p:nvPr/>
        </p:nvSpPr>
        <p:spPr>
          <a:xfrm>
            <a:off x="0" y="1917720"/>
            <a:ext cx="8640720" cy="719280"/>
          </a:xfrm>
          <a:prstGeom prst="rightArrow">
            <a:avLst>
              <a:gd name="adj1" fmla="val 50000"/>
              <a:gd name="adj2" fmla="val 49832"/>
            </a:avLst>
          </a:prstGeom>
          <a:gradFill rotWithShape="0">
            <a:gsLst>
              <a:gs pos="0">
                <a:srgbClr val="cccc00">
                  <a:alpha val="52156"/>
                </a:srgbClr>
              </a:gs>
              <a:gs pos="100000">
                <a:srgbClr val="5e5e00"/>
              </a:gs>
            </a:gsLst>
            <a:lin ang="10800000"/>
          </a:gradFill>
          <a:ln w="2556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63"/>
          <p:cNvSpPr/>
          <p:nvPr/>
        </p:nvSpPr>
        <p:spPr>
          <a:xfrm>
            <a:off x="324000" y="2033640"/>
            <a:ext cx="0" cy="48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64"/>
          <p:cNvSpPr/>
          <p:nvPr/>
        </p:nvSpPr>
        <p:spPr>
          <a:xfrm flipH="1">
            <a:off x="1474920" y="2070000"/>
            <a:ext cx="25200" cy="475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65"/>
          <p:cNvSpPr/>
          <p:nvPr/>
        </p:nvSpPr>
        <p:spPr>
          <a:xfrm>
            <a:off x="2844720" y="2275920"/>
            <a:ext cx="0" cy="46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66"/>
          <p:cNvSpPr/>
          <p:nvPr/>
        </p:nvSpPr>
        <p:spPr>
          <a:xfrm flipH="1">
            <a:off x="4858920" y="2106720"/>
            <a:ext cx="1800" cy="475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67"/>
          <p:cNvSpPr/>
          <p:nvPr/>
        </p:nvSpPr>
        <p:spPr>
          <a:xfrm flipH="1">
            <a:off x="6227640" y="2068560"/>
            <a:ext cx="23760" cy="478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8"/>
          <p:cNvSpPr/>
          <p:nvPr/>
        </p:nvSpPr>
        <p:spPr>
          <a:xfrm>
            <a:off x="7356600" y="1996200"/>
            <a:ext cx="23760" cy="486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69"/>
          <p:cNvSpPr/>
          <p:nvPr/>
        </p:nvSpPr>
        <p:spPr>
          <a:xfrm flipH="1">
            <a:off x="8531280" y="1996920"/>
            <a:ext cx="1440" cy="4789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70"/>
          <p:cNvSpPr/>
          <p:nvPr/>
        </p:nvSpPr>
        <p:spPr>
          <a:xfrm>
            <a:off x="1800" y="163836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71"/>
          <p:cNvSpPr/>
          <p:nvPr/>
        </p:nvSpPr>
        <p:spPr>
          <a:xfrm>
            <a:off x="1117800" y="163656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2"/>
          <p:cNvSpPr/>
          <p:nvPr/>
        </p:nvSpPr>
        <p:spPr>
          <a:xfrm>
            <a:off x="2269800" y="162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73"/>
          <p:cNvSpPr/>
          <p:nvPr/>
        </p:nvSpPr>
        <p:spPr>
          <a:xfrm>
            <a:off x="4358160" y="162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74"/>
          <p:cNvSpPr/>
          <p:nvPr/>
        </p:nvSpPr>
        <p:spPr>
          <a:xfrm>
            <a:off x="5582160" y="163836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75"/>
          <p:cNvSpPr/>
          <p:nvPr/>
        </p:nvSpPr>
        <p:spPr>
          <a:xfrm>
            <a:off x="6663240" y="1638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76"/>
          <p:cNvSpPr/>
          <p:nvPr/>
        </p:nvSpPr>
        <p:spPr>
          <a:xfrm>
            <a:off x="8029800" y="162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77"/>
          <p:cNvSpPr/>
          <p:nvPr/>
        </p:nvSpPr>
        <p:spPr>
          <a:xfrm>
            <a:off x="325440" y="2719440"/>
            <a:ext cx="1152360" cy="566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ct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78"/>
          <p:cNvSpPr/>
          <p:nvPr/>
        </p:nvSpPr>
        <p:spPr>
          <a:xfrm>
            <a:off x="1477800" y="3287880"/>
            <a:ext cx="1366920" cy="566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ct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79"/>
          <p:cNvSpPr/>
          <p:nvPr/>
        </p:nvSpPr>
        <p:spPr>
          <a:xfrm>
            <a:off x="2843280" y="3790800"/>
            <a:ext cx="2017800" cy="6462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f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80"/>
          <p:cNvSpPr/>
          <p:nvPr/>
        </p:nvSpPr>
        <p:spPr>
          <a:xfrm>
            <a:off x="6227640" y="4950000"/>
            <a:ext cx="1154160" cy="647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Enqui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1"/>
          <p:cNvSpPr/>
          <p:nvPr/>
        </p:nvSpPr>
        <p:spPr>
          <a:xfrm>
            <a:off x="7400880" y="5446800"/>
            <a:ext cx="1131840" cy="1079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ppro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80"/>
          <p:cNvSpPr/>
          <p:nvPr/>
        </p:nvSpPr>
        <p:spPr>
          <a:xfrm>
            <a:off x="4788000" y="4438800"/>
            <a:ext cx="1441440" cy="7920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m nego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80B-E333-488A-999D-DE4CFEAC36C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6772-0875-4FA3-BE5D-111207A172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23640" y="49413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66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roject </a:t>
            </a:r>
            <a:r>
              <a:rPr b="1" lang="zh-CN" sz="2400" spc="-1" strike="noStrike">
                <a:solidFill>
                  <a:srgbClr val="330066"/>
                </a:solidFill>
                <a:latin typeface="Arial"/>
              </a:rPr>
              <a:t>background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330066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roject roadmap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3. Previous work review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330066"/>
                </a:solidFill>
                <a:latin typeface="Arial"/>
              </a:rPr>
              <a:t>4. Working draft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5A7-914C-4666-8A2A-FFE3BA272F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82AF-C6FD-4801-AF5F-5059F727AA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69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oject initiation: team building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oject preparation:Questionnaire analysis reported in las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various accounting softw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different database and data structur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9"/>
          <p:cNvSpPr/>
          <p:nvPr/>
        </p:nvSpPr>
        <p:spPr>
          <a:xfrm>
            <a:off x="612720" y="33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3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  <a:ea typeface="文鼎CS中等线"/>
              </a:rPr>
              <a:t> Previous wor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A22-4D64-4B5B-B92B-72129AE5F9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4360" y="166068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data interface standard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void blind development of interfac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elp auditors to collect and analyse data in a timely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9"/>
          <p:cNvSpPr/>
          <p:nvPr/>
        </p:nvSpPr>
        <p:spPr>
          <a:xfrm>
            <a:off x="612720" y="333360"/>
            <a:ext cx="42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Previous wor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733E-B783-4423-9F2B-8B5110E33E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81B3F-6360-4B8A-B613-BC97660248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9640" y="33915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orking d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9"/>
          <p:cNvSpPr/>
          <p:nvPr/>
        </p:nvSpPr>
        <p:spPr>
          <a:xfrm>
            <a:off x="612720" y="333360"/>
            <a:ext cx="42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330066"/>
                </a:solidFill>
                <a:latin typeface="Arial"/>
              </a:rPr>
              <a:t> Previous wor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95C2-B015-49C0-8BF8-CB7C0AF8A7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997440" y="836640"/>
          <a:ext cx="3598920" cy="57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836640"/>
                    <a:ext cx="3598920" cy="57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F2D19-8E0C-4B4A-BBFC-428406B7630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01:08:46Z</dcterms:created>
  <dc:creator>cnaott</dc:creator>
  <dc:description/>
  <dc:language>en-US</dc:language>
  <cp:lastModifiedBy>aaa</cp:lastModifiedBy>
  <cp:lastPrinted>1899-12-30T00:00:00Z</cp:lastPrinted>
  <dcterms:modified xsi:type="dcterms:W3CDTF">2015-06-20T03:28:06Z</dcterms:modified>
  <cp:revision>125</cp:revision>
  <dc:subject/>
  <dc:title>"Data Interface Standard for Accounting Software"  Project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740</vt:lpwstr>
  </property>
</Properties>
</file>