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82A9-33D0-4ECF-9AC3-3EF3E3B2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92D9-7D4A-429E-ADCD-E1880E87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D115-4959-41C3-8DE4-A38FB1A4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0D27-2E3D-4FB9-B24F-0D6239F5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276C-DEAD-416C-9098-B76FEC3D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C016-7D55-46F8-BC45-9FB10C26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75C3-5009-4FA1-9A1C-3C8BD68B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3152-6CF8-4057-A3E2-AEBF260D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CD76-968C-4AF4-840D-A4E80CDC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064D-752F-4089-B417-DD9352BD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C845-E28A-47F9-94C1-F115CEDB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B67D-9AB6-44F6-922F-40022C4B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DE7E-A529-4D5C-8001-9CA28BE2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3B4D-E49B-46E6-81B9-5A0A1AA2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480B-C8E8-4905-9C0D-16CFC138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2B2E-EB20-4985-B722-48A350DD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4CA1-48C5-4FC2-9986-4A0A23ED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3FF14-395E-40D8-A8C3-3255A7FB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3E897-F45E-4E50-BFEE-20D6F616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30870-49C0-4221-8148-BF27E097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A1ABD-A5DC-4D89-8C86-4DED0CB3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6B58D-8C0E-4CAB-BF45-6959F25B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B633-7419-45B9-A1BE-454CB80F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923CB-F719-4141-A934-3BB7E977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3BB49-6E83-4941-BD91-FBDF3174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9C7F8-7D9E-42BC-AF50-56D25D19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590CB-987A-4A3C-B419-CC00E141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AFC74-9808-4112-875D-6532492F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47DA2-8B0D-4A3A-B833-F8ED5163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4930B-2EFE-4415-9E05-203E54BC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9C885-779C-480F-AF3A-E30833E0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BAF78-EE88-4B49-97F3-08A36CD8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731A4-610E-4E6A-A85A-BA5590F5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CCB7-CD0D-4EFC-BE01-7ADDCFCE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DDB36-DB2C-4DF3-B683-F7D2706A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3E07E-C0A3-46B9-B63F-E46D2EE3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E6B5F-77DD-4092-BAAC-9F2C80B8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60641-D8B5-40B8-9BE7-51784585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98483-E2AB-4546-8DDB-6BBA5D89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0310A-5130-4B75-88F4-987704ED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90277-F591-4772-846F-19D0856B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283B9-D8D3-4971-A30F-375ED002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5E59B-6D80-4C1A-8D9A-A2A59B6E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140-0F82-4DF0-BBDA-22025ADD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DB0-3C8A-4F2E-B76D-1EB6734E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801E-3B9F-4475-B7B0-BDBF94A7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2446-081C-4F35-A315-97F00319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0079-F992-432B-B90C-9CF9378E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0FD6-951A-4C78-B2D6-58441CD684EE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0BE9-BA32-4C8C-B832-2DC706623C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4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520" y="32763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48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52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44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4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520" y="44114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89A3-4894-4413-A622-9C8F863E44D8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6E6B-7298-4185-A31B-7FA1458C35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A296-7EC9-4FCD-A34B-253DD513E5C0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CB77-1627-40FA-BF0B-CB7C38D5A4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6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4195-2D4C-4428-BA1F-F10836A1BE1E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ECA5-84E2-4976-BAD8-E70C188EAC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229" name="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9304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770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614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45520" y="32763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9304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77708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6148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4552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629560" y="412740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93040" y="441144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770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614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5520" y="44114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DAB4-2216-4EB2-9C06-768712FE54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6720" y="620640"/>
            <a:ext cx="684072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Data Interface Standard 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for Accounting Software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Project Progress Repor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044720" y="3502080"/>
            <a:ext cx="5689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ationa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di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ff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June,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5BB3-DF30-476D-BB64-BCB5D5D4EC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3BD9-A52E-4CE7-9520-DA6DA8EAC1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23640" y="494136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Project </a:t>
            </a: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background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Project roadmap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3. Previous work review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4. Working draft </a:t>
            </a: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5D4B-0DEF-4BAA-A2DD-DAE2DDAFE0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91B4-8C14-47E9-AF0E-92EA1C9803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右箭头 62"/>
          <p:cNvSpPr/>
          <p:nvPr/>
        </p:nvSpPr>
        <p:spPr>
          <a:xfrm>
            <a:off x="324000" y="1844640"/>
            <a:ext cx="8677080" cy="719280"/>
          </a:xfrm>
          <a:prstGeom prst="rightArrow">
            <a:avLst>
              <a:gd name="adj1" fmla="val 50000"/>
              <a:gd name="adj2" fmla="val 50041"/>
            </a:avLst>
          </a:prstGeom>
          <a:gradFill rotWithShape="0">
            <a:gsLst>
              <a:gs pos="0">
                <a:srgbClr val="cccc00">
                  <a:alpha val="52156"/>
                </a:srgbClr>
              </a:gs>
              <a:gs pos="100000">
                <a:srgbClr val="5e5e00"/>
              </a:gs>
            </a:gsLst>
            <a:lin ang="10800000"/>
          </a:gradFill>
          <a:ln w="25560">
            <a:solidFill>
              <a:srgbClr val="88a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63"/>
          <p:cNvSpPr/>
          <p:nvPr/>
        </p:nvSpPr>
        <p:spPr>
          <a:xfrm>
            <a:off x="324000" y="2033640"/>
            <a:ext cx="0" cy="48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65"/>
          <p:cNvSpPr/>
          <p:nvPr/>
        </p:nvSpPr>
        <p:spPr>
          <a:xfrm>
            <a:off x="3276720" y="217800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66"/>
          <p:cNvSpPr/>
          <p:nvPr/>
        </p:nvSpPr>
        <p:spPr>
          <a:xfrm flipH="1">
            <a:off x="4858920" y="2106720"/>
            <a:ext cx="1800" cy="475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69"/>
          <p:cNvSpPr/>
          <p:nvPr/>
        </p:nvSpPr>
        <p:spPr>
          <a:xfrm flipH="1">
            <a:off x="8531280" y="1996920"/>
            <a:ext cx="1440" cy="4789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70"/>
          <p:cNvSpPr/>
          <p:nvPr/>
        </p:nvSpPr>
        <p:spPr>
          <a:xfrm>
            <a:off x="1800" y="1638360"/>
            <a:ext cx="8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72"/>
          <p:cNvSpPr/>
          <p:nvPr/>
        </p:nvSpPr>
        <p:spPr>
          <a:xfrm>
            <a:off x="2845080" y="1623960"/>
            <a:ext cx="8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73"/>
          <p:cNvSpPr/>
          <p:nvPr/>
        </p:nvSpPr>
        <p:spPr>
          <a:xfrm>
            <a:off x="4358880" y="1628640"/>
            <a:ext cx="8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76"/>
          <p:cNvSpPr/>
          <p:nvPr/>
        </p:nvSpPr>
        <p:spPr>
          <a:xfrm>
            <a:off x="7713360" y="1636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77"/>
          <p:cNvSpPr/>
          <p:nvPr/>
        </p:nvSpPr>
        <p:spPr>
          <a:xfrm>
            <a:off x="324000" y="2708280"/>
            <a:ext cx="2952720" cy="72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Extract data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77"/>
          <p:cNvSpPr/>
          <p:nvPr/>
        </p:nvSpPr>
        <p:spPr>
          <a:xfrm>
            <a:off x="4859280" y="5516640"/>
            <a:ext cx="3673440" cy="72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Draw up the original working 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77"/>
          <p:cNvSpPr/>
          <p:nvPr/>
        </p:nvSpPr>
        <p:spPr>
          <a:xfrm>
            <a:off x="3276720" y="3860640"/>
            <a:ext cx="1582560" cy="72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onfirm data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9"/>
          <p:cNvSpPr/>
          <p:nvPr/>
        </p:nvSpPr>
        <p:spPr>
          <a:xfrm>
            <a:off x="321480" y="1123920"/>
            <a:ext cx="18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文鼎CS中等线"/>
              </a:rPr>
              <a:t>Three ph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397440" y="260280"/>
            <a:ext cx="278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4 Working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153C-A3EF-423A-B1FC-CD7257B02DE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3534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AO team negotiation started in Jan of 20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orking draft proposed by CNAO was sent to other project team members on Feb 16.  Comments and suggestions are appreciated before Apr 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5"/>
          <p:cNvSpPr/>
          <p:nvPr/>
        </p:nvSpPr>
        <p:spPr>
          <a:xfrm>
            <a:off x="541800" y="333360"/>
            <a:ext cx="278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4 Working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CA55-D494-43BA-A4D3-CDECF29050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755640" y="1844640"/>
            <a:ext cx="7632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s on the proposed working draf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 India: several comments, for instance, country ID is needed for staff citizenship, ownership of fixed assets is jointly held or self-constructed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 Poland:  asked for the XML Schema in tex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397440" y="333360"/>
            <a:ext cx="278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4 Working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010C-C937-4FA8-9961-4AC61DC681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6A22-30FE-42C8-A543-2016724F91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68407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Unify output data from two asp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ntent of output data</a:t>
            </a:r>
            <a:r>
              <a:rPr b="1" lang="zh-CN" sz="2000" spc="-1" strike="noStrike">
                <a:solidFill>
                  <a:srgbClr val="ff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ccounting 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ubject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ccounting vou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inancial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ormat of out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put data should be in the form of XM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9"/>
          <p:cNvSpPr/>
          <p:nvPr/>
        </p:nvSpPr>
        <p:spPr>
          <a:xfrm>
            <a:off x="612720" y="33336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  <a:ea typeface="文鼎CS中等线"/>
              </a:rPr>
              <a:t>4 Working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BF8F-E46D-40B2-81D5-AE2FE5430B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6B44-62BA-4B29-AB89-6C6ACE24FB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901800" y="1701720"/>
            <a:ext cx="6983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king draft content mainly inclu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s and 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of interfac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9"/>
          <p:cNvSpPr/>
          <p:nvPr/>
        </p:nvSpPr>
        <p:spPr>
          <a:xfrm>
            <a:off x="612720" y="33336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  <a:ea typeface="文鼎CS中等线"/>
              </a:rPr>
              <a:t>4 Working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0C1-830B-4CE1-B400-FC5128DACF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03CE-AE97-4DD0-91BB-A103F0984B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4.1 Terms and Definition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6696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otally 7 terms and defin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ta interfac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pplication for data transfer and informat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ensible markup languag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ta fi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data exchange o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F6CE-B827-4473-9ED1-041937B2BA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52F8-9154-4A03-BF2E-0C8B9C9E6E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4.1 Terms and Definition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00000" y="1341360"/>
            <a:ext cx="6561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ta  eleme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sic unit of data exported which employs a group of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ta structur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ternal structure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ectronic accounting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sidiary accoun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record business                                             from different aspects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51F-09FD-41E8-97C7-7255FB1B3B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96B8-0CB8-4301-B3D6-23914BB6D7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8920" y="406440"/>
            <a:ext cx="75438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4.2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Description principles of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data elemen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77752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standard, each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ata element is describ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5 aspects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s follow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dentifier: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unique six-digit number for each data el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he first two digits repres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01 for common fi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     ——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02 for general led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     ——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03 for accounting receivable and pay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     ——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04 for fixed asse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     ——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05 for staff payro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he third and fourth digits indicate the data table number, and the last two digits are the assigned number of each data el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ame: the name of data e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38E6-6675-47D9-ADCC-C6BE016267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6868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escription: the meaning of data el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xpression: describing the type and length of each data elemen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      for numbers, alphabets and other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 n   for fixed length of n-bit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..n   for variable length of maximum n-bit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..n    for computable form of maximum n-bit inte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w.d  for decimal and fractional computable form; w for the maximum bits of character which includes characters before and after the decimal point; d for the maximum bits of character after the decimal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notation: Other explanation relating to the data e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179280" y="406440"/>
            <a:ext cx="75438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4.2 Description principles of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data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0210-538B-4631-A606-66F1CE13A6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54FD-B716-4532-80BE-6B5350CE35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EC3F-6644-4CE9-B241-0F7838707A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47640" y="980640"/>
            <a:ext cx="590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Project 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background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Project roadmap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3. Previous work review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4. Working draft</a:t>
            </a: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408B-ED52-4301-97BA-25E19546788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A880-7FBA-45E8-B227-57C2782B31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539640" y="1614240"/>
            <a:ext cx="806472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er: 0108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Name: Identification Ty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: the type name of valid identification for staff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Denotation: C..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Annotation: such as identity card,passport,et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dentifier: 0405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ame: Service Condition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escription: indicating the current condition of fixed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enotation: C..6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notation: such as in use, not in use, and seasonal unavailabl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179280" y="260280"/>
            <a:ext cx="75438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4.3 </a:t>
            </a:r>
            <a:r>
              <a:rPr b="0" lang="en-US" sz="2800" spc="-1" strike="noStrike">
                <a:solidFill>
                  <a:srgbClr val="330066"/>
                </a:solidFill>
                <a:latin typeface="Arial"/>
                <a:ea typeface="Arial"/>
              </a:rPr>
              <a:t>Examples of data element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E5B-3F58-44FC-AA56-97242E1045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灯片编号占位符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1C4E-EF22-4E3C-8159-7AE1126F54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7543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4.4 Data element overview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611280" y="1628640"/>
          <a:ext cx="7319880" cy="4264200"/>
        </p:xfrm>
        <a:graphic>
          <a:graphicData uri="http://schemas.openxmlformats.org/drawingml/2006/table">
            <a:tbl>
              <a:tblPr/>
              <a:tblGrid>
                <a:gridCol w="3017880"/>
                <a:gridCol w="2252520"/>
                <a:gridCol w="204948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 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on 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led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able and pay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 payr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F510-37EA-49C7-937F-EDB2235348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4" descr=""/>
          <p:cNvPicPr/>
          <p:nvPr/>
        </p:nvPicPr>
        <p:blipFill>
          <a:blip r:embed="rId1"/>
          <a:stretch/>
        </p:blipFill>
        <p:spPr>
          <a:xfrm>
            <a:off x="69840" y="880920"/>
            <a:ext cx="9074160" cy="59770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7543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4.5 Part 1. Common files</a:t>
            </a:r>
            <a:br>
              <a:rPr sz="2800"/>
            </a:b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——51 data elements, 12 data table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0A2-7A58-4467-AEBD-12D1CEDCDB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404640"/>
            <a:ext cx="79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4.6 Part 2. General ledger</a:t>
            </a:r>
            <a:br>
              <a:rPr sz="2800"/>
            </a:b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——71 data elements, 9 data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252360" y="911160"/>
            <a:ext cx="8209080" cy="568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5805-898F-49B8-98D9-CBD3401EAA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79280" y="331920"/>
            <a:ext cx="756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4.7 Part 3. Receivable and Payable</a:t>
            </a:r>
            <a:br>
              <a:rPr sz="2800"/>
            </a:b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——21 data elements, 4 data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471600" y="1125360"/>
            <a:ext cx="7415280" cy="511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5BF6-D37C-4C9D-92E6-1B66C3C063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50920" y="331920"/>
            <a:ext cx="756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4.8 Part 4. Fixed Assets</a:t>
            </a:r>
            <a:br>
              <a:rPr sz="2800"/>
            </a:b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——53 data elements, 11 data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69840" y="839880"/>
            <a:ext cx="9074160" cy="60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7AD7-6FAB-4E81-8E0C-A1C2D8D61F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52360" y="476280"/>
            <a:ext cx="756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4.9 Part 5. Staff Payroll</a:t>
            </a:r>
            <a:br>
              <a:rPr sz="2800"/>
            </a:b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——9 data elements, 4 data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7921440" cy="49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FA0-C500-44C4-A9E5-87976ACB5A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619C-B756-4BF2-8F18-F1FE78A2B5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539640" y="836640"/>
          <a:ext cx="7202520" cy="5796000"/>
        </p:xfrm>
        <a:graphic>
          <a:graphicData uri="http://schemas.openxmlformats.org/drawingml/2006/table">
            <a:tbl>
              <a:tblPr/>
              <a:tblGrid>
                <a:gridCol w="905040"/>
                <a:gridCol w="1819080"/>
                <a:gridCol w="1876320"/>
                <a:gridCol w="2602080"/>
              </a:tblGrid>
              <a:tr h="343080"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Element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06360">
                <a:tc rowSpan="2"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 Type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 Typ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rowSpan="2"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action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action Type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action Typ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 rowSpan="16"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6"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ed Receivable T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1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s N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6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cher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3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ing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…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…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3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urity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3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llation Voucher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ll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3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 N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3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oice N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3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N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3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06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lement Method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yment 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3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llation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3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aft N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7904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4.10 Example-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Data </a:t>
            </a: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structure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of receivabl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A922-058C-4990-814A-66619B20558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2B7D-675A-4F99-9EF6-1CD5A83BAC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684036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Thanks 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03" name="Picture 3" descr="together"/>
          <p:cNvPicPr/>
          <p:nvPr/>
        </p:nvPicPr>
        <p:blipFill>
          <a:blip r:embed="rId1"/>
          <a:stretch/>
        </p:blipFill>
        <p:spPr>
          <a:xfrm>
            <a:off x="2484360" y="3429000"/>
            <a:ext cx="2876760" cy="28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E85F-47A0-40BC-9B73-CA13653358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0C88-1D01-439F-B122-01A35DCEE5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9"/>
          <p:cNvSpPr/>
          <p:nvPr/>
        </p:nvSpPr>
        <p:spPr>
          <a:xfrm>
            <a:off x="142920" y="18900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文鼎CS中等线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Project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99960" y="1546560"/>
            <a:ext cx="75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erfac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da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for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ounting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Guideline on Data Interface Standard for Enterprise      Account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 to ISO standa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 develop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u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SO / IEC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irectiv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art 1: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rocedures for the technical 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sta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ea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: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A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i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ers: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A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, Indonesia, Kiribat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laysia, Pola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United State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E66-3771-4993-91D8-9B30AFECF21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3692-5B4E-4620-88BA-850179A078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47640" y="980640"/>
            <a:ext cx="590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Project </a:t>
            </a: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background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Project roadmap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3. Previous work review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4. Working draft</a:t>
            </a: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CFCE-D5FA-4574-99A7-31F066DF819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F2F6-845E-4745-8E29-E906602D58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9"/>
          <p:cNvSpPr/>
          <p:nvPr/>
        </p:nvSpPr>
        <p:spPr>
          <a:xfrm>
            <a:off x="253800" y="476280"/>
            <a:ext cx="32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文鼎CS中等线"/>
              </a:rPr>
              <a:t>2</a:t>
            </a:r>
            <a:r>
              <a:rPr b="1" lang="zh-CN" sz="2800" spc="-1" strike="noStrike">
                <a:solidFill>
                  <a:srgbClr val="330066"/>
                </a:solidFill>
                <a:latin typeface="Arial"/>
                <a:ea typeface="文鼎CS中等线"/>
              </a:rPr>
              <a:t>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文鼎CS中等线"/>
              </a:rPr>
              <a:t>Project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右箭头 62"/>
          <p:cNvSpPr/>
          <p:nvPr/>
        </p:nvSpPr>
        <p:spPr>
          <a:xfrm>
            <a:off x="0" y="1917720"/>
            <a:ext cx="8640720" cy="719280"/>
          </a:xfrm>
          <a:prstGeom prst="rightArrow">
            <a:avLst>
              <a:gd name="adj1" fmla="val 50000"/>
              <a:gd name="adj2" fmla="val 49832"/>
            </a:avLst>
          </a:prstGeom>
          <a:gradFill rotWithShape="0">
            <a:gsLst>
              <a:gs pos="0">
                <a:srgbClr val="cccc00">
                  <a:alpha val="52156"/>
                </a:srgbClr>
              </a:gs>
              <a:gs pos="100000">
                <a:srgbClr val="5e5e00"/>
              </a:gs>
            </a:gsLst>
            <a:lin ang="10800000"/>
          </a:gradFill>
          <a:ln w="25560">
            <a:solidFill>
              <a:srgbClr val="88a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63"/>
          <p:cNvSpPr/>
          <p:nvPr/>
        </p:nvSpPr>
        <p:spPr>
          <a:xfrm>
            <a:off x="324000" y="2033640"/>
            <a:ext cx="0" cy="48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64"/>
          <p:cNvSpPr/>
          <p:nvPr/>
        </p:nvSpPr>
        <p:spPr>
          <a:xfrm flipH="1">
            <a:off x="1474920" y="2070000"/>
            <a:ext cx="25200" cy="475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65"/>
          <p:cNvSpPr/>
          <p:nvPr/>
        </p:nvSpPr>
        <p:spPr>
          <a:xfrm>
            <a:off x="2844720" y="2275920"/>
            <a:ext cx="0" cy="46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66"/>
          <p:cNvSpPr/>
          <p:nvPr/>
        </p:nvSpPr>
        <p:spPr>
          <a:xfrm flipH="1">
            <a:off x="4858920" y="2106720"/>
            <a:ext cx="1800" cy="475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67"/>
          <p:cNvSpPr/>
          <p:nvPr/>
        </p:nvSpPr>
        <p:spPr>
          <a:xfrm flipH="1">
            <a:off x="6227640" y="2068560"/>
            <a:ext cx="23760" cy="478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68"/>
          <p:cNvSpPr/>
          <p:nvPr/>
        </p:nvSpPr>
        <p:spPr>
          <a:xfrm>
            <a:off x="7356600" y="1996200"/>
            <a:ext cx="23760" cy="486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69"/>
          <p:cNvSpPr/>
          <p:nvPr/>
        </p:nvSpPr>
        <p:spPr>
          <a:xfrm flipH="1">
            <a:off x="8531280" y="1996920"/>
            <a:ext cx="1440" cy="4789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70"/>
          <p:cNvSpPr/>
          <p:nvPr/>
        </p:nvSpPr>
        <p:spPr>
          <a:xfrm>
            <a:off x="1800" y="1638360"/>
            <a:ext cx="8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71"/>
          <p:cNvSpPr/>
          <p:nvPr/>
        </p:nvSpPr>
        <p:spPr>
          <a:xfrm>
            <a:off x="1117800" y="1636560"/>
            <a:ext cx="8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72"/>
          <p:cNvSpPr/>
          <p:nvPr/>
        </p:nvSpPr>
        <p:spPr>
          <a:xfrm>
            <a:off x="2269800" y="162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73"/>
          <p:cNvSpPr/>
          <p:nvPr/>
        </p:nvSpPr>
        <p:spPr>
          <a:xfrm>
            <a:off x="4358160" y="162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74"/>
          <p:cNvSpPr/>
          <p:nvPr/>
        </p:nvSpPr>
        <p:spPr>
          <a:xfrm>
            <a:off x="5582160" y="1638360"/>
            <a:ext cx="8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75"/>
          <p:cNvSpPr/>
          <p:nvPr/>
        </p:nvSpPr>
        <p:spPr>
          <a:xfrm>
            <a:off x="6663240" y="1638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76"/>
          <p:cNvSpPr/>
          <p:nvPr/>
        </p:nvSpPr>
        <p:spPr>
          <a:xfrm>
            <a:off x="8029800" y="162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77"/>
          <p:cNvSpPr/>
          <p:nvPr/>
        </p:nvSpPr>
        <p:spPr>
          <a:xfrm>
            <a:off x="325440" y="2719440"/>
            <a:ext cx="1152360" cy="566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ct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78"/>
          <p:cNvSpPr/>
          <p:nvPr/>
        </p:nvSpPr>
        <p:spPr>
          <a:xfrm>
            <a:off x="1477800" y="3287880"/>
            <a:ext cx="1366920" cy="566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ct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79"/>
          <p:cNvSpPr/>
          <p:nvPr/>
        </p:nvSpPr>
        <p:spPr>
          <a:xfrm>
            <a:off x="2843280" y="3790800"/>
            <a:ext cx="2017800" cy="6462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af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80"/>
          <p:cNvSpPr/>
          <p:nvPr/>
        </p:nvSpPr>
        <p:spPr>
          <a:xfrm>
            <a:off x="6227640" y="4950000"/>
            <a:ext cx="1154160" cy="647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Enqui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1"/>
          <p:cNvSpPr/>
          <p:nvPr/>
        </p:nvSpPr>
        <p:spPr>
          <a:xfrm>
            <a:off x="7400880" y="5446800"/>
            <a:ext cx="1131840" cy="1079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pprov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80"/>
          <p:cNvSpPr/>
          <p:nvPr/>
        </p:nvSpPr>
        <p:spPr>
          <a:xfrm>
            <a:off x="4788000" y="4438800"/>
            <a:ext cx="1441440" cy="7920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m nego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8FCB-7A95-4DA7-A36E-4CA825BD365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5975-9EA4-4D9D-B04C-49B9BA0D18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23640" y="494136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66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Project </a:t>
            </a:r>
            <a:r>
              <a:rPr b="1" lang="zh-CN" sz="2400" spc="-1" strike="noStrike">
                <a:solidFill>
                  <a:srgbClr val="330066"/>
                </a:solidFill>
                <a:latin typeface="Arial"/>
              </a:rPr>
              <a:t>background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330066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Project roadmap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3. Previous work review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330066"/>
                </a:solidFill>
                <a:latin typeface="Arial"/>
              </a:rPr>
              <a:t>4. Working draft 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756B-24CC-4D93-B303-4094AE61A31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405B-762D-4F93-A2A3-DE4D309FD6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826560" y="1341000"/>
            <a:ext cx="6985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roject initiation: team building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roject preparation:Questionnaire analysis reported in las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various accounting softwa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different database and data structur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9"/>
          <p:cNvSpPr/>
          <p:nvPr/>
        </p:nvSpPr>
        <p:spPr>
          <a:xfrm>
            <a:off x="612720" y="33336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文鼎CS中等线"/>
              </a:rPr>
              <a:t>3</a:t>
            </a:r>
            <a:r>
              <a:rPr b="1" lang="zh-CN" sz="2800" spc="-1" strike="noStrike">
                <a:solidFill>
                  <a:srgbClr val="330066"/>
                </a:solidFill>
                <a:latin typeface="Arial"/>
                <a:ea typeface="文鼎CS中等线"/>
              </a:rPr>
              <a:t> Previous work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08D1-C3FC-40F7-A1B1-B6FBD2E9B0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4360" y="166068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data interface standard i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void blind development of interfac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elp auditors to collect and analyse data in a timely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9"/>
          <p:cNvSpPr/>
          <p:nvPr/>
        </p:nvSpPr>
        <p:spPr>
          <a:xfrm>
            <a:off x="612720" y="333360"/>
            <a:ext cx="42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 Previous work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1D7C-F8D4-46A9-A89F-F22E2ED367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E9453-5E4B-4B4E-A42A-0479AF0C585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539640" y="339156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orking dra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9"/>
          <p:cNvSpPr/>
          <p:nvPr/>
        </p:nvSpPr>
        <p:spPr>
          <a:xfrm>
            <a:off x="612720" y="333360"/>
            <a:ext cx="42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 Previous work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64C8-6973-43EA-B4E8-8D0531F327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3997440" y="836640"/>
          <a:ext cx="3598920" cy="57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7440" y="836640"/>
                    <a:ext cx="3598920" cy="57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B7AC6-186D-48CC-8F46-4340F21AFA1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5T01:08:46Z</dcterms:created>
  <dc:creator>cnaott</dc:creator>
  <dc:description/>
  <dc:language>en-US</dc:language>
  <cp:lastModifiedBy>aaa</cp:lastModifiedBy>
  <cp:lastPrinted>1899-12-30T00:00:00Z</cp:lastPrinted>
  <dcterms:modified xsi:type="dcterms:W3CDTF">2015-06-20T03:28:06Z</dcterms:modified>
  <cp:revision>125</cp:revision>
  <dc:subject/>
  <dc:title>"Data Interface Standard for Accounting Software"  Project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740</vt:lpwstr>
  </property>
</Properties>
</file>