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CD6E-A7E7-4DFF-B836-3DDD609D9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has developed an IT/IS audit strategy for its IT/IS aud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has an IT support function with at least one (1) IT person for every 30 staff me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is using tools such as electronic working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is using tools such as computer assisted audit techniques (CAA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has integrated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IT/IS audit in performance audit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regularity aud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's annual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IT/IS audit coverage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 in % of the number of national I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Please state the total number of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 IT audits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 completed during 2014 (including general and aplication control revie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Does the government record financial transactions on an integrated financial management system (IFMI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Does the SAI audit IFM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What platform does the government integrated financial management system (IFMIS) run 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IT/IS auditors 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employed by the SAI on a fulltime ba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r>
              <a:rPr b="1" i="1" lang="en-ZA" sz="1200" spc="-1" strike="noStrike">
                <a:solidFill>
                  <a:srgbClr val="000000"/>
                </a:solidFill>
                <a:latin typeface="Calibri"/>
              </a:rPr>
              <a:t>IT support staff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 employed by the SAI on a fulltime ba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SAI has identified the need for the development and implementation of a </a:t>
            </a:r>
            <a:r>
              <a:rPr b="1" lang="en-ZA" sz="1200" spc="-1" strike="noStrike">
                <a:solidFill>
                  <a:srgbClr val="000000"/>
                </a:solidFill>
                <a:latin typeface="Calibri"/>
              </a:rPr>
              <a:t>SAI innovation framework </a:t>
            </a: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based on the use of IT has strategic area, audit innovation and other global develop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1FD-AF1B-4285-BDDD-F403F9976B72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7,712 audit staff, only 221 IT/IS Audi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25E3-0D05-4FFC-80C0-7B181C56A398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2% IT Auditors in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5009-7ADA-41E8-9359-6013A9714EAF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ve IT methodologies in auditing, e.g. geospatial information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5DBA-1966-4C10-B1AB-67F513871444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ve IT methodologies in auditing, e.g. geospatial information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339F-5DE3-4E91-A564-9718CD507E5C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ve IT methodologies in auditing, e.g. geospatial information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E821-55C9-4A62-8AA4-C7E643B51223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Synergies – e.g global program (IDI, India, GAO, Canada, AFROSAI-E memb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7111-CD9F-4097-B88D-1014FD00CB3F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need for collaboration between WGITA and AFROSAI-E on regional level important – </a:t>
            </a:r>
            <a:r>
              <a:rPr b="1" lang="en-ZA" sz="1200" spc="-1" strike="noStrike">
                <a:solidFill>
                  <a:srgbClr val="000000"/>
                </a:solidFill>
                <a:latin typeface="Calibri"/>
              </a:rPr>
              <a:t>SPECIFICALLY SO THAT PROJECTS ARE NOT DUPLICATED, RIGHT PROJECTS BY RIGHT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961F-6D63-4949-871E-7D035C8A7E70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06C2-3E0B-4E45-AC48-F89F198F8F66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Calibri"/>
              </a:rPr>
              <a:t>DOMAI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Independence and legal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Organization and manag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Human Resour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Audit methodology and standa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Communication and stakeholder manag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8DB9-9B88-4A67-A2DE-E1B9E99B0AB7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Calibri"/>
              </a:rPr>
              <a:t>DOMAI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Independence and legal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Organization and manag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Human Resour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Audit methodology and standa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Communication and stakeholder manag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B0B5-017B-4690-957E-FF704C89890A}" type="slidenum">
              <a:rPr b="0" lang="en-US" sz="1200" spc="-1" strike="noStrike">
                <a:solidFill>
                  <a:srgbClr val="0028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66A9-38B9-4BD2-9285-22D0FE23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2277-548F-4E59-98BB-3A29363A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8C8DB-5E25-424A-AF9A-56AE6F98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6CE9-8C24-4849-8388-1EB80960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EDD2-A1A7-4A2D-AAEA-345557AA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95C2-0D45-4AA9-BE13-F4C99359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B832-E3AC-477E-B58E-57A7295F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F73C1-212D-43FB-99D7-7D62DD06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2C2D-5BA2-4692-A1A4-CCA63C9E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5F273-0D56-4982-B2A7-3D549AF4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37363-21BA-4C3C-BC67-8224423A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CA499-D01B-4B76-9402-85CD8E48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DE6B3-2447-48BD-928D-A2B5076A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12F9-FA46-4D64-8DF4-E9BF0607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24BA7-8E7F-496C-83B3-9A636651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AE7E-B65E-4836-95E8-C5DD05AD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9CF0-A24C-4D75-8DBC-77100DA8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8BF8-E6C7-4F6F-B3B6-AD3FADE8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A11B-3683-4CE5-B070-8E30AAF3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31787-EBBC-4642-B06A-B8EF370A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63D8-DEF7-4388-8137-1C60AC57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C46E7-8A82-40F3-BDDA-4BDBF603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21881-1199-459E-A183-002D23EE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56925-E704-46FB-9277-8A68BF0B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9A12A-D378-418C-A775-19F02F59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B0CF2-97FC-480A-B8EC-7F60E25A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DB4CD-114D-4E12-B920-3720A2C6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F1023-F17E-46AD-A011-B0CE566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25B6-4308-4771-837A-E02D88E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14AEA-32CB-4CED-8D61-505FF796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76DC3-22E4-4F50-9D92-2E61FFF2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CD906-D57B-4266-8230-391CDD0C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3821D-1649-45DA-8C83-22B7EC64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15A08-9128-4FEE-9ACC-C31EC5D0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48385-BCBF-408B-8886-6AF53514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E5D62-6CC0-4AB8-9077-28ED8DB7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EE257-C5E7-4472-8D67-8324A181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89744-4F21-4CEB-8D0A-7289B6BF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AC86F-3513-4318-A255-C87C7AEB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2D31-0CBE-4CEE-B53F-06769F1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FAB43-A65F-4D65-A417-B026E341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3C45B-387C-4026-9BED-A978DE79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9C75F-32AB-4B31-A733-9E2810A4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5FB86-B5F6-4F60-BA74-ED979746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1CFC1-0EC7-4D65-BDF4-967E51F3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89763-1ACB-4E7C-BD58-FF10DD14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836EE-6A6C-43F3-8EFF-3B36AADB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85965-AE58-43AE-A6FF-DC4215D7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F193E-62A1-49D3-BF1C-51156886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F40C7-39C9-40AA-9BDD-9050DE38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BAD8F-94DF-4991-B98A-EB3C1ECD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FE381-D64A-4E06-98AF-847667DA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87C65-8C3D-48DE-8D5A-5ECDFFC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60154-6DE5-4825-B7ED-88A9837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E7A17-C0CE-4BF1-AA35-1B3C8B96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124F0-16A4-4E67-A128-99D2A7C7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9311D-F015-469C-9D51-DD21CA25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F43F2-955C-4202-AF40-E9C275C5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21572-486E-4FAC-8A28-A7C31DCD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55D6F-C5DE-4E10-A3AA-0C8B445C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F815D-8DC0-4E5E-A48D-1F2B3FC6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CF09A-474E-4F31-91D5-628CD625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406CD-2129-49BA-A638-FE0E6384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EA77E-0436-4C33-AB30-77EDCCDA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3CCD0-13C2-4B60-9668-4057AD3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D7FAC-67F2-4336-945E-45658948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7F4FF-E5F6-41AE-87B0-163AD97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0520C-EE2C-4BC0-A707-4B770894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2C9BE-E280-4856-8C34-95A65BB4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7E405-50AA-41AD-A340-6B481BA6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79FFE-38F5-48D7-A720-80DA15F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167EB-3661-4524-83E7-890F0352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8EE4C-D8D3-4C4A-8ED8-742373F2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ED707-BB4F-40F6-A359-975C64D1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338D9-E522-4F25-B6CA-CFDC1813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5C9A0-AE90-4017-8A2B-331F7EF7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B5997-0CC9-4BEB-84C3-5C8F5B4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7F601-3A1F-48E0-8A5B-353EDA3C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E61A0-1190-4C20-AF46-192EC367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32154-694B-4077-9369-5F63D825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DC265-71D7-495C-9B29-B15730BA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3A122-EDCD-4AB1-9921-569F31FD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A4FF5-DDDA-444C-AB92-377E65B6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5B5A7-6F5E-46AE-8F13-609B8B5A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C887E-3AC8-40C0-B6AC-4476B884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02C8-AF7D-49BF-9465-B95302AC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0EF4A-4B3B-48ED-865C-BB70DEB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87777-5925-4988-B2AD-2C4A72F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70513-1C60-47C9-BA69-49EA4AFC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DDCFB-FB3F-4383-9E44-386B0A82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C3246-1245-42BD-BB96-25F83453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9BE9D-03AA-4F51-A9A3-4724AF84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87E76-6780-4D0F-BE0B-D1D1F13A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9FDF-71BC-4B16-8216-477C792C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B0C9-BE43-4CEC-8830-ADC52022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9C37-D4CA-44CF-811F-C775F13A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4694-CA61-4EE6-AB2E-E233E9E0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D0B0-47B7-4AF1-A539-5D250D81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E1C8-FDA4-42FB-9FA4-24A0B823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DD1C-D5AD-4106-8B22-57F3CB09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A992-0E59-4C09-B0F7-93169F87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E911-2357-47B7-8577-D331F0E9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24EA-F816-47A4-8512-AAD6D326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6154-2C63-4C03-80B3-CB918FBE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31A3-FCF7-44B0-840E-8AA3DBE0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53AF-1ACB-4D39-A939-0FCD74C9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FC63-4C75-42E4-848B-60F6AC3D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F871D-0DB8-4F2E-A854-6412CED7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7858-DF89-4918-B082-23C6FC78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6511-54E3-4CFD-9E52-45179783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E97B-1924-44C8-80E6-4758487C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0CF73-7D98-400A-AC46-1BE024A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1E57-3F9F-42D9-A171-5383A6DC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2C34C-678E-4594-993D-29B6AB6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E5E1-1DA2-4825-A848-48E2BC40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D1521-BC3E-4569-8608-CB446156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619F-37D5-4337-9220-F51791A1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65E19-5B11-4501-8144-5609F887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8A9D8-DA4D-429D-8E60-09D0568B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715D-50FE-42D7-B60A-62AFFB16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28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5511-CA93-4EAB-AB16-8C35C32BC1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FB81-CC44-430C-9C8A-95075535E0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ED25-8DFB-41D7-83D8-93DEDAEA89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-76320"/>
            <a:ext cx="9144000" cy="30492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513" name="Picture 9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1981080" cy="1093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3"/>
          <a:stretch/>
        </p:blipFill>
        <p:spPr>
          <a:xfrm>
            <a:off x="4464000" y="228600"/>
            <a:ext cx="4645080" cy="2749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41BA-6E95-4848-8C30-BE5B77D12988}" type="slidenum"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597" name="Picture 11" descr=""/>
          <p:cNvPicPr/>
          <p:nvPr/>
        </p:nvPicPr>
        <p:blipFill>
          <a:blip r:embed="rId2"/>
          <a:stretch/>
        </p:blipFill>
        <p:spPr>
          <a:xfrm>
            <a:off x="7924680" y="64944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8681-1508-4EC2-AF7B-BF5200F32279}" type="datetime3"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B023-455D-4C44-882F-23A8B91F7162}" type="slidenum"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641" name="Picture 11" descr=""/>
          <p:cNvPicPr/>
          <p:nvPr/>
        </p:nvPicPr>
        <p:blipFill>
          <a:blip r:embed="rId2"/>
          <a:stretch/>
        </p:blipFill>
        <p:spPr>
          <a:xfrm>
            <a:off x="7924680" y="64944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AB70-5198-435B-8843-916DBBD517C9}" type="datetime3"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CC47-B581-40DE-9363-9CDDE0C2DE47}" type="slidenum"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685" name="Picture 11" descr=""/>
          <p:cNvPicPr/>
          <p:nvPr/>
        </p:nvPicPr>
        <p:blipFill>
          <a:blip r:embed="rId2"/>
          <a:stretch/>
        </p:blipFill>
        <p:spPr>
          <a:xfrm>
            <a:off x="7924680" y="64944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923C-7707-42B5-9F74-153D8DE462E3}" type="datetime3"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31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400" spc="-1" strike="noStrike">
                <a:solidFill>
                  <a:srgbClr val="00285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1F2-82C6-4FAA-82B8-D8EF09143998}" type="slidenum">
              <a:rPr b="0" lang="en-ZA" sz="2400" spc="-1" strike="noStrike">
                <a:solidFill>
                  <a:srgbClr val="00285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1752480" cy="966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4495680" y="219240"/>
            <a:ext cx="4648320" cy="2749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0" y="-76320"/>
            <a:ext cx="914400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-76320"/>
            <a:ext cx="912348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478400" y="304920"/>
            <a:ext cx="4645080" cy="2749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258840"/>
            <a:ext cx="9144000" cy="103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7916760" y="53352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0" y="-76320"/>
            <a:ext cx="914400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258840"/>
            <a:ext cx="9144000" cy="103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040200" y="1879560"/>
            <a:ext cx="38923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-30240" y="60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7916760" y="53352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2"/>
          <p:cNvSpPr/>
          <p:nvPr/>
        </p:nvSpPr>
        <p:spPr>
          <a:xfrm>
            <a:off x="-31680" y="-76320"/>
            <a:ext cx="917568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258840"/>
            <a:ext cx="9144000" cy="103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040200" y="1879560"/>
            <a:ext cx="38923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-30240" y="60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2"/>
          <a:stretch/>
        </p:blipFill>
        <p:spPr>
          <a:xfrm>
            <a:off x="7916760" y="533520"/>
            <a:ext cx="987480" cy="5475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2"/>
          <p:cNvSpPr/>
          <p:nvPr/>
        </p:nvSpPr>
        <p:spPr>
          <a:xfrm>
            <a:off x="0" y="-76320"/>
            <a:ext cx="9144000" cy="381240"/>
          </a:xfrm>
          <a:prstGeom prst="rect">
            <a:avLst/>
          </a:prstGeom>
          <a:solidFill>
            <a:srgbClr val="002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74B2-AB93-400F-AFDF-F87DB2B77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4E74-EE5D-4DF1-A50B-CCC2AC9674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Click to edit the outline text forma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1" marL="547560" indent="-228600">
              <a:spcBef>
                <a:spcPts val="57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con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822240" indent="-228600">
              <a:spcBef>
                <a:spcPts val="575"/>
              </a:spcBef>
              <a:buClr>
                <a:srgbClr val="aacdc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Third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3" marL="1096920" indent="-228600"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our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4" marL="1371600" indent="-228600">
              <a:spcBef>
                <a:spcPts val="575"/>
              </a:spcBef>
              <a:buClr>
                <a:srgbClr val="ffffff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Fif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5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ix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6" marL="1371600" indent="-228600">
              <a:spcBef>
                <a:spcPts val="575"/>
              </a:spcBef>
              <a:buClr>
                <a:srgbClr val="002856"/>
              </a:buClr>
              <a:buFont typeface="Open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856"/>
                </a:solidFill>
                <a:latin typeface="Open Sans"/>
              </a:rPr>
              <a:t>Seventh Outline Level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2516-757F-4F63-AF13-346B1995CB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8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520" y="312876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AFROSAI-E COOPERATION WITH WGITA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30240" y="4417920"/>
            <a:ext cx="2798640" cy="1800360"/>
          </a:xfrm>
          <a:prstGeom prst="rect">
            <a:avLst/>
          </a:prstGeom>
          <a:ln w="0">
            <a:noFill/>
          </a:ln>
        </p:spPr>
      </p:pic>
      <p:sp>
        <p:nvSpPr>
          <p:cNvPr id="736" name="Text Placeholder 16"/>
          <p:cNvSpPr/>
          <p:nvPr/>
        </p:nvSpPr>
        <p:spPr>
          <a:xfrm>
            <a:off x="38088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  <a:ea typeface="Arial"/>
              </a:rPr>
              <a:t>African Organisation of English-speaking Supreme Audit Institutions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ZA" sz="2900" spc="-1" strike="noStrike">
                <a:solidFill>
                  <a:srgbClr val="002856"/>
                </a:solidFill>
                <a:latin typeface="Open Sans"/>
              </a:rPr>
              <a:t>USE OF IT IN AUDIT</a:t>
            </a:r>
            <a:endParaRPr b="0" lang="en-US" sz="29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The areas covered in assessing use of IT in Audit were: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T Audit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T tools used in audit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T strategy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IT IN AUDIT - 2014</a:t>
            </a: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Use of IT in audit lowest scored imperative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Components that decreased are: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59364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ntegration of IT/IS audit in performance 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	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udit 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	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nd regularity audi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59364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nnual IT/IS audit coverage of national IS 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	</a:t>
            </a: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system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Scores of IT tools in audit &amp; IT strategy increased slightly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Number of IT Auditors in the region decreased (average of only 2 % of total audit staff)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3124080"/>
            <a:ext cx="8077320" cy="1214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PROJECTS IN THE REGION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PROJECTS IN REGION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Joint program for IT Audit champion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Increased use of CAATs and data analytic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Including</a:t>
            </a: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 use of MS Excel 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Training of regularity auditors in basic IT Audit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Assistance in IT strategy development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Hands-on audit support to member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Advocating of audit of key IT systems and annual reporting of the reliance on controls in these system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Implementation of electronic working papers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Inadequate number of IT auditors in the region and in specific SAIs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lvl="2" marL="880200" indent="-32220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221 in 2014 compared to 9,391 regularity auditors 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lvl="2" marL="880200" indent="-32220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high growth rate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Lack of established IT Audit section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Lack of clear distinction between IT Audit and IT Support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Low investment in staff and audit tools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Collaboration between IT Audit and Regularity Audit poor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IT not being included in the strategic planning by SAIs, or a lack of monitoring on implementation.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IT infrastructure capacity (structure, equipment and set-up in the SAIs) not adequate or there is a lack of funding to implement IT-tools.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22200" indent="-32220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Lack of technical manpower to maintain systems</a:t>
            </a: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. 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22200" indent="0" algn="just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22200" indent="0" algn="just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856"/>
                </a:solidFill>
                <a:latin typeface="Open Sans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48" name="Picture 4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657600" cy="35863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2"/>
          <a:stretch/>
        </p:blipFill>
        <p:spPr>
          <a:xfrm rot="20427000">
            <a:off x="580680" y="3592080"/>
            <a:ext cx="42418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CORPORATE PLAN 2015 - 2019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2856"/>
                </a:solidFill>
                <a:latin typeface="Open Sans"/>
              </a:rPr>
              <a:t>STRATEGIC IMPERATIVES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Professionalising public sector auditing and accounting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Being a credible voice for beneficial change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Turning leadership from capacity into capability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Driving innovation and creativity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lvl="2" marL="1050840" indent="-457200" algn="just"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Application of modern information technology 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856"/>
                </a:solidFill>
                <a:latin typeface="Open Sans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2856"/>
                </a:solidFill>
                <a:latin typeface="Open Sans"/>
              </a:rPr>
              <a:t>OPERATIONAL INTERVENTION 1: 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2856"/>
                </a:solidFill>
                <a:latin typeface="Open Sans"/>
              </a:rPr>
              <a:t>TECHNICAL CAPACITY BUILDING - REGULARITY AUDITING 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2856"/>
                </a:solidFill>
                <a:latin typeface="Open Sans"/>
              </a:rPr>
              <a:t>IT auditing 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Specific support on the auditing of IT systems and research and training will be done on: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lnSpc>
                <a:spcPct val="80000"/>
              </a:lnSpc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2856"/>
                </a:solidFill>
                <a:latin typeface="Open Sans"/>
              </a:rPr>
              <a:t>Integrated Financial Management Information System (IFMIS)</a:t>
            </a: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lnSpc>
                <a:spcPct val="80000"/>
              </a:lnSpc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2856"/>
                </a:solidFill>
                <a:latin typeface="Open Sans"/>
              </a:rPr>
              <a:t>SAIs to annually report on reliance on key government financial systems. </a:t>
            </a: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lnSpc>
                <a:spcPct val="80000"/>
              </a:lnSpc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2856"/>
                </a:solidFill>
                <a:latin typeface="Open Sans"/>
              </a:rPr>
              <a:t>Making IT audits be part of all regularity audits </a:t>
            </a: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lvl="2" marL="936720" indent="-343080" algn="just">
              <a:lnSpc>
                <a:spcPct val="80000"/>
              </a:lnSpc>
              <a:spcBef>
                <a:spcPts val="374"/>
              </a:spcBef>
              <a:buClr>
                <a:srgbClr val="aacdcb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2856"/>
                </a:solidFill>
                <a:latin typeface="Open Sans"/>
              </a:rPr>
              <a:t>Beneficial synergy between work done by regularity auditors, IT auditors and IT staff will form part of this. </a:t>
            </a: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Specialised training for IT audit champions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Increased training in IT auditing techniques for regularity auditors, amongst other to make better use of CAATs.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856"/>
                </a:solidFill>
                <a:latin typeface="Open Sans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IT Audit remains a focus areas for AFROSAI-E strategic plan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856"/>
                </a:solidFill>
                <a:latin typeface="Open Sans"/>
              </a:rPr>
              <a:t>Continue to demystify IT audit to RA and have programs for them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SAIs audit &amp; </a:t>
            </a: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report on IFMIS operations before financial audits commence 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Encourage interaction within SAIs and set base for collaborative audits in the region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2856"/>
                </a:solidFill>
                <a:latin typeface="Open Sans"/>
              </a:rPr>
              <a:t>Have more technical hands on training and support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Approaches to make better use of  modern IT systems within their organizations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An IT self-assessment tool developed to support needs assessments and development of IT strategies in SAIs. </a:t>
            </a: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	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Assist IT management to be an innovative driving force SAI efficiency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IT Audit is covered in the AFROSAI-E quality assurance reviews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6"/>
                </a:solidFill>
                <a:latin typeface="Open Sans"/>
              </a:rPr>
              <a:t>Share innovative IT methodologies in auditing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520" y="312876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WGITA COOPERATION AND ACTIVITIES 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28240" y="49068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PRESENTATION OUTLINE</a:t>
            </a: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	</a:t>
            </a: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Background of AFROSAI-E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Current status of SAIs in IT Audi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Previous and current project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Challenges and issues in the region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Future plans on IT Audit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WGITA cooperation and activitie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077320" cy="65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3200"/>
            </a:b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WGITA COOPERATION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Where AFROSAI-E fits into the puzzle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Adequate representation of region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Transfer benefit of projects and get region to participate where possible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2856"/>
                </a:solidFill>
                <a:latin typeface="Open Sans"/>
              </a:rPr>
              <a:t>Source of expertise and synergies from other regions on practical aspects of IT Audit </a:t>
            </a:r>
            <a:endParaRPr b="0" lang="en-US" sz="22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859" name="Picture 5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667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077320" cy="65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3200"/>
            </a:b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WGITA COOPERATION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nsider knowledge and early access to information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fford our region chance to influence technical content and standard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Be involved where decisions that could affect our region are being made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Network with stakeholders and colleagues in the field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Latest developments in the field of IT Audi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343080" indent="-343080" algn="just"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2856"/>
                </a:solidFill>
                <a:latin typeface="Open Sans"/>
              </a:rPr>
              <a:t>The need for collaboration between WGITA and AFROSAI-E on regional level very important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520" y="312876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THANK YOU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495440" cy="961920"/>
          </a:xfrm>
          <a:prstGeom prst="rect">
            <a:avLst/>
          </a:prstGeom>
          <a:ln w="0">
            <a:noFill/>
          </a:ln>
        </p:spPr>
      </p:pic>
      <p:pic>
        <p:nvPicPr>
          <p:cNvPr id="864" name="Content Placeholder 3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3130560" cy="159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520" y="312876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002856"/>
                </a:solidFill>
                <a:latin typeface="Open Sans"/>
              </a:rPr>
              <a:t>BACKGROUND</a:t>
            </a:r>
            <a:endParaRPr b="0" lang="en-US" sz="3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pic>
        <p:nvPicPr>
          <p:cNvPr id="741" name="Rectangle 7" descr=""/>
          <p:cNvPicPr/>
          <p:nvPr/>
        </p:nvPicPr>
        <p:blipFill>
          <a:blip r:embed="rId1"/>
          <a:stretch/>
        </p:blipFill>
        <p:spPr>
          <a:xfrm>
            <a:off x="55440" y="1262160"/>
            <a:ext cx="1047960" cy="545616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8"/>
          <p:cNvSpPr/>
          <p:nvPr/>
        </p:nvSpPr>
        <p:spPr>
          <a:xfrm>
            <a:off x="1676520" y="1219320"/>
            <a:ext cx="6248160" cy="609480"/>
          </a:xfrm>
          <a:prstGeom prst="rect">
            <a:avLst/>
          </a:prstGeom>
          <a:solidFill>
            <a:srgbClr val="00a19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2856"/>
                </a:solidFill>
                <a:latin typeface="Open Sans"/>
              </a:rPr>
              <a:t>Governing Board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2856"/>
                </a:solidFill>
                <a:latin typeface="Open Sans"/>
              </a:rPr>
              <a:t>26 Members</a:t>
            </a:r>
            <a:endParaRPr b="0" lang="en-US" sz="2000" spc="-1" strike="noStrike">
              <a:solidFill>
                <a:srgbClr val="002856"/>
              </a:solidFill>
              <a:latin typeface="Open Sans"/>
            </a:endParaRPr>
          </a:p>
        </p:txBody>
      </p:sp>
      <p:grpSp>
        <p:nvGrpSpPr>
          <p:cNvPr id="743" name="Rectangle 9"/>
          <p:cNvGrpSpPr/>
          <p:nvPr/>
        </p:nvGrpSpPr>
        <p:grpSpPr>
          <a:xfrm>
            <a:off x="1627200" y="2494080"/>
            <a:ext cx="3451320" cy="706320"/>
            <a:chOff x="1627200" y="2494080"/>
            <a:chExt cx="3451320" cy="706320"/>
          </a:xfrm>
        </p:grpSpPr>
        <p:pic>
          <p:nvPicPr>
            <p:cNvPr id="744" name="Rectangle 9" descr=""/>
            <p:cNvPicPr/>
            <p:nvPr/>
          </p:nvPicPr>
          <p:blipFill>
            <a:blip r:embed="rId2"/>
            <a:stretch/>
          </p:blipFill>
          <p:spPr>
            <a:xfrm>
              <a:off x="1627200" y="2494080"/>
              <a:ext cx="3451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676520" y="25146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Chief Executive Officer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46" name="Rectangle 10"/>
          <p:cNvGrpSpPr/>
          <p:nvPr/>
        </p:nvGrpSpPr>
        <p:grpSpPr>
          <a:xfrm>
            <a:off x="1627200" y="3103560"/>
            <a:ext cx="3451320" cy="706320"/>
            <a:chOff x="1627200" y="3103560"/>
            <a:chExt cx="3451320" cy="706320"/>
          </a:xfrm>
        </p:grpSpPr>
        <p:pic>
          <p:nvPicPr>
            <p:cNvPr id="747" name="Rectangle 10" descr=""/>
            <p:cNvPicPr/>
            <p:nvPr/>
          </p:nvPicPr>
          <p:blipFill>
            <a:blip r:embed="rId3"/>
            <a:stretch/>
          </p:blipFill>
          <p:spPr>
            <a:xfrm>
              <a:off x="1627200" y="3103560"/>
              <a:ext cx="3451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1676520" y="31240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Executive Officer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49" name="Rectangle 11"/>
          <p:cNvGrpSpPr/>
          <p:nvPr/>
        </p:nvGrpSpPr>
        <p:grpSpPr>
          <a:xfrm>
            <a:off x="1627200" y="3713040"/>
            <a:ext cx="3451320" cy="706680"/>
            <a:chOff x="1627200" y="3713040"/>
            <a:chExt cx="3451320" cy="706680"/>
          </a:xfrm>
        </p:grpSpPr>
        <p:pic>
          <p:nvPicPr>
            <p:cNvPr id="750" name="Rectangle 11" descr=""/>
            <p:cNvPicPr/>
            <p:nvPr/>
          </p:nvPicPr>
          <p:blipFill>
            <a:blip r:embed="rId4"/>
            <a:stretch/>
          </p:blipFill>
          <p:spPr>
            <a:xfrm>
              <a:off x="1627200" y="3713040"/>
              <a:ext cx="34513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1676520" y="373392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Executive Secretariat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52" name="Rectangle 12"/>
          <p:cNvGrpSpPr/>
          <p:nvPr/>
        </p:nvGrpSpPr>
        <p:grpSpPr>
          <a:xfrm>
            <a:off x="5516640" y="1957320"/>
            <a:ext cx="3451320" cy="706680"/>
            <a:chOff x="5516640" y="1957320"/>
            <a:chExt cx="3451320" cy="706680"/>
          </a:xfrm>
        </p:grpSpPr>
        <p:pic>
          <p:nvPicPr>
            <p:cNvPr id="753" name="Rectangle 12" descr=""/>
            <p:cNvPicPr/>
            <p:nvPr/>
          </p:nvPicPr>
          <p:blipFill>
            <a:blip r:embed="rId5"/>
            <a:stretch/>
          </p:blipFill>
          <p:spPr>
            <a:xfrm>
              <a:off x="5516640" y="1957320"/>
              <a:ext cx="34513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5562720" y="19810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Subcommittees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55" name="Rectangle 13"/>
          <p:cNvGrpSpPr/>
          <p:nvPr/>
        </p:nvGrpSpPr>
        <p:grpSpPr>
          <a:xfrm>
            <a:off x="5516640" y="2646360"/>
            <a:ext cx="3451320" cy="706320"/>
            <a:chOff x="5516640" y="2646360"/>
            <a:chExt cx="3451320" cy="706320"/>
          </a:xfrm>
        </p:grpSpPr>
        <p:pic>
          <p:nvPicPr>
            <p:cNvPr id="756" name="Rectangle 13" descr=""/>
            <p:cNvPicPr/>
            <p:nvPr/>
          </p:nvPicPr>
          <p:blipFill>
            <a:blip r:embed="rId6"/>
            <a:stretch/>
          </p:blipFill>
          <p:spPr>
            <a:xfrm>
              <a:off x="5516640" y="2646360"/>
              <a:ext cx="3451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5562720" y="26668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Human Resources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58" name="Rectangle 14"/>
          <p:cNvGrpSpPr/>
          <p:nvPr/>
        </p:nvGrpSpPr>
        <p:grpSpPr>
          <a:xfrm>
            <a:off x="5516640" y="3328920"/>
            <a:ext cx="3451320" cy="706680"/>
            <a:chOff x="5516640" y="3328920"/>
            <a:chExt cx="3451320" cy="706680"/>
          </a:xfrm>
        </p:grpSpPr>
        <p:pic>
          <p:nvPicPr>
            <p:cNvPr id="759" name="Rectangle 14" descr=""/>
            <p:cNvPicPr/>
            <p:nvPr/>
          </p:nvPicPr>
          <p:blipFill>
            <a:blip r:embed="rId7"/>
            <a:stretch/>
          </p:blipFill>
          <p:spPr>
            <a:xfrm>
              <a:off x="5516640" y="3328920"/>
              <a:ext cx="34513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5562720" y="33526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Finance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61" name="Rectangle 15"/>
          <p:cNvGrpSpPr/>
          <p:nvPr/>
        </p:nvGrpSpPr>
        <p:grpSpPr>
          <a:xfrm>
            <a:off x="5516640" y="4700520"/>
            <a:ext cx="3451320" cy="706680"/>
            <a:chOff x="5516640" y="4700520"/>
            <a:chExt cx="3451320" cy="706680"/>
          </a:xfrm>
        </p:grpSpPr>
        <p:pic>
          <p:nvPicPr>
            <p:cNvPr id="762" name="Rectangle 15" descr=""/>
            <p:cNvPicPr/>
            <p:nvPr/>
          </p:nvPicPr>
          <p:blipFill>
            <a:blip r:embed="rId8"/>
            <a:stretch/>
          </p:blipFill>
          <p:spPr>
            <a:xfrm>
              <a:off x="5516640" y="4700520"/>
              <a:ext cx="34513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5562720" y="47242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Capacity building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64" name="Rectangle 16"/>
          <p:cNvGrpSpPr/>
          <p:nvPr/>
        </p:nvGrpSpPr>
        <p:grpSpPr>
          <a:xfrm>
            <a:off x="5516640" y="4017960"/>
            <a:ext cx="3451320" cy="706320"/>
            <a:chOff x="5516640" y="4017960"/>
            <a:chExt cx="3451320" cy="706320"/>
          </a:xfrm>
        </p:grpSpPr>
        <p:pic>
          <p:nvPicPr>
            <p:cNvPr id="765" name="Rectangle 16" descr=""/>
            <p:cNvPicPr/>
            <p:nvPr/>
          </p:nvPicPr>
          <p:blipFill>
            <a:blip r:embed="rId9"/>
            <a:stretch/>
          </p:blipFill>
          <p:spPr>
            <a:xfrm>
              <a:off x="5516640" y="4017960"/>
              <a:ext cx="3451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5562720" y="40384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Audit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cxnSp>
        <p:nvCxnSpPr>
          <p:cNvPr id="767" name="Straight Arrow Connector 17"/>
          <p:cNvCxnSpPr/>
          <p:nvPr/>
        </p:nvCxnSpPr>
        <p:spPr>
          <a:xfrm>
            <a:off x="837720" y="1600200"/>
            <a:ext cx="839160" cy="216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grpSp>
        <p:nvGrpSpPr>
          <p:cNvPr id="768" name="Rectangle 18"/>
          <p:cNvGrpSpPr/>
          <p:nvPr/>
        </p:nvGrpSpPr>
        <p:grpSpPr>
          <a:xfrm>
            <a:off x="901800" y="5473800"/>
            <a:ext cx="1701720" cy="920520"/>
            <a:chOff x="901800" y="5473800"/>
            <a:chExt cx="1701720" cy="920520"/>
          </a:xfrm>
        </p:grpSpPr>
        <p:pic>
          <p:nvPicPr>
            <p:cNvPr id="769" name="Rectangle 18" descr=""/>
            <p:cNvPicPr/>
            <p:nvPr/>
          </p:nvPicPr>
          <p:blipFill>
            <a:blip r:embed="rId10"/>
            <a:stretch/>
          </p:blipFill>
          <p:spPr>
            <a:xfrm>
              <a:off x="901800" y="5473800"/>
              <a:ext cx="17017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990720" y="556272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Planning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Committee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71" name="Rectangle 19"/>
          <p:cNvGrpSpPr/>
          <p:nvPr/>
        </p:nvGrpSpPr>
        <p:grpSpPr>
          <a:xfrm>
            <a:off x="4218120" y="5473800"/>
            <a:ext cx="2616120" cy="920520"/>
            <a:chOff x="4218120" y="5473800"/>
            <a:chExt cx="2616120" cy="920520"/>
          </a:xfrm>
        </p:grpSpPr>
        <p:pic>
          <p:nvPicPr>
            <p:cNvPr id="772" name="Rectangle 19" descr=""/>
            <p:cNvPicPr/>
            <p:nvPr/>
          </p:nvPicPr>
          <p:blipFill>
            <a:blip r:embed="rId11"/>
            <a:stretch/>
          </p:blipFill>
          <p:spPr>
            <a:xfrm>
              <a:off x="4218120" y="5473800"/>
              <a:ext cx="26161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4267080" y="5562720"/>
              <a:ext cx="2514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Subject Matter Experts 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grpSp>
        <p:nvGrpSpPr>
          <p:cNvPr id="774" name="Rectangle 20"/>
          <p:cNvGrpSpPr/>
          <p:nvPr/>
        </p:nvGrpSpPr>
        <p:grpSpPr>
          <a:xfrm>
            <a:off x="2541600" y="5473800"/>
            <a:ext cx="1731960" cy="920520"/>
            <a:chOff x="2541600" y="5473800"/>
            <a:chExt cx="1731960" cy="920520"/>
          </a:xfrm>
        </p:grpSpPr>
        <p:pic>
          <p:nvPicPr>
            <p:cNvPr id="775" name="Rectangle 20" descr=""/>
            <p:cNvPicPr/>
            <p:nvPr/>
          </p:nvPicPr>
          <p:blipFill>
            <a:blip r:embed="rId12"/>
            <a:stretch/>
          </p:blipFill>
          <p:spPr>
            <a:xfrm>
              <a:off x="2541600" y="5473800"/>
              <a:ext cx="17319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2590920" y="556272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Technical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 </a:t>
              </a:r>
              <a:r>
                <a:rPr b="1" lang="en-ZA" sz="2000" spc="-1" strike="noStrike">
                  <a:solidFill>
                    <a:srgbClr val="002856"/>
                  </a:solidFill>
                  <a:latin typeface="Open Sans"/>
                </a:rPr>
                <a:t>Committee</a:t>
              </a:r>
              <a:endParaRPr b="0" lang="en-US" sz="2000" spc="-1" strike="noStrike">
                <a:solidFill>
                  <a:srgbClr val="002856"/>
                </a:solidFill>
                <a:latin typeface="Open Sans"/>
              </a:endParaRPr>
            </a:p>
          </p:txBody>
        </p:sp>
      </p:grpSp>
      <p:cxnSp>
        <p:nvCxnSpPr>
          <p:cNvPr id="777" name="Straight Arrow Connector 21"/>
          <p:cNvCxnSpPr/>
          <p:nvPr/>
        </p:nvCxnSpPr>
        <p:spPr>
          <a:xfrm flipH="1">
            <a:off x="3350520" y="1829880"/>
            <a:ext cx="3960" cy="686520"/>
          </a:xfrm>
          <a:prstGeom prst="straightConnector1">
            <a:avLst/>
          </a:prstGeom>
          <a:ln w="38160">
            <a:solidFill>
              <a:srgbClr val="00a19c"/>
            </a:solidFill>
            <a:miter/>
            <a:headEnd len="med" type="arrow" w="med"/>
            <a:tailEnd len="med" type="arrow" w="med"/>
          </a:ln>
        </p:spPr>
      </p:cxnSp>
      <p:sp>
        <p:nvSpPr>
          <p:cNvPr id="778" name="Straight Connector 22"/>
          <p:cNvSpPr/>
          <p:nvPr/>
        </p:nvSpPr>
        <p:spPr>
          <a:xfrm>
            <a:off x="838080" y="6553080"/>
            <a:ext cx="3996000" cy="1800"/>
          </a:xfrm>
          <a:prstGeom prst="line">
            <a:avLst/>
          </a:prstGeom>
          <a:ln w="38160">
            <a:solidFill>
              <a:srgbClr val="00a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856"/>
              </a:solidFill>
              <a:latin typeface="Open Sans"/>
            </a:endParaRPr>
          </a:p>
        </p:txBody>
      </p:sp>
      <p:cxnSp>
        <p:nvCxnSpPr>
          <p:cNvPr id="779" name="Straight Arrow Connector 23"/>
          <p:cNvCxnSpPr/>
          <p:nvPr/>
        </p:nvCxnSpPr>
        <p:spPr>
          <a:xfrm flipH="1" flipV="1">
            <a:off x="4799880" y="6171480"/>
            <a:ext cx="1080" cy="36108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0" name="Straight Arrow Connector 24"/>
          <p:cNvCxnSpPr/>
          <p:nvPr/>
        </p:nvCxnSpPr>
        <p:spPr>
          <a:xfrm flipH="1" flipV="1">
            <a:off x="1751760" y="6192000"/>
            <a:ext cx="1080" cy="36108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1" name="Straight Arrow Connector 25"/>
          <p:cNvCxnSpPr/>
          <p:nvPr/>
        </p:nvCxnSpPr>
        <p:spPr>
          <a:xfrm flipH="1" flipV="1">
            <a:off x="3428280" y="6171480"/>
            <a:ext cx="1080" cy="36108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2" name="Straight Arrow Connector 26"/>
          <p:cNvCxnSpPr/>
          <p:nvPr/>
        </p:nvCxnSpPr>
        <p:spPr>
          <a:xfrm flipV="1">
            <a:off x="4800600" y="4342680"/>
            <a:ext cx="2160" cy="122004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3" name="Straight Arrow Connector 27"/>
          <p:cNvCxnSpPr/>
          <p:nvPr/>
        </p:nvCxnSpPr>
        <p:spPr>
          <a:xfrm flipV="1">
            <a:off x="3351600" y="4342680"/>
            <a:ext cx="2520" cy="122004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4" name="Straight Arrow Connector 28"/>
          <p:cNvCxnSpPr/>
          <p:nvPr/>
        </p:nvCxnSpPr>
        <p:spPr>
          <a:xfrm flipV="1">
            <a:off x="1980000" y="4342680"/>
            <a:ext cx="2520" cy="1220040"/>
          </a:xfrm>
          <a:prstGeom prst="straightConnector1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5" name="Shape 35"/>
          <p:cNvCxnSpPr>
            <a:endCxn id="742" idx="3"/>
          </p:cNvCxnSpPr>
          <p:nvPr/>
        </p:nvCxnSpPr>
        <p:spPr>
          <a:xfrm flipV="1" rot="16200000">
            <a:off x="7924320" y="1523160"/>
            <a:ext cx="457920" cy="457920"/>
          </a:xfrm>
          <a:prstGeom prst="bentConnector2">
            <a:avLst/>
          </a:prstGeom>
          <a:ln w="38160">
            <a:solidFill>
              <a:srgbClr val="00a19c"/>
            </a:solidFill>
            <a:miter/>
            <a:tailEnd len="med" type="arrow" w="med"/>
          </a:ln>
        </p:spPr>
      </p:cxnSp>
      <p:cxnSp>
        <p:nvCxnSpPr>
          <p:cNvPr id="786" name="Straight Arrow Connector 30"/>
          <p:cNvCxnSpPr/>
          <p:nvPr/>
        </p:nvCxnSpPr>
        <p:spPr>
          <a:xfrm>
            <a:off x="837720" y="3428640"/>
            <a:ext cx="686520" cy="1080"/>
          </a:xfrm>
          <a:prstGeom prst="straightConnector1">
            <a:avLst/>
          </a:prstGeom>
          <a:ln w="38160">
            <a:solidFill>
              <a:srgbClr val="008681"/>
            </a:solidFill>
            <a:miter/>
            <a:tailEnd len="med" type="arrow" w="med"/>
          </a:ln>
        </p:spPr>
      </p:cxnSp>
      <p:cxnSp>
        <p:nvCxnSpPr>
          <p:cNvPr id="787" name="Straight Arrow Connector 31"/>
          <p:cNvCxnSpPr/>
          <p:nvPr/>
        </p:nvCxnSpPr>
        <p:spPr>
          <a:xfrm>
            <a:off x="837720" y="2819160"/>
            <a:ext cx="686520" cy="1080"/>
          </a:xfrm>
          <a:prstGeom prst="straightConnector1">
            <a:avLst/>
          </a:prstGeom>
          <a:ln w="38160">
            <a:solidFill>
              <a:srgbClr val="008681"/>
            </a:solidFill>
            <a:miter/>
            <a:tailEnd len="med" type="arrow" w="med"/>
          </a:ln>
        </p:spPr>
      </p:cxnSp>
      <p:cxnSp>
        <p:nvCxnSpPr>
          <p:cNvPr id="788" name="Straight Arrow Connector 32"/>
          <p:cNvCxnSpPr/>
          <p:nvPr/>
        </p:nvCxnSpPr>
        <p:spPr>
          <a:xfrm>
            <a:off x="837720" y="4038120"/>
            <a:ext cx="686520" cy="1080"/>
          </a:xfrm>
          <a:prstGeom prst="straightConnector1">
            <a:avLst/>
          </a:prstGeom>
          <a:ln w="38160">
            <a:solidFill>
              <a:srgbClr val="008681"/>
            </a:solidFill>
            <a:miter/>
            <a:tailEnd len="med" type="arrow" w="med"/>
          </a:ln>
        </p:spPr>
      </p:cxnSp>
      <p:sp>
        <p:nvSpPr>
          <p:cNvPr id="789" name="TextBox 33"/>
          <p:cNvSpPr/>
          <p:nvPr/>
        </p:nvSpPr>
        <p:spPr>
          <a:xfrm>
            <a:off x="1676520" y="54936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2856"/>
                </a:solidFill>
                <a:latin typeface="Open Sans"/>
              </a:rPr>
              <a:t>Governing structure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3200"/>
            </a:b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STATEMENT OF INTEN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6"/>
              </a:solidFill>
              <a:latin typeface="Open Sans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6"/>
              </a:solidFill>
              <a:latin typeface="Open Sans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2856"/>
                </a:solidFill>
                <a:latin typeface="Open Sans"/>
              </a:rPr>
              <a:t>Making a difference in the performance of SAIs</a:t>
            </a:r>
            <a:endParaRPr b="0" lang="en-US" sz="3000" spc="-1" strike="noStrike">
              <a:solidFill>
                <a:srgbClr val="002856"/>
              </a:solidFill>
              <a:latin typeface="Open Sans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MISSION</a:t>
            </a:r>
            <a:r>
              <a:rPr b="0" lang="en-ZA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FROSAI-E is, through innovation, committed to cooperate with and support its member SAIs to enhance their institutional capacity to successfully fulfil their audit mandates, thereby making a difference to the lives of citizens.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 marL="272880" indent="-272880">
              <a:spcBef>
                <a:spcPts val="575"/>
              </a:spcBef>
              <a:buClr>
                <a:srgbClr val="00a1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  <p:sp>
        <p:nvSpPr>
          <p:cNvPr id="795" name="TextBox 14"/>
          <p:cNvSpPr/>
          <p:nvPr/>
        </p:nvSpPr>
        <p:spPr>
          <a:xfrm>
            <a:off x="1778040" y="50328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2856"/>
                </a:solidFill>
                <a:latin typeface="Open Sans"/>
              </a:rPr>
              <a:t>Our Capacity Building Approach</a:t>
            </a:r>
            <a:endParaRPr b="0" lang="en-US" sz="2800" spc="-1" strike="noStrike">
              <a:solidFill>
                <a:srgbClr val="002856"/>
              </a:solidFill>
              <a:latin typeface="Open Sans"/>
            </a:endParaRPr>
          </a:p>
        </p:txBody>
      </p:sp>
      <p:grpSp>
        <p:nvGrpSpPr>
          <p:cNvPr id="796" name="Group 15"/>
          <p:cNvGrpSpPr/>
          <p:nvPr/>
        </p:nvGrpSpPr>
        <p:grpSpPr>
          <a:xfrm>
            <a:off x="76320" y="1371600"/>
            <a:ext cx="8839080" cy="5084640"/>
            <a:chOff x="76320" y="1371600"/>
            <a:chExt cx="8839080" cy="5084640"/>
          </a:xfrm>
        </p:grpSpPr>
        <p:grpSp>
          <p:nvGrpSpPr>
            <p:cNvPr id="797" name="Group 16"/>
            <p:cNvGrpSpPr/>
            <p:nvPr/>
          </p:nvGrpSpPr>
          <p:grpSpPr>
            <a:xfrm>
              <a:off x="500760" y="1371600"/>
              <a:ext cx="8414640" cy="5084640"/>
              <a:chOff x="500760" y="1371600"/>
              <a:chExt cx="8414640" cy="5084640"/>
            </a:xfrm>
          </p:grpSpPr>
          <p:grpSp>
            <p:nvGrpSpPr>
              <p:cNvPr id="798" name="Group 19"/>
              <p:cNvGrpSpPr/>
              <p:nvPr/>
            </p:nvGrpSpPr>
            <p:grpSpPr>
              <a:xfrm>
                <a:off x="722880" y="1371600"/>
                <a:ext cx="8192520" cy="989280"/>
                <a:chOff x="722880" y="1371600"/>
                <a:chExt cx="8192520" cy="989280"/>
              </a:xfrm>
            </p:grpSpPr>
            <p:sp>
              <p:nvSpPr>
                <p:cNvPr id="799" name="TextBox 31"/>
                <p:cNvSpPr/>
                <p:nvPr/>
              </p:nvSpPr>
              <p:spPr>
                <a:xfrm>
                  <a:off x="722880" y="1413720"/>
                  <a:ext cx="1954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ZA" sz="2800" spc="-1" strike="noStrike">
                      <a:solidFill>
                        <a:srgbClr val="002856"/>
                      </a:solidFill>
                      <a:latin typeface="Open Sans"/>
                    </a:rPr>
                    <a:t>ICBF</a:t>
                  </a:r>
                  <a:endParaRPr b="0" lang="en-US" sz="2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  <p:sp>
              <p:nvSpPr>
                <p:cNvPr id="800" name="TextBox 32"/>
                <p:cNvSpPr/>
                <p:nvPr/>
              </p:nvSpPr>
              <p:spPr>
                <a:xfrm>
                  <a:off x="4831560" y="1896480"/>
                  <a:ext cx="2931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ZA" sz="2400" spc="-1" strike="noStrike">
                      <a:solidFill>
                        <a:srgbClr val="002856"/>
                      </a:solidFill>
                      <a:latin typeface="Open Sans"/>
                    </a:rPr>
                    <a:t>- Quality reviews</a:t>
                  </a:r>
                  <a:endParaRPr b="0" lang="en-US" sz="24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  <p:sp>
              <p:nvSpPr>
                <p:cNvPr id="801" name="TextBox 33"/>
                <p:cNvSpPr/>
                <p:nvPr/>
              </p:nvSpPr>
              <p:spPr>
                <a:xfrm>
                  <a:off x="6660720" y="1371600"/>
                  <a:ext cx="2254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ZA" sz="2800" spc="-1" strike="noStrike">
                      <a:solidFill>
                        <a:srgbClr val="002856"/>
                      </a:solidFill>
                      <a:latin typeface="Open Sans"/>
                    </a:rPr>
                    <a:t>Gap analysis</a:t>
                  </a:r>
                  <a:endParaRPr b="0" lang="en-US" sz="2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  <p:sp>
              <p:nvSpPr>
                <p:cNvPr id="802" name="TextBox 34"/>
                <p:cNvSpPr/>
                <p:nvPr/>
              </p:nvSpPr>
              <p:spPr>
                <a:xfrm>
                  <a:off x="3477960" y="1413720"/>
                  <a:ext cx="24051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ZA" sz="2800" spc="-1" strike="noStrike">
                      <a:solidFill>
                        <a:srgbClr val="002856"/>
                      </a:solidFill>
                      <a:latin typeface="Open Sans"/>
                    </a:rPr>
                    <a:t>Need of SAIs</a:t>
                  </a:r>
                  <a:endParaRPr b="0" lang="en-US" sz="2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  <p:pic>
              <p:nvPicPr>
                <p:cNvPr id="803" name="Right Arrow 3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10120" y="1454760"/>
                  <a:ext cx="111240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Right Arrow 3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43800" y="1431000"/>
                  <a:ext cx="110628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05" name="Group 20"/>
              <p:cNvGrpSpPr/>
              <p:nvPr/>
            </p:nvGrpSpPr>
            <p:grpSpPr>
              <a:xfrm>
                <a:off x="1474560" y="1790640"/>
                <a:ext cx="7065000" cy="1368720"/>
                <a:chOff x="1474560" y="1790640"/>
                <a:chExt cx="7065000" cy="1368720"/>
              </a:xfrm>
            </p:grpSpPr>
            <p:grpSp>
              <p:nvGrpSpPr>
                <p:cNvPr id="806" name="Down Arrow 29"/>
                <p:cNvGrpSpPr/>
                <p:nvPr/>
              </p:nvGrpSpPr>
              <p:grpSpPr>
                <a:xfrm>
                  <a:off x="1474560" y="2792160"/>
                  <a:ext cx="998280" cy="367200"/>
                  <a:chOff x="1474560" y="2792160"/>
                  <a:chExt cx="998280" cy="367200"/>
                </a:xfrm>
              </p:grpSpPr>
              <p:pic>
                <p:nvPicPr>
                  <p:cNvPr id="807" name="Down Arrow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4560" y="2792160"/>
                    <a:ext cx="998280" cy="3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"/>
                  <p:cNvSpPr/>
                  <p:nvPr/>
                </p:nvSpPr>
                <p:spPr>
                  <a:xfrm>
                    <a:off x="1761840" y="2814120"/>
                    <a:ext cx="421920" cy="20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2856"/>
                      </a:solidFill>
                      <a:latin typeface="Open Sans"/>
                    </a:endParaRPr>
                  </a:p>
                </p:txBody>
              </p:sp>
            </p:grpSp>
            <p:grpSp>
              <p:nvGrpSpPr>
                <p:cNvPr id="809" name="Bent-Up Arrow 30"/>
                <p:cNvGrpSpPr/>
                <p:nvPr/>
              </p:nvGrpSpPr>
              <p:grpSpPr>
                <a:xfrm>
                  <a:off x="1726920" y="1790640"/>
                  <a:ext cx="6812640" cy="1090800"/>
                  <a:chOff x="1726920" y="1790640"/>
                  <a:chExt cx="6812640" cy="1090800"/>
                </a:xfrm>
              </p:grpSpPr>
              <p:pic>
                <p:nvPicPr>
                  <p:cNvPr id="810" name="Bent-Up Arrow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6920" y="1790640"/>
                    <a:ext cx="681264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1" name=""/>
                  <p:cNvSpPr/>
                  <p:nvPr/>
                </p:nvSpPr>
                <p:spPr>
                  <a:xfrm>
                    <a:off x="1770840" y="2701800"/>
                    <a:ext cx="64717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2856"/>
                      </a:solidFill>
                      <a:latin typeface="Open Sans"/>
                    </a:endParaRPr>
                  </a:p>
                </p:txBody>
              </p:sp>
            </p:grpSp>
          </p:grpSp>
          <p:pic>
            <p:nvPicPr>
              <p:cNvPr id="812" name="Rounded Rectangl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760" y="2998800"/>
                <a:ext cx="3378960" cy="154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3" name="Rounded Rectangl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520" y="5121000"/>
                <a:ext cx="3360960" cy="133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4" name="Oval 23"/>
              <p:cNvGrpSpPr/>
              <p:nvPr/>
            </p:nvGrpSpPr>
            <p:grpSpPr>
              <a:xfrm>
                <a:off x="4733640" y="3398400"/>
                <a:ext cx="3553560" cy="911880"/>
                <a:chOff x="4733640" y="3398400"/>
                <a:chExt cx="3553560" cy="911880"/>
              </a:xfrm>
            </p:grpSpPr>
            <p:pic>
              <p:nvPicPr>
                <p:cNvPr id="815" name="Oval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733640" y="3398400"/>
                  <a:ext cx="3553560" cy="9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6" name=""/>
                <p:cNvSpPr/>
                <p:nvPr/>
              </p:nvSpPr>
              <p:spPr>
                <a:xfrm>
                  <a:off x="5288040" y="3540600"/>
                  <a:ext cx="2444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ZA" sz="2000" spc="-1" strike="noStrike">
                      <a:solidFill>
                        <a:srgbClr val="002856"/>
                      </a:solidFill>
                      <a:latin typeface="Open Sans"/>
                    </a:rPr>
                    <a:t>Annual Work Plan</a:t>
                  </a:r>
                  <a:endParaRPr b="0" lang="en-US" sz="20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</p:grpSp>
          <p:pic>
            <p:nvPicPr>
              <p:cNvPr id="817" name="Right Arrow 24" descr=""/>
              <p:cNvPicPr/>
              <p:nvPr/>
            </p:nvPicPr>
            <p:blipFill>
              <a:blip r:embed="rId8"/>
              <a:stretch/>
            </p:blipFill>
            <p:spPr>
              <a:xfrm>
                <a:off x="3741480" y="3618720"/>
                <a:ext cx="1106280" cy="50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8" name="Oval 25"/>
              <p:cNvGrpSpPr/>
              <p:nvPr/>
            </p:nvGrpSpPr>
            <p:grpSpPr>
              <a:xfrm>
                <a:off x="4733640" y="5293800"/>
                <a:ext cx="3553560" cy="918000"/>
                <a:chOff x="4733640" y="5293800"/>
                <a:chExt cx="3553560" cy="918000"/>
              </a:xfrm>
            </p:grpSpPr>
            <p:pic>
              <p:nvPicPr>
                <p:cNvPr id="819" name="Oval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733640" y="5293800"/>
                  <a:ext cx="355356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0" name=""/>
                <p:cNvSpPr/>
                <p:nvPr/>
              </p:nvSpPr>
              <p:spPr>
                <a:xfrm>
                  <a:off x="5288040" y="5440320"/>
                  <a:ext cx="2444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ZA" sz="2000" spc="-1" strike="noStrike">
                      <a:solidFill>
                        <a:srgbClr val="002856"/>
                      </a:solidFill>
                      <a:latin typeface="Open Sans"/>
                    </a:rPr>
                    <a:t>Value and Benefit</a:t>
                  </a:r>
                  <a:endParaRPr b="0" lang="en-US" sz="20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</p:grpSp>
          <p:pic>
            <p:nvPicPr>
              <p:cNvPr id="821" name="Right Arrow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41480" y="5514480"/>
                <a:ext cx="1106280" cy="512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2" name="Down Arrow 27"/>
              <p:cNvGrpSpPr/>
              <p:nvPr/>
            </p:nvGrpSpPr>
            <p:grpSpPr>
              <a:xfrm>
                <a:off x="1035720" y="4829040"/>
                <a:ext cx="805680" cy="393120"/>
                <a:chOff x="1035720" y="4829040"/>
                <a:chExt cx="805680" cy="393120"/>
              </a:xfrm>
            </p:grpSpPr>
            <p:pic>
              <p:nvPicPr>
                <p:cNvPr id="823" name="Down Arrow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035720" y="4829040"/>
                  <a:ext cx="805680" cy="39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4" name=""/>
                <p:cNvSpPr/>
                <p:nvPr/>
              </p:nvSpPr>
              <p:spPr>
                <a:xfrm>
                  <a:off x="1267920" y="4853520"/>
                  <a:ext cx="338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</p:grpSp>
          <p:grpSp>
            <p:nvGrpSpPr>
              <p:cNvPr id="825" name="Bent-Up Arrow 28"/>
              <p:cNvGrpSpPr/>
              <p:nvPr/>
            </p:nvGrpSpPr>
            <p:grpSpPr>
              <a:xfrm>
                <a:off x="1204200" y="4214880"/>
                <a:ext cx="5549760" cy="709200"/>
                <a:chOff x="1204200" y="4214880"/>
                <a:chExt cx="5549760" cy="709200"/>
              </a:xfrm>
            </p:grpSpPr>
            <p:pic>
              <p:nvPicPr>
                <p:cNvPr id="826" name="Bent-Up Arrow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204200" y="4214880"/>
                  <a:ext cx="554976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7" name=""/>
                <p:cNvSpPr/>
                <p:nvPr/>
              </p:nvSpPr>
              <p:spPr>
                <a:xfrm>
                  <a:off x="1249200" y="4784040"/>
                  <a:ext cx="528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2856"/>
                    </a:solidFill>
                    <a:latin typeface="Open Sans"/>
                  </a:endParaRPr>
                </a:p>
              </p:txBody>
            </p:sp>
          </p:grpSp>
        </p:grpSp>
        <p:grpSp>
          <p:nvGrpSpPr>
            <p:cNvPr id="828" name="Bent-Up Arrow 17"/>
            <p:cNvGrpSpPr/>
            <p:nvPr/>
          </p:nvGrpSpPr>
          <p:grpSpPr>
            <a:xfrm>
              <a:off x="76320" y="1731240"/>
              <a:ext cx="551880" cy="4401360"/>
              <a:chOff x="76320" y="1731240"/>
              <a:chExt cx="551880" cy="4401360"/>
            </a:xfrm>
          </p:grpSpPr>
          <p:pic>
            <p:nvPicPr>
              <p:cNvPr id="829" name="Bent-Up Arrow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76320" y="1731240"/>
                <a:ext cx="551880" cy="440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0" name=""/>
              <p:cNvSpPr/>
              <p:nvPr/>
            </p:nvSpPr>
            <p:spPr>
              <a:xfrm rot="5400000">
                <a:off x="-1901880" y="3780360"/>
                <a:ext cx="422820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856"/>
                  </a:solidFill>
                  <a:latin typeface="Open Sans"/>
                </a:endParaRPr>
              </a:p>
            </p:txBody>
          </p:sp>
        </p:grpSp>
        <p:grpSp>
          <p:nvGrpSpPr>
            <p:cNvPr id="831" name="Right Arrow 18"/>
            <p:cNvGrpSpPr/>
            <p:nvPr/>
          </p:nvGrpSpPr>
          <p:grpSpPr>
            <a:xfrm>
              <a:off x="94320" y="1493280"/>
              <a:ext cx="1212840" cy="481320"/>
              <a:chOff x="94320" y="1493280"/>
              <a:chExt cx="1212840" cy="481320"/>
            </a:xfrm>
          </p:grpSpPr>
          <p:pic>
            <p:nvPicPr>
              <p:cNvPr id="832" name="Right Arrow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94320" y="1493280"/>
                <a:ext cx="121284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>
                <a:off x="141840" y="1616400"/>
                <a:ext cx="1024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856"/>
                  </a:solidFill>
                  <a:latin typeface="Open San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ICBF DOMAIN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Domains in ICBF are: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Independence and legal framework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Organization and management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Human Resources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udit methodology and standards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Communication and stakeholder management 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07732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2856"/>
                </a:solidFill>
                <a:latin typeface="Open Sans"/>
              </a:rPr>
              <a:t>STRATEGIC IMPERATIVES FROM 2009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2856"/>
                </a:solidFill>
                <a:latin typeface="Open Sans"/>
              </a:rPr>
              <a:t>Strategic imperatives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Independence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Human resources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Communication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Quality Assurance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Performance audit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2856"/>
                </a:solidFill>
                <a:latin typeface="Open Sans"/>
              </a:rPr>
              <a:t>Use of IT in Audit</a:t>
            </a:r>
            <a:endParaRPr b="0" lang="en-US" sz="2400" spc="-1" strike="noStrike">
              <a:solidFill>
                <a:srgbClr val="002856"/>
              </a:solidFill>
              <a:latin typeface="Open Sans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Which one do you think has been the lowest scored imperative in all the years?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  <a:p>
            <a:pPr>
              <a:spcBef>
                <a:spcPts val="575"/>
              </a:spcBef>
              <a:buClr>
                <a:srgbClr val="00a19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2856"/>
                </a:solidFill>
                <a:latin typeface="Open Sans"/>
              </a:rPr>
              <a:t>Also has been below target set for achievement</a:t>
            </a:r>
            <a:endParaRPr b="0" lang="en-US" sz="2600" spc="-1" strike="noStrike">
              <a:solidFill>
                <a:srgbClr val="002856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1:31:48Z</dcterms:created>
  <dc:creator>marlisef</dc:creator>
  <dc:description/>
  <dc:language>en-US</dc:language>
  <cp:lastModifiedBy>user</cp:lastModifiedBy>
  <cp:lastPrinted>2015-06-08T10:32:05Z</cp:lastPrinted>
  <dcterms:modified xsi:type="dcterms:W3CDTF">2015-06-08T10:32:40Z</dcterms:modified>
  <cp:revision>512</cp:revision>
  <dc:subject/>
  <dc:title>Slide 1</dc:title>
</cp:coreProperties>
</file>