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ftr" idx="3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AC83-B5FD-4C70-A202-DE0D144D3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SAI has developed an IT/IS audit strategy for its IT/IS aud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SAI has an IT support function with at least one (1) IT person for every 30 staff me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SAI is using tools such as electronic working 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SAI is using tools such as computer assisted audit techniques (CAA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SAI has integrated </a:t>
            </a:r>
            <a:r>
              <a:rPr b="1" i="1" lang="en-ZA" sz="1200" spc="-1" strike="noStrike">
                <a:solidFill>
                  <a:srgbClr val="000000"/>
                </a:solidFill>
                <a:latin typeface="Calibri"/>
              </a:rPr>
              <a:t>IT/IS audit in performance audit</a:t>
            </a: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ZA" sz="1200" spc="-1" strike="noStrike">
                <a:solidFill>
                  <a:srgbClr val="000000"/>
                </a:solidFill>
                <a:latin typeface="Calibri"/>
              </a:rPr>
              <a:t>regularity aud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SAI's annual </a:t>
            </a:r>
            <a:r>
              <a:rPr b="1" i="1" lang="en-ZA" sz="1200" spc="-1" strike="noStrike">
                <a:solidFill>
                  <a:srgbClr val="000000"/>
                </a:solidFill>
                <a:latin typeface="Calibri"/>
              </a:rPr>
              <a:t>IT/IS audit coverage</a:t>
            </a: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 in % of the number of national I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Please state the total number of</a:t>
            </a:r>
            <a:r>
              <a:rPr b="1" i="1" lang="en-ZA" sz="1200" spc="-1" strike="noStrike">
                <a:solidFill>
                  <a:srgbClr val="000000"/>
                </a:solidFill>
                <a:latin typeface="Calibri"/>
              </a:rPr>
              <a:t> IT audits</a:t>
            </a: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 completed during 2014 (including general and aplication control review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Does the government record financial transactions on an integrated financial management system (IFMIS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Does the SAI audit IFM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What platform does the government integrated financial management system (IFMIS) run 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r>
              <a:rPr b="1" i="1" lang="en-ZA" sz="1200" spc="-1" strike="noStrike">
                <a:solidFill>
                  <a:srgbClr val="000000"/>
                </a:solidFill>
                <a:latin typeface="Calibri"/>
              </a:rPr>
              <a:t>IT/IS auditors </a:t>
            </a: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employed by the SAI on a fulltime ba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r>
              <a:rPr b="1" i="1" lang="en-ZA" sz="1200" spc="-1" strike="noStrike">
                <a:solidFill>
                  <a:srgbClr val="000000"/>
                </a:solidFill>
                <a:latin typeface="Calibri"/>
              </a:rPr>
              <a:t>IT support staff</a:t>
            </a: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 employed by the SAI on a fulltime ba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SAI has identified the need for the development and implementation of a </a:t>
            </a:r>
            <a:r>
              <a:rPr b="1" lang="en-ZA" sz="1200" spc="-1" strike="noStrike">
                <a:solidFill>
                  <a:srgbClr val="000000"/>
                </a:solidFill>
                <a:latin typeface="Calibri"/>
              </a:rPr>
              <a:t>SAI innovation framework </a:t>
            </a: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based on the use of IT has strategic area, audit innovation and other global develop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651E-F69D-48ED-957D-3CE410127D87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7,712 audit staff, only 221 IT/IS Audi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31F4-901A-44F5-A7BD-F92A98C937CF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2% IT Auditors in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D311-3C03-4B52-8664-5545C45CDE7E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ovative IT methodologies in auditing, e.g. geospatial information syst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60F4-72DC-432D-87CB-D46595FF28F9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ovative IT methodologies in auditing, e.g. geospatial information syst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6152-0E51-45B0-8B5F-3BB16DE637B5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ovative IT methodologies in auditing, e.g. geospatial information syst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8E7C-B75C-4FCB-A2CC-EF13AF991F1E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Synergies – e.g global program (IDI, India, GAO, Canada, AFROSAI-E memb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E7AA-26C5-4155-8C72-1E7341C49B8E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need for collaboration between WGITA and AFROSAI-E on regional level important – </a:t>
            </a:r>
            <a:r>
              <a:rPr b="1" lang="en-ZA" sz="1200" spc="-1" strike="noStrike">
                <a:solidFill>
                  <a:srgbClr val="000000"/>
                </a:solidFill>
                <a:latin typeface="Calibri"/>
              </a:rPr>
              <a:t>SPECIFICALLY SO THAT PROJECTS ARE NOT DUPLICATED, RIGHT PROJECTS BY RIGHT PARTICIP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1A40-1912-491A-8E9A-0C7595E27FFD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B2CC-3B01-4FD3-B0C9-22FFF8FE7EF1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Calibri"/>
              </a:rPr>
              <a:t>DOMAIN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Independence and legal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Organization and manag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Human Resour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Audit methodology and standa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Communication and stakeholder manag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351C-159F-4814-8246-63B3B95031EE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Calibri"/>
              </a:rPr>
              <a:t>DOMAIN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Independence and legal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Organization and manag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Human Resour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Audit methodology and standa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Communication and stakeholder manag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B081-37B9-456F-9BB6-90DA2F011BE7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A71F2-F718-427A-9B82-D9D5DC3B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FD440-EF2B-4DF3-BFD5-5C038871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F83FB-68A9-423A-AD37-E9AEEDB2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DC8F5-C3D8-43FF-8AAD-622664A3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68CFD-D05A-46EE-BF1E-B2D05777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76165-94AD-4D61-91A0-D7464F53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127C0-885B-4689-A2F4-F104F48E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BBA9-11FD-4677-A7B6-42B613B7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D5A5E-9E0B-4BA6-BBD7-50F82D70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7676F-83ED-42A7-AE44-DD6E5573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48CA6-68FC-4655-A9DE-9A91C705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733D0-7C29-4629-B165-05F6B6BF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5F415-E86D-45B5-B083-85D54E40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53A89-347F-44A0-8F41-2F655D0F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34C0A-0730-4D24-895C-D6392339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B3AA3-286C-4845-9BE3-754753CF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210A9-37A5-4BA0-9D09-CF2A33CD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78F25-8A55-451F-A16E-1FB6FED2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D9DCE-DBBD-4702-A49E-A0C977BD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1C1B4-E891-47F4-84E9-E566C4C9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BFF15-D860-4304-BD8F-5B0EFD9D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ED4EE-E95A-4293-B8F7-79F32EFF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931D2-B9D2-41B6-97BF-C7661497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97391-85C2-4AE0-A07E-2F268DC0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60548-3B6B-477D-BEC7-5A7D29E6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58C5B-3AD6-4FA0-AFB4-DB24B141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E3A79-F716-4862-8890-82B20D8C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03D0A-CF6F-4A00-B798-2C76E2BE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C57AE-E052-423F-A29D-596E7BFE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CCD8B-6A38-4191-8605-6B8D80FE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91104-73DD-4F22-B309-7EA1F240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378A5-20F6-4161-995B-1F55FCAB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58E29-C73B-4E4A-AE66-D5907077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3CBC0-251E-41C3-8BA9-27B0383F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23706-B7D1-4891-97CF-9C0AD6E9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E8B0A-20EC-40A4-980D-789C9D3E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9922E-872E-48C8-9C94-FA9EA8B6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1765F-4067-4590-8F28-7C2075BC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DBEF7-DBCF-49A1-9056-BD4B5ECE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5E420-FA0F-422D-85E5-8CCFCCFC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A0376-AB49-4B4E-8727-F860E269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D4ADA-1359-4D2C-899B-57BA9D08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C62E7-9370-4418-A89E-698CF9B1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09CA3-1667-4A96-9145-3023AB85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95DD5-CAAF-4098-B8ED-35DF123E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96B7C-204A-4817-A9DB-541E6190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8670E-D112-407C-BC79-D9756842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E8DD1-EB4B-481A-ABE2-B9E84481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DB215-9B56-40CA-9A29-D87E2CFD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14E9C-2517-472F-84CF-98525403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09E91-5A5B-4857-93F1-1DEEBE55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14365-6C6A-41B6-96A5-858DE106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AE304-D6BD-4891-B41D-1009B7FB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4558A-8302-4EDB-9E8F-40B7E600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0C460-DFDA-4CBB-AAC9-230C8E65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75020-7A3D-427C-80A3-7D5DA849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7F29D-4EC0-4F4B-A514-4D05F489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1089E-9AF1-4C77-87EE-805FECEE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C514E-61CE-490C-B5D8-86DB09B6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F5517-AE48-488F-A8D5-BEAFC861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88377-DE45-42D8-90E5-48B9D963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10223-D14C-435C-9180-462E3748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7C520-7BB4-44F4-ACD1-4B6A9B4B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EAB9D-7A1D-4F2F-8F01-C14BD3EF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46D79-EEA3-4974-A468-E64633E8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9F12F-377F-4438-9038-C97631C4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863A2-1C54-4ADF-B299-4BF22BA6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46351-FD34-49C3-90F4-C1D64B20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837ED-5513-4E4B-B6C3-69E9435D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CB4C5-689E-40B1-BD05-A016EFEA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21940-B3B9-49F0-8E75-3B807FAC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EED77-6C17-4AEA-817B-A0BCAE7D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8E2B6-1D49-4169-B9BB-5A9B357D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4B428-F571-4188-B64E-758B8806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DE9FA-6B87-4E10-9992-EAB8B4B8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99E33-334F-45F4-BD53-CA2C9E54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5048D-8FD0-4CB9-9E38-9ACBAA90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9E442-2442-45F0-A4BE-EF3FABA3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7AF5C-5511-4FEF-A915-0ED1DB63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1BD38-71BE-4401-90A8-ABDD8A3E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5EB38-F0CE-4135-8491-82AF5F19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CEBCA-C061-4B74-ABBB-8B0F7E6F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AFDBE-C065-47C1-AA44-6F27A1CE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A0CBC-EE64-419D-91E6-6BAF296F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ECC77-10A1-4EEE-A17B-3632103F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903B1-330E-4A3D-BA34-1145F643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5CD8D-7282-41B7-8435-B4D4AA1F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B64FB-7981-43EB-9547-2B2BA447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47FE1-58D3-41B2-B64D-F9FE9EBA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33796-C345-4818-A5C2-F7E7691E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046B7-CD5E-443F-8BE1-52E9DD30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97A02-CC01-4033-9B99-90B367B1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6FBD5-2A21-48E3-84F4-30BFC59C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6856-5392-4D13-B90D-33019C15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E0D3-87A2-4847-9EC3-55E1E76E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8FE6-57EE-4DF8-92BE-560E0D1C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0C3B-E7F3-46AF-A85C-693707BC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9EB4-6299-4363-BE93-B1B1D3C9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208C-F233-4DF1-839F-AAD80BDE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2735-0FCA-428B-B3BC-37DAFA4F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FE7A-75D7-4924-A221-E364B12B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7C45-4BA8-43C7-8735-FFFC5813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9812-96FA-48A3-A046-9A9DEAE2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2511-734D-411E-824F-3E63DECF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7740-84F2-4E81-9602-B3E47870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32EBE-40FD-4C54-A123-B32A7F3F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CD2D9-B78B-48C3-9B4E-0A8321A1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75888-0F06-4939-B0B1-908D9BF0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F20FE-6B73-4F72-BCA4-E4873A6F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7654D-AA73-4A76-A2FC-15E22B72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92704-2837-457C-836E-0A52BD95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258BC-5CE7-4D3F-9DD4-89B34090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15B06-0FF2-4A48-B00A-0C27C18D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3B880-2274-4F76-A203-33BDA110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3CDD-A146-4FE0-B2D2-ABAC46B8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990BF-C8B0-47C8-8DF9-3A69D321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5EE4-0AA9-4779-B27B-2691F2A2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02900-ED4E-455A-A72C-53A22472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C5B2E-35F8-415C-9C2E-D0C0FE1D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DF1F3-83D2-4C1C-A413-4EEE2144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8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28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F1B2-3305-4DC5-87A7-D2828BFDDD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73B4-F87F-4D5A-B3CE-44EC8CDCE9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0077-BC6D-4B64-BF8D-396B334E7D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0" y="-76320"/>
            <a:ext cx="9144000" cy="30492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513" name="Picture 9" descr=""/>
          <p:cNvPicPr/>
          <p:nvPr/>
        </p:nvPicPr>
        <p:blipFill>
          <a:blip r:embed="rId2"/>
          <a:stretch/>
        </p:blipFill>
        <p:spPr>
          <a:xfrm>
            <a:off x="457200" y="4876920"/>
            <a:ext cx="1981080" cy="1093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3"/>
          <a:stretch/>
        </p:blipFill>
        <p:spPr>
          <a:xfrm>
            <a:off x="4464000" y="228600"/>
            <a:ext cx="4645080" cy="27496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4178-36D9-42E0-849D-3326A5822470}" type="slidenum"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597" name="Picture 11" descr=""/>
          <p:cNvPicPr/>
          <p:nvPr/>
        </p:nvPicPr>
        <p:blipFill>
          <a:blip r:embed="rId2"/>
          <a:stretch/>
        </p:blipFill>
        <p:spPr>
          <a:xfrm>
            <a:off x="7924680" y="649440"/>
            <a:ext cx="987480" cy="54756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A6DA-9BA9-4B34-BFC2-E49E8F427616}" type="datetime3">
              <a:rPr b="0" lang="en-ZA" sz="14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C11D-B251-4F12-B310-F084B0470094}" type="slidenum"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641" name="Picture 11" descr=""/>
          <p:cNvPicPr/>
          <p:nvPr/>
        </p:nvPicPr>
        <p:blipFill>
          <a:blip r:embed="rId2"/>
          <a:stretch/>
        </p:blipFill>
        <p:spPr>
          <a:xfrm>
            <a:off x="7924680" y="649440"/>
            <a:ext cx="987480" cy="54756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B9EC-74ED-472B-BE4D-5353C62305DC}" type="datetime3">
              <a:rPr b="0" lang="en-ZA" sz="14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9CC0-7273-4016-B7D5-A4C260A6C7D0}" type="slidenum"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685" name="Picture 11" descr=""/>
          <p:cNvPicPr/>
          <p:nvPr/>
        </p:nvPicPr>
        <p:blipFill>
          <a:blip r:embed="rId2"/>
          <a:stretch/>
        </p:blipFill>
        <p:spPr>
          <a:xfrm>
            <a:off x="7924680" y="649440"/>
            <a:ext cx="987480" cy="54756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C23D-1640-4646-B7D2-7F9C6A7993B0}" type="datetime3">
              <a:rPr b="0" lang="en-ZA" sz="14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2400" spc="-1" strike="noStrike">
                <a:solidFill>
                  <a:srgbClr val="00285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7F13-CFB4-40D1-B152-4495DC204E40}" type="slidenum">
              <a:rPr b="0" lang="en-ZA" sz="2400" spc="-1" strike="noStrike">
                <a:solidFill>
                  <a:srgbClr val="00285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1752480" cy="966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4495680" y="219240"/>
            <a:ext cx="4648320" cy="2749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0" y="-76320"/>
            <a:ext cx="9144000" cy="38124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-76320"/>
            <a:ext cx="9123480" cy="38124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478400" y="304920"/>
            <a:ext cx="4645080" cy="2749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258840"/>
            <a:ext cx="9144000" cy="103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7916760" y="533520"/>
            <a:ext cx="987480" cy="547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0" y="-76320"/>
            <a:ext cx="9144000" cy="38124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258840"/>
            <a:ext cx="9144000" cy="103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040200" y="1879560"/>
            <a:ext cx="38923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480" rIns="2448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-30240" y="60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172" name="Picture 11" descr=""/>
          <p:cNvPicPr/>
          <p:nvPr/>
        </p:nvPicPr>
        <p:blipFill>
          <a:blip r:embed="rId2"/>
          <a:stretch/>
        </p:blipFill>
        <p:spPr>
          <a:xfrm>
            <a:off x="7916760" y="533520"/>
            <a:ext cx="987480" cy="547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2"/>
          <p:cNvSpPr/>
          <p:nvPr/>
        </p:nvSpPr>
        <p:spPr>
          <a:xfrm>
            <a:off x="-31680" y="-76320"/>
            <a:ext cx="9175680" cy="38124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258840"/>
            <a:ext cx="9144000" cy="103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040200" y="1879560"/>
            <a:ext cx="38923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480" rIns="2448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-30240" y="60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217" name="Picture 11" descr=""/>
          <p:cNvPicPr/>
          <p:nvPr/>
        </p:nvPicPr>
        <p:blipFill>
          <a:blip r:embed="rId2"/>
          <a:stretch/>
        </p:blipFill>
        <p:spPr>
          <a:xfrm>
            <a:off x="7916760" y="533520"/>
            <a:ext cx="987480" cy="5475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2"/>
          <p:cNvSpPr/>
          <p:nvPr/>
        </p:nvSpPr>
        <p:spPr>
          <a:xfrm>
            <a:off x="0" y="-76320"/>
            <a:ext cx="9144000" cy="38124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8934-EDAE-430D-96FA-E6475B1023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42F0-CDA7-41AF-A1E8-8873E8B741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45EC-853F-488A-94D0-C80830E415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8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520" y="3128760"/>
            <a:ext cx="8077320" cy="1214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002856"/>
                </a:solidFill>
                <a:latin typeface="Open Sans"/>
              </a:rPr>
              <a:t>AFROSAI-E COOPERATION WITH WGITA</a:t>
            </a:r>
            <a:endParaRPr b="0" lang="en-US" sz="38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tretch/>
        </p:blipFill>
        <p:spPr>
          <a:xfrm>
            <a:off x="30240" y="4417920"/>
            <a:ext cx="2798640" cy="1800360"/>
          </a:xfrm>
          <a:prstGeom prst="rect">
            <a:avLst/>
          </a:prstGeom>
          <a:ln w="0">
            <a:noFill/>
          </a:ln>
        </p:spPr>
      </p:pic>
      <p:sp>
        <p:nvSpPr>
          <p:cNvPr id="736" name="Text Placeholder 16"/>
          <p:cNvSpPr/>
          <p:nvPr/>
        </p:nvSpPr>
        <p:spPr>
          <a:xfrm>
            <a:off x="38088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2856"/>
                </a:solidFill>
                <a:latin typeface="Open Sans"/>
                <a:ea typeface="Arial"/>
              </a:rPr>
              <a:t>African Organisation of English-speaking Supreme Audit Institutions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ZA" sz="2900" spc="-1" strike="noStrike">
                <a:solidFill>
                  <a:srgbClr val="002856"/>
                </a:solidFill>
                <a:latin typeface="Open Sans"/>
              </a:rPr>
              <a:t>USE OF IT IN AUDIT</a:t>
            </a:r>
            <a:endParaRPr b="0" lang="en-US" sz="29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The areas covered in assessing use of IT in Audit were: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936720" indent="-343080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IT Audits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936720" indent="-343080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IT tools used in audit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936720" indent="-343080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IT strategy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28240" y="49068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IT IN AUDIT - 2014</a:t>
            </a: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Use of IT in audit lowest scored imperative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Components that decreased are: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593640" algn="just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Integration of IT/IS audit in performance </a:t>
            </a: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	</a:t>
            </a: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audit </a:t>
            </a: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	</a:t>
            </a: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and regularity audi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593640" algn="just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Annual IT/IS audit coverage of national IS </a:t>
            </a: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	</a:t>
            </a: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systems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Scores of IT tools in audit &amp; IT strategy increased slightly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Number of IT Auditors in the region decreased (average of only 2 % of total audit staff)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6840" y="3124080"/>
            <a:ext cx="8077320" cy="12146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002856"/>
                </a:solidFill>
                <a:latin typeface="Open Sans"/>
              </a:rPr>
              <a:t>PROJECTS IN THE REGION</a:t>
            </a:r>
            <a:endParaRPr b="0" lang="en-US" sz="3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28240" y="49068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PROJECTS IN REGION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Joint program for IT Audit champions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Increased use of CAATs and data analytics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  <a:p>
            <a:pPr lvl="2" marL="936720" indent="-343080" algn="just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2856"/>
                </a:solidFill>
                <a:latin typeface="Open Sans"/>
              </a:rPr>
              <a:t>Including</a:t>
            </a: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 use of MS Excel 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Training of regularity auditors in basic IT Audit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Assistance in IT strategy development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Hands-on audit support to members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Advocating of audit of key IT systems and annual reporting of the reliance on controls in these systems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Implementation of electronic working papers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28240" y="49068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Inadequate number of IT auditors in the region and in specific SAIs 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lvl="2" marL="880200" indent="-322200" algn="just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2856"/>
                </a:solidFill>
                <a:latin typeface="Open Sans"/>
              </a:rPr>
              <a:t>221 in 2014 compared to 9,391 regularity auditors 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lvl="2" marL="880200" indent="-322200" algn="just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2856"/>
                </a:solidFill>
                <a:latin typeface="Open Sans"/>
              </a:rPr>
              <a:t>high growth rate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22200" indent="-32220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Lack of established IT Audit section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22200" indent="-32220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Lack of clear distinction between IT Audit and IT Support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22200" indent="-32220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Low investment in staff and audit tools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22200" indent="-32220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Collaboration between IT Audit and Regularity Audit poor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22200" indent="-32220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IT not being included in the strategic planning by SAIs, or a lack of monitoring on implementation. 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22200" indent="-32220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IT infrastructure capacity (structure, equipment and set-up in the SAIs) not adequate or there is a lack of funding to implement IT-tools. 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22200" indent="-32220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Lack of technical manpower to maintain systems</a:t>
            </a:r>
            <a:r>
              <a:rPr b="0" lang="en-ZA" sz="2000" spc="-1" strike="noStrike">
                <a:solidFill>
                  <a:srgbClr val="002856"/>
                </a:solidFill>
                <a:latin typeface="Open Sans"/>
              </a:rPr>
              <a:t>. 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22200" indent="0" algn="just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22200" indent="0" algn="just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28240" y="49068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856"/>
                </a:solidFill>
                <a:latin typeface="Open Sans"/>
              </a:rPr>
              <a:t>LOOKING AHEAD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48" name="Picture 4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657600" cy="358632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" descr=""/>
          <p:cNvPicPr/>
          <p:nvPr/>
        </p:nvPicPr>
        <p:blipFill>
          <a:blip r:embed="rId2"/>
          <a:stretch/>
        </p:blipFill>
        <p:spPr>
          <a:xfrm rot="20427000">
            <a:off x="580680" y="3592080"/>
            <a:ext cx="42418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8240" y="49068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CORPORATE PLAN 2015 - 2019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02856"/>
                </a:solidFill>
                <a:latin typeface="Open Sans"/>
              </a:rPr>
              <a:t>STRATEGIC IMPERATIVES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Professionalising public sector auditing and accounting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Being a credible voice for beneficial change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Turning leadership from capacity into capability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Driving innovation and creativity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1050840" indent="-457200" algn="just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2856"/>
                </a:solidFill>
                <a:latin typeface="Open Sans"/>
              </a:rPr>
              <a:t>Application of modern information technology 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28240" y="49068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856"/>
                </a:solidFill>
                <a:latin typeface="Open Sans"/>
              </a:rPr>
              <a:t>LOOKING AHEAD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2856"/>
                </a:solidFill>
                <a:latin typeface="Open Sans"/>
              </a:rPr>
              <a:t>OPERATIONAL INTERVENTION 1: 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2856"/>
                </a:solidFill>
                <a:latin typeface="Open Sans"/>
              </a:rPr>
              <a:t>TECHNICAL CAPACITY BUILDING - REGULARITY AUDITING 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2856"/>
                </a:solidFill>
                <a:latin typeface="Open Sans"/>
              </a:rPr>
              <a:t>IT auditing 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Specific support on the auditing of IT systems and research and training will be done on: 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lvl="2" marL="936720" indent="-343080" algn="just">
              <a:lnSpc>
                <a:spcPct val="80000"/>
              </a:lnSpc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2856"/>
                </a:solidFill>
                <a:latin typeface="Open Sans"/>
              </a:rPr>
              <a:t>Integrated Financial Management Information System (IFMIS)</a:t>
            </a:r>
            <a:endParaRPr b="0" lang="en-US" sz="1900" spc="-1" strike="noStrike">
              <a:solidFill>
                <a:srgbClr val="002856"/>
              </a:solidFill>
              <a:latin typeface="Open Sans"/>
            </a:endParaRPr>
          </a:p>
          <a:p>
            <a:pPr lvl="2" marL="936720" indent="-343080" algn="just">
              <a:lnSpc>
                <a:spcPct val="80000"/>
              </a:lnSpc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2856"/>
                </a:solidFill>
                <a:latin typeface="Open Sans"/>
              </a:rPr>
              <a:t>SAIs to annually report on reliance on key government financial systems. </a:t>
            </a:r>
            <a:endParaRPr b="0" lang="en-US" sz="1900" spc="-1" strike="noStrike">
              <a:solidFill>
                <a:srgbClr val="002856"/>
              </a:solidFill>
              <a:latin typeface="Open Sans"/>
            </a:endParaRPr>
          </a:p>
          <a:p>
            <a:pPr lvl="2" marL="936720" indent="-343080" algn="just">
              <a:lnSpc>
                <a:spcPct val="80000"/>
              </a:lnSpc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2856"/>
                </a:solidFill>
                <a:latin typeface="Open Sans"/>
              </a:rPr>
              <a:t>Making IT audits be part of all regularity audits </a:t>
            </a:r>
            <a:endParaRPr b="0" lang="en-US" sz="1900" spc="-1" strike="noStrike">
              <a:solidFill>
                <a:srgbClr val="002856"/>
              </a:solidFill>
              <a:latin typeface="Open Sans"/>
            </a:endParaRPr>
          </a:p>
          <a:p>
            <a:pPr lvl="2" marL="936720" indent="-343080" algn="just">
              <a:lnSpc>
                <a:spcPct val="80000"/>
              </a:lnSpc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2856"/>
                </a:solidFill>
                <a:latin typeface="Open Sans"/>
              </a:rPr>
              <a:t>Beneficial synergy between work done by regularity auditors, IT auditors and IT staff will form part of this. </a:t>
            </a:r>
            <a:endParaRPr b="0" lang="en-US" sz="19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Specialised training for IT audit champions 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Increased training in IT auditing techniques for regularity auditors, amongst other to make better use of CAATs. 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28240" y="49068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856"/>
                </a:solidFill>
                <a:latin typeface="Open Sans"/>
              </a:rPr>
              <a:t>LOOKING AHEAD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2856"/>
                </a:solidFill>
                <a:latin typeface="Open Sans"/>
              </a:rPr>
              <a:t>IT Audit remains a focus areas for AFROSAI-E strategic plan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856"/>
                </a:solidFill>
                <a:latin typeface="Open Sans"/>
              </a:rPr>
              <a:t>Continue to demystify IT audit to RA and have programs for them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2856"/>
                </a:solidFill>
                <a:latin typeface="Open Sans"/>
              </a:rPr>
              <a:t>SAIs audit &amp; </a:t>
            </a:r>
            <a:r>
              <a:rPr b="0" lang="en-US" sz="2000" spc="-1" strike="noStrike">
                <a:solidFill>
                  <a:srgbClr val="002856"/>
                </a:solidFill>
                <a:latin typeface="Open Sans"/>
              </a:rPr>
              <a:t>report on IFMIS operations before financial audits commence 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2856"/>
                </a:solidFill>
                <a:latin typeface="Open Sans"/>
              </a:rPr>
              <a:t>Encourage interaction within SAIs and set base for collaborative audits in the region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2856"/>
                </a:solidFill>
                <a:latin typeface="Open Sans"/>
              </a:rPr>
              <a:t>Have more technical hands on training and support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6"/>
                </a:solidFill>
                <a:latin typeface="Open Sans"/>
              </a:rPr>
              <a:t>Approaches to make better use of  modern IT systems within their organizations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6"/>
                </a:solidFill>
                <a:latin typeface="Open Sans"/>
              </a:rPr>
              <a:t>An IT self-assessment tool developed to support needs assessments and development of IT strategies in SAIs. </a:t>
            </a:r>
            <a:r>
              <a:rPr b="0" lang="en-US" sz="2000" spc="-1" strike="noStrike">
                <a:solidFill>
                  <a:srgbClr val="002856"/>
                </a:solidFill>
                <a:latin typeface="Open Sans"/>
              </a:rPr>
              <a:t>	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6"/>
                </a:solidFill>
                <a:latin typeface="Open Sans"/>
              </a:rPr>
              <a:t>Assist IT management to be an innovative driving force SAI efficiency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6"/>
                </a:solidFill>
                <a:latin typeface="Open Sans"/>
              </a:rPr>
              <a:t>IT Audit is covered in the AFROSAI-E quality assurance reviews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6"/>
                </a:solidFill>
                <a:latin typeface="Open Sans"/>
              </a:rPr>
              <a:t>Share innovative IT methodologies in auditing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80520" y="3128760"/>
            <a:ext cx="8077320" cy="1214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002856"/>
                </a:solidFill>
                <a:latin typeface="Open Sans"/>
              </a:rPr>
              <a:t>WGITA COOPERATION AND ACTIVITIES </a:t>
            </a:r>
            <a:endParaRPr b="0" lang="en-US" sz="3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28240" y="49068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PRESENTATION OUTLINE</a:t>
            </a: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	</a:t>
            </a: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Background of AFROSAI-E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Current status of SAIs in IT Audi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Previous and current projects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Challenges and issues in the region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Future plans on IT Audit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WGITA cooperation and activities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077320" cy="65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3200"/>
            </a:b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WGITA COOPERATION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Where AFROSAI-E fits into the puzzle 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Adequate representation of region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Transfer benefit of projects and get region to participate where possible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Source of expertise and synergies from other regions on practical aspects of IT Audit 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859" name="Picture 5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6673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077320" cy="65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3200"/>
            </a:b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WGITA COOPERATION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Insider knowledge and early access to information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Afford our region chance to influence technical content and standards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Be involved where decisions that could affect our region are being made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Network with stakeholders and colleagues in the field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Latest developments in the field of IT Audi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The need for collaboration between WGITA and AFROSAI-E on regional level very important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520" y="3128760"/>
            <a:ext cx="8077320" cy="1214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002856"/>
                </a:solidFill>
                <a:latin typeface="Open Sans"/>
              </a:rPr>
              <a:t>THANK YOU</a:t>
            </a:r>
            <a:endParaRPr b="0" lang="en-US" sz="38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495440" cy="961920"/>
          </a:xfrm>
          <a:prstGeom prst="rect">
            <a:avLst/>
          </a:prstGeom>
          <a:ln w="0">
            <a:noFill/>
          </a:ln>
        </p:spPr>
      </p:pic>
      <p:pic>
        <p:nvPicPr>
          <p:cNvPr id="864" name="Content Placeholder 3" descr=""/>
          <p:cNvPicPr/>
          <p:nvPr/>
        </p:nvPicPr>
        <p:blipFill>
          <a:blip r:embed="rId2"/>
          <a:stretch/>
        </p:blipFill>
        <p:spPr>
          <a:xfrm>
            <a:off x="5867280" y="533520"/>
            <a:ext cx="3130560" cy="1593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520" y="3128760"/>
            <a:ext cx="8077320" cy="1214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002856"/>
                </a:solidFill>
                <a:latin typeface="Open Sans"/>
              </a:rPr>
              <a:t>BACKGROUND</a:t>
            </a:r>
            <a:endParaRPr b="0" lang="en-US" sz="3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741" name="Rectangle 7" descr=""/>
          <p:cNvPicPr/>
          <p:nvPr/>
        </p:nvPicPr>
        <p:blipFill>
          <a:blip r:embed="rId1"/>
          <a:stretch/>
        </p:blipFill>
        <p:spPr>
          <a:xfrm>
            <a:off x="55440" y="1262160"/>
            <a:ext cx="1047960" cy="545616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8"/>
          <p:cNvSpPr/>
          <p:nvPr/>
        </p:nvSpPr>
        <p:spPr>
          <a:xfrm>
            <a:off x="1676520" y="1219320"/>
            <a:ext cx="6248160" cy="609480"/>
          </a:xfrm>
          <a:prstGeom prst="rect">
            <a:avLst/>
          </a:prstGeom>
          <a:solidFill>
            <a:srgbClr val="00a19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2856"/>
                </a:solidFill>
                <a:latin typeface="Open Sans"/>
              </a:rPr>
              <a:t>Governing Board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2856"/>
                </a:solidFill>
                <a:latin typeface="Open Sans"/>
              </a:rPr>
              <a:t>26 Members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</p:txBody>
      </p:sp>
      <p:grpSp>
        <p:nvGrpSpPr>
          <p:cNvPr id="743" name="Rectangle 9"/>
          <p:cNvGrpSpPr/>
          <p:nvPr/>
        </p:nvGrpSpPr>
        <p:grpSpPr>
          <a:xfrm>
            <a:off x="1627200" y="2494080"/>
            <a:ext cx="3451320" cy="706320"/>
            <a:chOff x="1627200" y="2494080"/>
            <a:chExt cx="3451320" cy="706320"/>
          </a:xfrm>
        </p:grpSpPr>
        <p:pic>
          <p:nvPicPr>
            <p:cNvPr id="744" name="Rectangle 9" descr=""/>
            <p:cNvPicPr/>
            <p:nvPr/>
          </p:nvPicPr>
          <p:blipFill>
            <a:blip r:embed="rId2"/>
            <a:stretch/>
          </p:blipFill>
          <p:spPr>
            <a:xfrm>
              <a:off x="1627200" y="2494080"/>
              <a:ext cx="34513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1676520" y="25146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Chief Executive Officer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46" name="Rectangle 10"/>
          <p:cNvGrpSpPr/>
          <p:nvPr/>
        </p:nvGrpSpPr>
        <p:grpSpPr>
          <a:xfrm>
            <a:off x="1627200" y="3103560"/>
            <a:ext cx="3451320" cy="706320"/>
            <a:chOff x="1627200" y="3103560"/>
            <a:chExt cx="3451320" cy="706320"/>
          </a:xfrm>
        </p:grpSpPr>
        <p:pic>
          <p:nvPicPr>
            <p:cNvPr id="747" name="Rectangle 10" descr=""/>
            <p:cNvPicPr/>
            <p:nvPr/>
          </p:nvPicPr>
          <p:blipFill>
            <a:blip r:embed="rId3"/>
            <a:stretch/>
          </p:blipFill>
          <p:spPr>
            <a:xfrm>
              <a:off x="1627200" y="3103560"/>
              <a:ext cx="34513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1676520" y="3124080"/>
              <a:ext cx="3352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Executive Officer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49" name="Rectangle 11"/>
          <p:cNvGrpSpPr/>
          <p:nvPr/>
        </p:nvGrpSpPr>
        <p:grpSpPr>
          <a:xfrm>
            <a:off x="1627200" y="3713040"/>
            <a:ext cx="3451320" cy="706680"/>
            <a:chOff x="1627200" y="3713040"/>
            <a:chExt cx="3451320" cy="706680"/>
          </a:xfrm>
        </p:grpSpPr>
        <p:pic>
          <p:nvPicPr>
            <p:cNvPr id="750" name="Rectangle 11" descr=""/>
            <p:cNvPicPr/>
            <p:nvPr/>
          </p:nvPicPr>
          <p:blipFill>
            <a:blip r:embed="rId4"/>
            <a:stretch/>
          </p:blipFill>
          <p:spPr>
            <a:xfrm>
              <a:off x="1627200" y="3713040"/>
              <a:ext cx="34513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1676520" y="373392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Executive Secretariat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52" name="Rectangle 12"/>
          <p:cNvGrpSpPr/>
          <p:nvPr/>
        </p:nvGrpSpPr>
        <p:grpSpPr>
          <a:xfrm>
            <a:off x="5516640" y="1957320"/>
            <a:ext cx="3451320" cy="706680"/>
            <a:chOff x="5516640" y="1957320"/>
            <a:chExt cx="3451320" cy="706680"/>
          </a:xfrm>
        </p:grpSpPr>
        <p:pic>
          <p:nvPicPr>
            <p:cNvPr id="753" name="Rectangle 12" descr=""/>
            <p:cNvPicPr/>
            <p:nvPr/>
          </p:nvPicPr>
          <p:blipFill>
            <a:blip r:embed="rId5"/>
            <a:stretch/>
          </p:blipFill>
          <p:spPr>
            <a:xfrm>
              <a:off x="5516640" y="1957320"/>
              <a:ext cx="34513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5562720" y="1981080"/>
              <a:ext cx="3352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Subcommittees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55" name="Rectangle 13"/>
          <p:cNvGrpSpPr/>
          <p:nvPr/>
        </p:nvGrpSpPr>
        <p:grpSpPr>
          <a:xfrm>
            <a:off x="5516640" y="2646360"/>
            <a:ext cx="3451320" cy="706320"/>
            <a:chOff x="5516640" y="2646360"/>
            <a:chExt cx="3451320" cy="706320"/>
          </a:xfrm>
        </p:grpSpPr>
        <p:pic>
          <p:nvPicPr>
            <p:cNvPr id="756" name="Rectangle 13" descr=""/>
            <p:cNvPicPr/>
            <p:nvPr/>
          </p:nvPicPr>
          <p:blipFill>
            <a:blip r:embed="rId6"/>
            <a:stretch/>
          </p:blipFill>
          <p:spPr>
            <a:xfrm>
              <a:off x="5516640" y="2646360"/>
              <a:ext cx="34513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5562720" y="2666880"/>
              <a:ext cx="3352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Human Resources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58" name="Rectangle 14"/>
          <p:cNvGrpSpPr/>
          <p:nvPr/>
        </p:nvGrpSpPr>
        <p:grpSpPr>
          <a:xfrm>
            <a:off x="5516640" y="3328920"/>
            <a:ext cx="3451320" cy="706680"/>
            <a:chOff x="5516640" y="3328920"/>
            <a:chExt cx="3451320" cy="706680"/>
          </a:xfrm>
        </p:grpSpPr>
        <p:pic>
          <p:nvPicPr>
            <p:cNvPr id="759" name="Rectangle 14" descr=""/>
            <p:cNvPicPr/>
            <p:nvPr/>
          </p:nvPicPr>
          <p:blipFill>
            <a:blip r:embed="rId7"/>
            <a:stretch/>
          </p:blipFill>
          <p:spPr>
            <a:xfrm>
              <a:off x="5516640" y="3328920"/>
              <a:ext cx="34513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5562720" y="3352680"/>
              <a:ext cx="3352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Finance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61" name="Rectangle 15"/>
          <p:cNvGrpSpPr/>
          <p:nvPr/>
        </p:nvGrpSpPr>
        <p:grpSpPr>
          <a:xfrm>
            <a:off x="5516640" y="4700520"/>
            <a:ext cx="3451320" cy="706680"/>
            <a:chOff x="5516640" y="4700520"/>
            <a:chExt cx="3451320" cy="706680"/>
          </a:xfrm>
        </p:grpSpPr>
        <p:pic>
          <p:nvPicPr>
            <p:cNvPr id="762" name="Rectangle 15" descr=""/>
            <p:cNvPicPr/>
            <p:nvPr/>
          </p:nvPicPr>
          <p:blipFill>
            <a:blip r:embed="rId8"/>
            <a:stretch/>
          </p:blipFill>
          <p:spPr>
            <a:xfrm>
              <a:off x="5516640" y="4700520"/>
              <a:ext cx="34513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5562720" y="4724280"/>
              <a:ext cx="3352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Capacity building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64" name="Rectangle 16"/>
          <p:cNvGrpSpPr/>
          <p:nvPr/>
        </p:nvGrpSpPr>
        <p:grpSpPr>
          <a:xfrm>
            <a:off x="5516640" y="4017960"/>
            <a:ext cx="3451320" cy="706320"/>
            <a:chOff x="5516640" y="4017960"/>
            <a:chExt cx="3451320" cy="706320"/>
          </a:xfrm>
        </p:grpSpPr>
        <p:pic>
          <p:nvPicPr>
            <p:cNvPr id="765" name="Rectangle 16" descr=""/>
            <p:cNvPicPr/>
            <p:nvPr/>
          </p:nvPicPr>
          <p:blipFill>
            <a:blip r:embed="rId9"/>
            <a:stretch/>
          </p:blipFill>
          <p:spPr>
            <a:xfrm>
              <a:off x="5516640" y="4017960"/>
              <a:ext cx="34513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5562720" y="4038480"/>
              <a:ext cx="3352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Audit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cxnSp>
        <p:nvCxnSpPr>
          <p:cNvPr id="767" name="Straight Arrow Connector 17"/>
          <p:cNvCxnSpPr/>
          <p:nvPr/>
        </p:nvCxnSpPr>
        <p:spPr>
          <a:xfrm>
            <a:off x="837720" y="1600200"/>
            <a:ext cx="839160" cy="2160"/>
          </a:xfrm>
          <a:prstGeom prst="straightConnector1">
            <a:avLst/>
          </a:prstGeom>
          <a:ln w="38160">
            <a:solidFill>
              <a:srgbClr val="00a19c"/>
            </a:solidFill>
            <a:miter/>
            <a:tailEnd len="med" type="arrow" w="med"/>
          </a:ln>
        </p:spPr>
      </p:cxnSp>
      <p:grpSp>
        <p:nvGrpSpPr>
          <p:cNvPr id="768" name="Rectangle 18"/>
          <p:cNvGrpSpPr/>
          <p:nvPr/>
        </p:nvGrpSpPr>
        <p:grpSpPr>
          <a:xfrm>
            <a:off x="901800" y="5473800"/>
            <a:ext cx="1701720" cy="920520"/>
            <a:chOff x="901800" y="5473800"/>
            <a:chExt cx="1701720" cy="920520"/>
          </a:xfrm>
        </p:grpSpPr>
        <p:pic>
          <p:nvPicPr>
            <p:cNvPr id="769" name="Rectangle 18" descr=""/>
            <p:cNvPicPr/>
            <p:nvPr/>
          </p:nvPicPr>
          <p:blipFill>
            <a:blip r:embed="rId10"/>
            <a:stretch/>
          </p:blipFill>
          <p:spPr>
            <a:xfrm>
              <a:off x="901800" y="5473800"/>
              <a:ext cx="17017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990720" y="5562720"/>
              <a:ext cx="1523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Planning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Committee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71" name="Rectangle 19"/>
          <p:cNvGrpSpPr/>
          <p:nvPr/>
        </p:nvGrpSpPr>
        <p:grpSpPr>
          <a:xfrm>
            <a:off x="4218120" y="5473800"/>
            <a:ext cx="2616120" cy="920520"/>
            <a:chOff x="4218120" y="5473800"/>
            <a:chExt cx="2616120" cy="920520"/>
          </a:xfrm>
        </p:grpSpPr>
        <p:pic>
          <p:nvPicPr>
            <p:cNvPr id="772" name="Rectangle 19" descr=""/>
            <p:cNvPicPr/>
            <p:nvPr/>
          </p:nvPicPr>
          <p:blipFill>
            <a:blip r:embed="rId11"/>
            <a:stretch/>
          </p:blipFill>
          <p:spPr>
            <a:xfrm>
              <a:off x="4218120" y="5473800"/>
              <a:ext cx="26161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4267080" y="5562720"/>
              <a:ext cx="2514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Subject Matter Experts 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74" name="Rectangle 20"/>
          <p:cNvGrpSpPr/>
          <p:nvPr/>
        </p:nvGrpSpPr>
        <p:grpSpPr>
          <a:xfrm>
            <a:off x="2541600" y="5473800"/>
            <a:ext cx="1731960" cy="920520"/>
            <a:chOff x="2541600" y="5473800"/>
            <a:chExt cx="1731960" cy="920520"/>
          </a:xfrm>
        </p:grpSpPr>
        <p:pic>
          <p:nvPicPr>
            <p:cNvPr id="775" name="Rectangle 20" descr=""/>
            <p:cNvPicPr/>
            <p:nvPr/>
          </p:nvPicPr>
          <p:blipFill>
            <a:blip r:embed="rId12"/>
            <a:stretch/>
          </p:blipFill>
          <p:spPr>
            <a:xfrm>
              <a:off x="2541600" y="5473800"/>
              <a:ext cx="17319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/>
            <p:nvPr/>
          </p:nvSpPr>
          <p:spPr>
            <a:xfrm>
              <a:off x="2590920" y="556272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Technical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 </a:t>
              </a: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Committee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cxnSp>
        <p:nvCxnSpPr>
          <p:cNvPr id="777" name="Straight Arrow Connector 21"/>
          <p:cNvCxnSpPr/>
          <p:nvPr/>
        </p:nvCxnSpPr>
        <p:spPr>
          <a:xfrm flipH="1">
            <a:off x="3350520" y="1829880"/>
            <a:ext cx="3960" cy="686520"/>
          </a:xfrm>
          <a:prstGeom prst="straightConnector1">
            <a:avLst/>
          </a:prstGeom>
          <a:ln w="38160">
            <a:solidFill>
              <a:srgbClr val="00a19c"/>
            </a:solidFill>
            <a:miter/>
            <a:headEnd len="med" type="arrow" w="med"/>
            <a:tailEnd len="med" type="arrow" w="med"/>
          </a:ln>
        </p:spPr>
      </p:cxnSp>
      <p:sp>
        <p:nvSpPr>
          <p:cNvPr id="778" name="Straight Connector 22"/>
          <p:cNvSpPr/>
          <p:nvPr/>
        </p:nvSpPr>
        <p:spPr>
          <a:xfrm>
            <a:off x="838080" y="6553080"/>
            <a:ext cx="3996000" cy="1800"/>
          </a:xfrm>
          <a:prstGeom prst="line">
            <a:avLst/>
          </a:prstGeom>
          <a:ln w="38160">
            <a:solidFill>
              <a:srgbClr val="00a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cxnSp>
        <p:nvCxnSpPr>
          <p:cNvPr id="779" name="Straight Arrow Connector 23"/>
          <p:cNvCxnSpPr/>
          <p:nvPr/>
        </p:nvCxnSpPr>
        <p:spPr>
          <a:xfrm flipH="1" flipV="1">
            <a:off x="4799880" y="6171480"/>
            <a:ext cx="1080" cy="361080"/>
          </a:xfrm>
          <a:prstGeom prst="straightConnector1">
            <a:avLst/>
          </a:prstGeom>
          <a:ln w="38160">
            <a:solidFill>
              <a:srgbClr val="00a19c"/>
            </a:solidFill>
            <a:miter/>
            <a:tailEnd len="med" type="arrow" w="med"/>
          </a:ln>
        </p:spPr>
      </p:cxnSp>
      <p:cxnSp>
        <p:nvCxnSpPr>
          <p:cNvPr id="780" name="Straight Arrow Connector 24"/>
          <p:cNvCxnSpPr/>
          <p:nvPr/>
        </p:nvCxnSpPr>
        <p:spPr>
          <a:xfrm flipH="1" flipV="1">
            <a:off x="1751760" y="6192000"/>
            <a:ext cx="1080" cy="361080"/>
          </a:xfrm>
          <a:prstGeom prst="straightConnector1">
            <a:avLst/>
          </a:prstGeom>
          <a:ln w="38160">
            <a:solidFill>
              <a:srgbClr val="00a19c"/>
            </a:solidFill>
            <a:miter/>
            <a:tailEnd len="med" type="arrow" w="med"/>
          </a:ln>
        </p:spPr>
      </p:cxnSp>
      <p:cxnSp>
        <p:nvCxnSpPr>
          <p:cNvPr id="781" name="Straight Arrow Connector 25"/>
          <p:cNvCxnSpPr/>
          <p:nvPr/>
        </p:nvCxnSpPr>
        <p:spPr>
          <a:xfrm flipH="1" flipV="1">
            <a:off x="3428280" y="6171480"/>
            <a:ext cx="1080" cy="361080"/>
          </a:xfrm>
          <a:prstGeom prst="straightConnector1">
            <a:avLst/>
          </a:prstGeom>
          <a:ln w="38160">
            <a:solidFill>
              <a:srgbClr val="00a19c"/>
            </a:solidFill>
            <a:miter/>
            <a:tailEnd len="med" type="arrow" w="med"/>
          </a:ln>
        </p:spPr>
      </p:cxnSp>
      <p:cxnSp>
        <p:nvCxnSpPr>
          <p:cNvPr id="782" name="Straight Arrow Connector 26"/>
          <p:cNvCxnSpPr/>
          <p:nvPr/>
        </p:nvCxnSpPr>
        <p:spPr>
          <a:xfrm flipV="1">
            <a:off x="4800600" y="4342680"/>
            <a:ext cx="2160" cy="1220040"/>
          </a:xfrm>
          <a:prstGeom prst="straightConnector1">
            <a:avLst/>
          </a:prstGeom>
          <a:ln w="38160">
            <a:solidFill>
              <a:srgbClr val="00a19c"/>
            </a:solidFill>
            <a:miter/>
            <a:tailEnd len="med" type="arrow" w="med"/>
          </a:ln>
        </p:spPr>
      </p:cxnSp>
      <p:cxnSp>
        <p:nvCxnSpPr>
          <p:cNvPr id="783" name="Straight Arrow Connector 27"/>
          <p:cNvCxnSpPr/>
          <p:nvPr/>
        </p:nvCxnSpPr>
        <p:spPr>
          <a:xfrm flipV="1">
            <a:off x="3351600" y="4342680"/>
            <a:ext cx="2520" cy="1220040"/>
          </a:xfrm>
          <a:prstGeom prst="straightConnector1">
            <a:avLst/>
          </a:prstGeom>
          <a:ln w="38160">
            <a:solidFill>
              <a:srgbClr val="00a19c"/>
            </a:solidFill>
            <a:miter/>
            <a:tailEnd len="med" type="arrow" w="med"/>
          </a:ln>
        </p:spPr>
      </p:cxnSp>
      <p:cxnSp>
        <p:nvCxnSpPr>
          <p:cNvPr id="784" name="Straight Arrow Connector 28"/>
          <p:cNvCxnSpPr/>
          <p:nvPr/>
        </p:nvCxnSpPr>
        <p:spPr>
          <a:xfrm flipV="1">
            <a:off x="1980000" y="4342680"/>
            <a:ext cx="2520" cy="1220040"/>
          </a:xfrm>
          <a:prstGeom prst="straightConnector1">
            <a:avLst/>
          </a:prstGeom>
          <a:ln w="38160">
            <a:solidFill>
              <a:srgbClr val="00a19c"/>
            </a:solidFill>
            <a:miter/>
            <a:tailEnd len="med" type="arrow" w="med"/>
          </a:ln>
        </p:spPr>
      </p:cxnSp>
      <p:cxnSp>
        <p:nvCxnSpPr>
          <p:cNvPr id="785" name="Shape 35"/>
          <p:cNvCxnSpPr>
            <a:endCxn id="742" idx="3"/>
          </p:cNvCxnSpPr>
          <p:nvPr/>
        </p:nvCxnSpPr>
        <p:spPr>
          <a:xfrm flipV="1" rot="16200000">
            <a:off x="7924320" y="1523160"/>
            <a:ext cx="457920" cy="457920"/>
          </a:xfrm>
          <a:prstGeom prst="bentConnector2">
            <a:avLst/>
          </a:prstGeom>
          <a:ln w="38160">
            <a:solidFill>
              <a:srgbClr val="00a19c"/>
            </a:solidFill>
            <a:miter/>
            <a:tailEnd len="med" type="arrow" w="med"/>
          </a:ln>
        </p:spPr>
      </p:cxnSp>
      <p:cxnSp>
        <p:nvCxnSpPr>
          <p:cNvPr id="786" name="Straight Arrow Connector 30"/>
          <p:cNvCxnSpPr/>
          <p:nvPr/>
        </p:nvCxnSpPr>
        <p:spPr>
          <a:xfrm>
            <a:off x="837720" y="3428640"/>
            <a:ext cx="686520" cy="1080"/>
          </a:xfrm>
          <a:prstGeom prst="straightConnector1">
            <a:avLst/>
          </a:prstGeom>
          <a:ln w="38160">
            <a:solidFill>
              <a:srgbClr val="008681"/>
            </a:solidFill>
            <a:miter/>
            <a:tailEnd len="med" type="arrow" w="med"/>
          </a:ln>
        </p:spPr>
      </p:cxnSp>
      <p:cxnSp>
        <p:nvCxnSpPr>
          <p:cNvPr id="787" name="Straight Arrow Connector 31"/>
          <p:cNvCxnSpPr/>
          <p:nvPr/>
        </p:nvCxnSpPr>
        <p:spPr>
          <a:xfrm>
            <a:off x="837720" y="2819160"/>
            <a:ext cx="686520" cy="1080"/>
          </a:xfrm>
          <a:prstGeom prst="straightConnector1">
            <a:avLst/>
          </a:prstGeom>
          <a:ln w="38160">
            <a:solidFill>
              <a:srgbClr val="008681"/>
            </a:solidFill>
            <a:miter/>
            <a:tailEnd len="med" type="arrow" w="med"/>
          </a:ln>
        </p:spPr>
      </p:cxnSp>
      <p:cxnSp>
        <p:nvCxnSpPr>
          <p:cNvPr id="788" name="Straight Arrow Connector 32"/>
          <p:cNvCxnSpPr/>
          <p:nvPr/>
        </p:nvCxnSpPr>
        <p:spPr>
          <a:xfrm>
            <a:off x="837720" y="4038120"/>
            <a:ext cx="686520" cy="1080"/>
          </a:xfrm>
          <a:prstGeom prst="straightConnector1">
            <a:avLst/>
          </a:prstGeom>
          <a:ln w="38160">
            <a:solidFill>
              <a:srgbClr val="008681"/>
            </a:solidFill>
            <a:miter/>
            <a:tailEnd len="med" type="arrow" w="med"/>
          </a:ln>
        </p:spPr>
      </p:cxnSp>
      <p:sp>
        <p:nvSpPr>
          <p:cNvPr id="789" name="TextBox 33"/>
          <p:cNvSpPr/>
          <p:nvPr/>
        </p:nvSpPr>
        <p:spPr>
          <a:xfrm>
            <a:off x="1676520" y="54936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2856"/>
                </a:solidFill>
                <a:latin typeface="Open Sans"/>
              </a:rPr>
              <a:t>Governing structure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3200"/>
            </a:b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STATEMENT OF INTEN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856"/>
              </a:solidFill>
              <a:latin typeface="Open Sans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856"/>
              </a:solidFill>
              <a:latin typeface="Open Sans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2856"/>
                </a:solidFill>
                <a:latin typeface="Open Sans"/>
              </a:rPr>
              <a:t>Making a difference in the performance of SAIs</a:t>
            </a:r>
            <a:endParaRPr b="0" lang="en-US" sz="3000" spc="-1" strike="noStrike">
              <a:solidFill>
                <a:srgbClr val="002856"/>
              </a:solidFill>
              <a:latin typeface="Open Sans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MISSION</a:t>
            </a:r>
            <a:r>
              <a:rPr b="0" lang="en-ZA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STATEMEN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AFROSAI-E is, through innovation, committed to cooperate with and support its member SAIs to enhance their institutional capacity to successfully fulfil their audit mandates, thereby making a difference to the lives of citizens.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95" name="TextBox 14"/>
          <p:cNvSpPr/>
          <p:nvPr/>
        </p:nvSpPr>
        <p:spPr>
          <a:xfrm>
            <a:off x="1778040" y="50328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2856"/>
                </a:solidFill>
                <a:latin typeface="Open Sans"/>
              </a:rPr>
              <a:t>Our Capacity Building Approach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</p:txBody>
      </p:sp>
      <p:grpSp>
        <p:nvGrpSpPr>
          <p:cNvPr id="796" name="Group 15"/>
          <p:cNvGrpSpPr/>
          <p:nvPr/>
        </p:nvGrpSpPr>
        <p:grpSpPr>
          <a:xfrm>
            <a:off x="76320" y="1371600"/>
            <a:ext cx="8839080" cy="5084640"/>
            <a:chOff x="76320" y="1371600"/>
            <a:chExt cx="8839080" cy="5084640"/>
          </a:xfrm>
        </p:grpSpPr>
        <p:grpSp>
          <p:nvGrpSpPr>
            <p:cNvPr id="797" name="Group 16"/>
            <p:cNvGrpSpPr/>
            <p:nvPr/>
          </p:nvGrpSpPr>
          <p:grpSpPr>
            <a:xfrm>
              <a:off x="500760" y="1371600"/>
              <a:ext cx="8414640" cy="5084640"/>
              <a:chOff x="500760" y="1371600"/>
              <a:chExt cx="8414640" cy="5084640"/>
            </a:xfrm>
          </p:grpSpPr>
          <p:grpSp>
            <p:nvGrpSpPr>
              <p:cNvPr id="798" name="Group 19"/>
              <p:cNvGrpSpPr/>
              <p:nvPr/>
            </p:nvGrpSpPr>
            <p:grpSpPr>
              <a:xfrm>
                <a:off x="722880" y="1371600"/>
                <a:ext cx="8192520" cy="989280"/>
                <a:chOff x="722880" y="1371600"/>
                <a:chExt cx="8192520" cy="989280"/>
              </a:xfrm>
            </p:grpSpPr>
            <p:sp>
              <p:nvSpPr>
                <p:cNvPr id="799" name="TextBox 31"/>
                <p:cNvSpPr/>
                <p:nvPr/>
              </p:nvSpPr>
              <p:spPr>
                <a:xfrm>
                  <a:off x="722880" y="1413720"/>
                  <a:ext cx="1954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ZA" sz="2800" spc="-1" strike="noStrike">
                      <a:solidFill>
                        <a:srgbClr val="002856"/>
                      </a:solidFill>
                      <a:latin typeface="Open Sans"/>
                    </a:rPr>
                    <a:t>ICBF</a:t>
                  </a:r>
                  <a:endParaRPr b="0" lang="en-US" sz="2800" spc="-1" strike="noStrike">
                    <a:solidFill>
                      <a:srgbClr val="002856"/>
                    </a:solidFill>
                    <a:latin typeface="Open Sans"/>
                  </a:endParaRPr>
                </a:p>
              </p:txBody>
            </p:sp>
            <p:sp>
              <p:nvSpPr>
                <p:cNvPr id="800" name="TextBox 32"/>
                <p:cNvSpPr/>
                <p:nvPr/>
              </p:nvSpPr>
              <p:spPr>
                <a:xfrm>
                  <a:off x="4831560" y="1896480"/>
                  <a:ext cx="2931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ZA" sz="2400" spc="-1" strike="noStrike">
                      <a:solidFill>
                        <a:srgbClr val="002856"/>
                      </a:solidFill>
                      <a:latin typeface="Open Sans"/>
                    </a:rPr>
                    <a:t>- Quality reviews</a:t>
                  </a:r>
                  <a:endParaRPr b="0" lang="en-US" sz="2400" spc="-1" strike="noStrike">
                    <a:solidFill>
                      <a:srgbClr val="002856"/>
                    </a:solidFill>
                    <a:latin typeface="Open Sans"/>
                  </a:endParaRPr>
                </a:p>
              </p:txBody>
            </p:sp>
            <p:sp>
              <p:nvSpPr>
                <p:cNvPr id="801" name="TextBox 33"/>
                <p:cNvSpPr/>
                <p:nvPr/>
              </p:nvSpPr>
              <p:spPr>
                <a:xfrm>
                  <a:off x="6660720" y="1371600"/>
                  <a:ext cx="22546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ZA" sz="2800" spc="-1" strike="noStrike">
                      <a:solidFill>
                        <a:srgbClr val="002856"/>
                      </a:solidFill>
                      <a:latin typeface="Open Sans"/>
                    </a:rPr>
                    <a:t>Gap analysis</a:t>
                  </a:r>
                  <a:endParaRPr b="0" lang="en-US" sz="2800" spc="-1" strike="noStrike">
                    <a:solidFill>
                      <a:srgbClr val="002856"/>
                    </a:solidFill>
                    <a:latin typeface="Open Sans"/>
                  </a:endParaRPr>
                </a:p>
              </p:txBody>
            </p:sp>
            <p:sp>
              <p:nvSpPr>
                <p:cNvPr id="802" name="TextBox 34"/>
                <p:cNvSpPr/>
                <p:nvPr/>
              </p:nvSpPr>
              <p:spPr>
                <a:xfrm>
                  <a:off x="3477960" y="1413720"/>
                  <a:ext cx="240516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ZA" sz="2800" spc="-1" strike="noStrike">
                      <a:solidFill>
                        <a:srgbClr val="002856"/>
                      </a:solidFill>
                      <a:latin typeface="Open Sans"/>
                    </a:rPr>
                    <a:t>Need of SAIs</a:t>
                  </a:r>
                  <a:endParaRPr b="0" lang="en-US" sz="2800" spc="-1" strike="noStrike">
                    <a:solidFill>
                      <a:srgbClr val="002856"/>
                    </a:solidFill>
                    <a:latin typeface="Open Sans"/>
                  </a:endParaRPr>
                </a:p>
              </p:txBody>
            </p:sp>
            <p:pic>
              <p:nvPicPr>
                <p:cNvPr id="803" name="Right Arrow 3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10120" y="1454760"/>
                  <a:ext cx="111240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4" name="Right Arrow 3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43800" y="1431000"/>
                  <a:ext cx="110628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05" name="Group 20"/>
              <p:cNvGrpSpPr/>
              <p:nvPr/>
            </p:nvGrpSpPr>
            <p:grpSpPr>
              <a:xfrm>
                <a:off x="1474560" y="1790640"/>
                <a:ext cx="7065000" cy="1368720"/>
                <a:chOff x="1474560" y="1790640"/>
                <a:chExt cx="7065000" cy="1368720"/>
              </a:xfrm>
            </p:grpSpPr>
            <p:grpSp>
              <p:nvGrpSpPr>
                <p:cNvPr id="806" name="Down Arrow 29"/>
                <p:cNvGrpSpPr/>
                <p:nvPr/>
              </p:nvGrpSpPr>
              <p:grpSpPr>
                <a:xfrm>
                  <a:off x="1474560" y="2792160"/>
                  <a:ext cx="998280" cy="367200"/>
                  <a:chOff x="1474560" y="2792160"/>
                  <a:chExt cx="998280" cy="367200"/>
                </a:xfrm>
              </p:grpSpPr>
              <p:pic>
                <p:nvPicPr>
                  <p:cNvPr id="807" name="Down Arrow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4560" y="2792160"/>
                    <a:ext cx="998280" cy="3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"/>
                  <p:cNvSpPr/>
                  <p:nvPr/>
                </p:nvSpPr>
                <p:spPr>
                  <a:xfrm>
                    <a:off x="1761840" y="2814120"/>
                    <a:ext cx="421920" cy="20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2856"/>
                      </a:solidFill>
                      <a:latin typeface="Open Sans"/>
                    </a:endParaRPr>
                  </a:p>
                </p:txBody>
              </p:sp>
            </p:grpSp>
            <p:grpSp>
              <p:nvGrpSpPr>
                <p:cNvPr id="809" name="Bent-Up Arrow 30"/>
                <p:cNvGrpSpPr/>
                <p:nvPr/>
              </p:nvGrpSpPr>
              <p:grpSpPr>
                <a:xfrm>
                  <a:off x="1726920" y="1790640"/>
                  <a:ext cx="6812640" cy="1090800"/>
                  <a:chOff x="1726920" y="1790640"/>
                  <a:chExt cx="6812640" cy="1090800"/>
                </a:xfrm>
              </p:grpSpPr>
              <p:pic>
                <p:nvPicPr>
                  <p:cNvPr id="810" name="Bent-Up Arrow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6920" y="1790640"/>
                    <a:ext cx="681264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11" name=""/>
                  <p:cNvSpPr/>
                  <p:nvPr/>
                </p:nvSpPr>
                <p:spPr>
                  <a:xfrm>
                    <a:off x="1770840" y="2701800"/>
                    <a:ext cx="6471720" cy="11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2856"/>
                      </a:solidFill>
                      <a:latin typeface="Open Sans"/>
                    </a:endParaRPr>
                  </a:p>
                </p:txBody>
              </p:sp>
            </p:grpSp>
          </p:grpSp>
          <p:pic>
            <p:nvPicPr>
              <p:cNvPr id="812" name="Rounded Rectangl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00760" y="2998800"/>
                <a:ext cx="3378960" cy="154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3" name="Rounded Rectangl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42520" y="5121000"/>
                <a:ext cx="3360960" cy="133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4" name="Oval 23"/>
              <p:cNvGrpSpPr/>
              <p:nvPr/>
            </p:nvGrpSpPr>
            <p:grpSpPr>
              <a:xfrm>
                <a:off x="4733640" y="3398400"/>
                <a:ext cx="3553560" cy="911880"/>
                <a:chOff x="4733640" y="3398400"/>
                <a:chExt cx="3553560" cy="911880"/>
              </a:xfrm>
            </p:grpSpPr>
            <p:pic>
              <p:nvPicPr>
                <p:cNvPr id="815" name="Oval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733640" y="3398400"/>
                  <a:ext cx="3553560" cy="9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6" name=""/>
                <p:cNvSpPr/>
                <p:nvPr/>
              </p:nvSpPr>
              <p:spPr>
                <a:xfrm>
                  <a:off x="5288040" y="3540600"/>
                  <a:ext cx="24447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ZA" sz="2000" spc="-1" strike="noStrike">
                      <a:solidFill>
                        <a:srgbClr val="002856"/>
                      </a:solidFill>
                      <a:latin typeface="Open Sans"/>
                    </a:rPr>
                    <a:t>Annual Work Plan</a:t>
                  </a:r>
                  <a:endParaRPr b="0" lang="en-US" sz="2000" spc="-1" strike="noStrike">
                    <a:solidFill>
                      <a:srgbClr val="002856"/>
                    </a:solidFill>
                    <a:latin typeface="Open Sans"/>
                  </a:endParaRPr>
                </a:p>
              </p:txBody>
            </p:sp>
          </p:grpSp>
          <p:pic>
            <p:nvPicPr>
              <p:cNvPr id="817" name="Right Arrow 24" descr=""/>
              <p:cNvPicPr/>
              <p:nvPr/>
            </p:nvPicPr>
            <p:blipFill>
              <a:blip r:embed="rId8"/>
              <a:stretch/>
            </p:blipFill>
            <p:spPr>
              <a:xfrm>
                <a:off x="3741480" y="3618720"/>
                <a:ext cx="1106280" cy="50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8" name="Oval 25"/>
              <p:cNvGrpSpPr/>
              <p:nvPr/>
            </p:nvGrpSpPr>
            <p:grpSpPr>
              <a:xfrm>
                <a:off x="4733640" y="5293800"/>
                <a:ext cx="3553560" cy="918000"/>
                <a:chOff x="4733640" y="5293800"/>
                <a:chExt cx="3553560" cy="918000"/>
              </a:xfrm>
            </p:grpSpPr>
            <p:pic>
              <p:nvPicPr>
                <p:cNvPr id="819" name="Oval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733640" y="5293800"/>
                  <a:ext cx="355356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0" name=""/>
                <p:cNvSpPr/>
                <p:nvPr/>
              </p:nvSpPr>
              <p:spPr>
                <a:xfrm>
                  <a:off x="5288040" y="5440320"/>
                  <a:ext cx="24447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ZA" sz="2000" spc="-1" strike="noStrike">
                      <a:solidFill>
                        <a:srgbClr val="002856"/>
                      </a:solidFill>
                      <a:latin typeface="Open Sans"/>
                    </a:rPr>
                    <a:t>Value and Benefit</a:t>
                  </a:r>
                  <a:endParaRPr b="0" lang="en-US" sz="2000" spc="-1" strike="noStrike">
                    <a:solidFill>
                      <a:srgbClr val="002856"/>
                    </a:solidFill>
                    <a:latin typeface="Open Sans"/>
                  </a:endParaRPr>
                </a:p>
              </p:txBody>
            </p:sp>
          </p:grpSp>
          <p:pic>
            <p:nvPicPr>
              <p:cNvPr id="821" name="Right Arrow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3741480" y="5514480"/>
                <a:ext cx="1106280" cy="512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2" name="Down Arrow 27"/>
              <p:cNvGrpSpPr/>
              <p:nvPr/>
            </p:nvGrpSpPr>
            <p:grpSpPr>
              <a:xfrm>
                <a:off x="1035720" y="4829040"/>
                <a:ext cx="805680" cy="393120"/>
                <a:chOff x="1035720" y="4829040"/>
                <a:chExt cx="805680" cy="393120"/>
              </a:xfrm>
            </p:grpSpPr>
            <p:pic>
              <p:nvPicPr>
                <p:cNvPr id="823" name="Down Arrow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035720" y="4829040"/>
                  <a:ext cx="805680" cy="39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4" name=""/>
                <p:cNvSpPr/>
                <p:nvPr/>
              </p:nvSpPr>
              <p:spPr>
                <a:xfrm>
                  <a:off x="1267920" y="4853520"/>
                  <a:ext cx="33804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2856"/>
                    </a:solidFill>
                    <a:latin typeface="Open Sans"/>
                  </a:endParaRPr>
                </a:p>
              </p:txBody>
            </p:sp>
          </p:grpSp>
          <p:grpSp>
            <p:nvGrpSpPr>
              <p:cNvPr id="825" name="Bent-Up Arrow 28"/>
              <p:cNvGrpSpPr/>
              <p:nvPr/>
            </p:nvGrpSpPr>
            <p:grpSpPr>
              <a:xfrm>
                <a:off x="1204200" y="4214880"/>
                <a:ext cx="5549760" cy="709200"/>
                <a:chOff x="1204200" y="4214880"/>
                <a:chExt cx="5549760" cy="709200"/>
              </a:xfrm>
            </p:grpSpPr>
            <p:pic>
              <p:nvPicPr>
                <p:cNvPr id="826" name="Bent-Up Arrow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204200" y="4214880"/>
                  <a:ext cx="554976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7" name=""/>
                <p:cNvSpPr/>
                <p:nvPr/>
              </p:nvSpPr>
              <p:spPr>
                <a:xfrm>
                  <a:off x="1249200" y="4784040"/>
                  <a:ext cx="528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2856"/>
                    </a:solidFill>
                    <a:latin typeface="Open Sans"/>
                  </a:endParaRPr>
                </a:p>
              </p:txBody>
            </p:sp>
          </p:grpSp>
        </p:grpSp>
        <p:grpSp>
          <p:nvGrpSpPr>
            <p:cNvPr id="828" name="Bent-Up Arrow 17"/>
            <p:cNvGrpSpPr/>
            <p:nvPr/>
          </p:nvGrpSpPr>
          <p:grpSpPr>
            <a:xfrm>
              <a:off x="76320" y="1731240"/>
              <a:ext cx="551880" cy="4401360"/>
              <a:chOff x="76320" y="1731240"/>
              <a:chExt cx="551880" cy="4401360"/>
            </a:xfrm>
          </p:grpSpPr>
          <p:pic>
            <p:nvPicPr>
              <p:cNvPr id="829" name="Bent-Up Arrow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76320" y="1731240"/>
                <a:ext cx="551880" cy="440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0" name=""/>
              <p:cNvSpPr/>
              <p:nvPr/>
            </p:nvSpPr>
            <p:spPr>
              <a:xfrm rot="5400000">
                <a:off x="-1901880" y="3780360"/>
                <a:ext cx="422820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856"/>
                  </a:solidFill>
                  <a:latin typeface="Open Sans"/>
                </a:endParaRPr>
              </a:p>
            </p:txBody>
          </p:sp>
        </p:grpSp>
        <p:grpSp>
          <p:nvGrpSpPr>
            <p:cNvPr id="831" name="Right Arrow 18"/>
            <p:cNvGrpSpPr/>
            <p:nvPr/>
          </p:nvGrpSpPr>
          <p:grpSpPr>
            <a:xfrm>
              <a:off x="94320" y="1493280"/>
              <a:ext cx="1212840" cy="481320"/>
              <a:chOff x="94320" y="1493280"/>
              <a:chExt cx="1212840" cy="481320"/>
            </a:xfrm>
          </p:grpSpPr>
          <p:pic>
            <p:nvPicPr>
              <p:cNvPr id="832" name="Right Arrow 18" descr=""/>
              <p:cNvPicPr/>
              <p:nvPr/>
            </p:nvPicPr>
            <p:blipFill>
              <a:blip r:embed="rId14"/>
              <a:stretch/>
            </p:blipFill>
            <p:spPr>
              <a:xfrm>
                <a:off x="94320" y="1493280"/>
                <a:ext cx="1212840" cy="4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>
                <a:off x="141840" y="1616400"/>
                <a:ext cx="1024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856"/>
                  </a:solidFill>
                  <a:latin typeface="Open San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ICBF DOMAIN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Domains in ICBF are: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Independence and legal framework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Organization and management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Human Resources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Audit methodology and standards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Communication and stakeholder management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STRATEGIC IMPERATIVES FROM 2009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02856"/>
                </a:solidFill>
                <a:latin typeface="Open Sans"/>
              </a:rPr>
              <a:t>Strategic imperatives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2856"/>
                </a:solidFill>
                <a:latin typeface="Open Sans"/>
              </a:rPr>
              <a:t>Independence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2856"/>
                </a:solidFill>
                <a:latin typeface="Open Sans"/>
              </a:rPr>
              <a:t>Human resources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2856"/>
                </a:solidFill>
                <a:latin typeface="Open Sans"/>
              </a:rPr>
              <a:t>Communication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2856"/>
                </a:solidFill>
                <a:latin typeface="Open Sans"/>
              </a:rPr>
              <a:t>Quality Assurance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2856"/>
                </a:solidFill>
                <a:latin typeface="Open Sans"/>
              </a:rPr>
              <a:t>Performance audit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2856"/>
                </a:solidFill>
                <a:latin typeface="Open Sans"/>
              </a:rPr>
              <a:t>Use of IT in Audit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Which one do you think has been the lowest scored imperative in all the years?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Also has been below target set for achievemen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1:31:48Z</dcterms:created>
  <dc:creator>marlisef</dc:creator>
  <dc:description/>
  <dc:language>en-US</dc:language>
  <cp:lastModifiedBy>user</cp:lastModifiedBy>
  <cp:lastPrinted>2015-06-08T10:32:05Z</cp:lastPrinted>
  <dcterms:modified xsi:type="dcterms:W3CDTF">2015-06-08T10:32:40Z</dcterms:modified>
  <cp:revision>512</cp:revision>
  <dc:subject/>
  <dc:title>Slide 1</dc:title>
</cp:coreProperties>
</file>