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"/>
          <p:cNvSpPr/>
          <p:nvPr/>
        </p:nvSpPr>
        <p:spPr>
          <a:xfrm>
            <a:off x="2769120" y="885816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Schoolbook"/>
              </a:rPr>
              <a:t>Page </a:t>
            </a:r>
            <a:fld id="{50AE1B8F-6D01-4C41-A35D-C4BF6B2F6DA6}" type="slidenum">
              <a:rPr b="0" lang="en-US" sz="12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257120" y="810720"/>
            <a:ext cx="434340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257480" y="8110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3924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25712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3924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66800" y="18072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3924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24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600" y="314280"/>
            <a:ext cx="1006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IT aud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80972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2381400" indent="-3812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952720" indent="-3808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952720" indent="-3808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952720" indent="-3808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2760" y="6118200"/>
            <a:ext cx="98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6480" y="6593040"/>
            <a:ext cx="106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IT Security : S1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0400" y="6602400"/>
            <a:ext cx="34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5FD4-6583-4554-B6E3-A6ABED198BF6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600" y="212760"/>
            <a:ext cx="15271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80880" y="66600"/>
            <a:ext cx="1276560" cy="1162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54696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840" y="824040"/>
            <a:ext cx="388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f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209520"/>
            <a:ext cx="9067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077400" y="200160"/>
            <a:ext cx="0" cy="942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5160" y="6613560"/>
            <a:ext cx="1154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March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76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IT Security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ession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ecurity Objective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76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SO 17799 – Main Section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25712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isk assessment and treat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ecurity Polic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Organisation of Information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sset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HR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Physical and Environmental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24280" y="125712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Communications &amp; Operations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ccess Control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S Acquisition, Dvpt &amp; Maintena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usiness Continuity Managemen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Complia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oBI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Released by ITGI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ntrol objectives relevant to secur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PO9 – Assess and Manage IT Risk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S4 – Ensure Continuous Servi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S5 – Ensure Systems Security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National Institute of Standards and Technology (NIST)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veral Useful Publications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nformation Security Handbook: A Guide for Management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ecommended Security Controls for Federal Information System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Guide for Assessing Security Controls in Federal Information System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rusted Computer Systems – Evaluation Criteria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CSEC (DOD Orange Book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TSEC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mmon Criteria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12 controls – based on  ISO/ IEC 17799 : 2005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ecurity Policy (session 4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Organization of Information security (session 5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Asset management (session 6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Human resources security (including incident response) (session 7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Physical and environmental security (IT Control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Communications and Operations management (Session 9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Access Control (IT Control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Information Systems Acquisition, Development and maintenance (session 8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Business continuity management (BCP Module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Compliance (session 10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control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Real (and growing) need for IT security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General perception is poor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C.I.A. (and non-repudiation)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n investment - need for value for money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Must be accepted by the user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52160" indent="-452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Different IT Security Standards and Framework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y is IT security important?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Heavy reliance placed on IT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Pressure to deliver services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Increasing range of threats 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Risks to national security?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2280" y="2139840"/>
            <a:ext cx="7607160" cy="32641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224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General perception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st (procure, train, operate, maintain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Return on investment? (like insurance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an inhibit operations (inefficiency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Negative image (brings restrictions)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91320" y="4495680"/>
            <a:ext cx="1476360" cy="1873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360" y="4495680"/>
            <a:ext cx="2276640" cy="226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36196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at can go wrong?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IT security problems include :-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fir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flood 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xplosion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natural disaster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ndustrial action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reakdown,  failure, sabotage, theft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viral attack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error/negligence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1371600"/>
          <a:ext cx="914400" cy="170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1371600"/>
                    <a:ext cx="9144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 flipV="1">
            <a:off x="6172200" y="2971800"/>
            <a:ext cx="236232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00160" y="2228760"/>
            <a:ext cx="5600880" cy="31622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T security objective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860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3600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9600" spc="-1" strike="noStrike">
                <a:solidFill>
                  <a:srgbClr val="fafd00"/>
                </a:solidFill>
                <a:latin typeface="Times New Roman"/>
              </a:rPr>
              <a:t>C.I.A.</a:t>
            </a:r>
            <a:endParaRPr b="1" i="1" lang="en-US" sz="9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nd non-repudiation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" dur="1" fill="hold"/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.I.A.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nfidential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nsuring information is accessible only those authorised to have acces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tegr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afeguarding the accuracy and completeness of information and processing methods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Availability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1143000" indent="-4762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Ensuring that authorised users have access to information and associated assets when required</a:t>
            </a:r>
            <a:endParaRPr b="1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ffective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does what is expected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fficient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simple to operate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economical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most protection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for least cost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accepted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- unobtrusive</a:t>
            </a: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04960" y="5286240"/>
            <a:ext cx="5581800" cy="857520"/>
          </a:xfrm>
          <a:prstGeom prst="rect">
            <a:avLst/>
          </a:prstGeom>
          <a:solidFill>
            <a:srgbClr val="00008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Good IT security must be.....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25640" y="5457960"/>
            <a:ext cx="514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Nothing is ever 100% sec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IT Security Standards and Frameworks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/ IEC 17799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oBI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NIST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rusted Computer Systems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66800" y="18072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SO/ IEC 17799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 17799 (based on BS 7799) originally released in 2000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SO 17799: 2005 released in June 2005</a:t>
            </a:r>
            <a:endParaRPr b="1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5T07:12:40Z</dcterms:created>
  <dc:creator>National Audit Office</dc:creator>
  <dc:description/>
  <cp:keywords/>
  <dc:language>en-US</dc:language>
  <cp:lastModifiedBy>Vani Sriram</cp:lastModifiedBy>
  <cp:lastPrinted>1997-02-03T09:27:20Z</cp:lastPrinted>
  <dcterms:modified xsi:type="dcterms:W3CDTF">2007-02-20T10:02:48Z</dcterms:modified>
  <cp:revision>20</cp:revision>
  <dc:subject>Introduction</dc:subject>
  <dc:title>IT security</dc:title>
</cp:coreProperties>
</file>