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/>
          <p:nvPr/>
        </p:nvSpPr>
        <p:spPr>
          <a:xfrm>
            <a:off x="2769120" y="88581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Page </a:t>
            </a:r>
            <a:fld id="{6EF75281-ABBB-428F-A2FE-A1D35EF08D77}" type="slidenum"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25712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257480" y="8110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6800" y="18072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00" y="314280"/>
            <a:ext cx="100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IT aud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80972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2381400" indent="-3812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952720" indent="-3808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6118200"/>
            <a:ext cx="98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6480" y="6593040"/>
            <a:ext cx="106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T Security : S1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0400" y="6602400"/>
            <a:ext cx="3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14E9-C1EC-4430-9CC2-6AE8CDC54DD3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600" y="212760"/>
            <a:ext cx="15271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66600"/>
            <a:ext cx="1276560" cy="1162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4696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840" y="824040"/>
            <a:ext cx="388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0952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077400" y="200160"/>
            <a:ext cx="0" cy="942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5160" y="6613560"/>
            <a:ext cx="115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March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76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IT Security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ssion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 17799 – Main Sec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25712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isk assessment and treat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ecurity Polic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rganisation of Information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sset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HR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hysical and Environmental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280" y="125712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munications &amp; Operations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ccess Control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S Acquisition, Dvpt &amp; Mainten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usiness Continuity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pli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leased by ITGI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trol objectives relevant to secu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9 – Assess and Manage IT Risk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4 – Ensure Continuous Servi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5 – Ensure Systems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ational Institute of Standards and Technology (NIST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ral Useful Publication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formation Security Handbook: A Guide for Management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commended Security Controls for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uide for Assessing Security Controls in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 – Evaluation Criteri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CSEC (DOD Orange Book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TSEC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mmon Criteria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12 controls – based on  ISO/ IEC 17799 : 2005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urity Policy (session 4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Organization of Information security (session 5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sset management (session 6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uman resources security (including incident response) (session 7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Physical and environmental security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munications and Operations management (Session 9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ss Control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Information Systems Acquisition, Development and maintenance (session 8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Business continuity management (BCP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pliance (session 10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al (and growing) need for IT securit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eneral perception is poor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C.I.A. (and non-repudiation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 investment - need for value for mone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ust be accepted by the user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Different IT Security Standards and Framework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y is IT security important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Heavy reliance placed on I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ressure to deliver service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creasing range of threats 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isks to national security?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280" y="2139840"/>
            <a:ext cx="7607160" cy="32641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224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neral percep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st (procure, train, operate, maintain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turn on investment? (like insurance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an inhibit operations (inefficiency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egative image (brings restrictions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91320" y="4495680"/>
            <a:ext cx="1476360" cy="187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360" y="4495680"/>
            <a:ext cx="2276640" cy="226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36196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can go wrong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T security problems include :-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ir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lood 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xplos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tural disaster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dustrial act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reakdown,  failure, sabotage, thef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viral attack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rror/neglige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371600"/>
          <a:ext cx="914400" cy="17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371600"/>
                    <a:ext cx="9144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6172200" y="2971800"/>
            <a:ext cx="23623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00160" y="2228760"/>
            <a:ext cx="5600880" cy="31622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3600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i="1" lang="en-US" sz="9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d non-repudia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fidentia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information is accessible only those authorised to have acces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teg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afeguarding the accuracy and completeness of information and processing method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vailabi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that authorised users have access to information and associated assets when required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ective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does what is expected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icient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simple to operat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conomical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most protec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for least cos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pted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unobtrusiv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5286240"/>
            <a:ext cx="5581800" cy="857520"/>
          </a:xfrm>
          <a:prstGeom prst="rect">
            <a:avLst/>
          </a:prstGeom>
          <a:solidFill>
            <a:srgbClr val="00008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ood IT security must be..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5640" y="5457960"/>
            <a:ext cx="51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othing is ever 100% se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T Security Standards and Framework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IS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 (based on BS 7799) originally released in 2000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: 2005 released in June 2005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5T07:12:40Z</dcterms:created>
  <dc:creator>National Audit Office</dc:creator>
  <dc:description/>
  <cp:keywords/>
  <dc:language>en-US</dc:language>
  <cp:lastModifiedBy>Vani Sriram</cp:lastModifiedBy>
  <cp:lastPrinted>1997-02-03T09:27:20Z</cp:lastPrinted>
  <dcterms:modified xsi:type="dcterms:W3CDTF">2007-02-20T10:02:48Z</dcterms:modified>
  <cp:revision>20</cp:revision>
  <dc:subject>Introduction</dc:subject>
  <dc:title>IT security</dc:title>
</cp:coreProperties>
</file>