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A0EA-56C3-40E3-B1C6-E16176A1BC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D51D-E355-42FC-A548-BB3B2DFB932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D2FC-77A3-45BE-8D48-BDD660D559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B37E-30CA-49A0-B4DF-45FFE7FDBF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80C4-3A88-469A-8948-34A345B8E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CA74-BD2B-4260-9685-B71893EA3A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F3FF-A4DA-4AD9-9819-2D301C671C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1AF7-759C-4012-BE72-A2BBF97843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8C1-F743-46D5-9B60-56963A9B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36A-A264-428F-81E8-5B33C468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A3E-A4C1-4421-8E86-FD3F1698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09E-C0BF-4137-955F-021C6359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14C6-B3EA-46BB-9B82-A13175E4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ECFF-6624-4189-9821-B1D6A710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8468-8F9A-4216-A3F9-19A598FE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3D9C-292E-4610-A1CB-6448054A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85D0-988D-4A44-80A4-A9BB9BDD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DCA7-677C-44FA-8E3F-EF355499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7902-3E0C-48CC-A3E7-789593F7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7DA-6BF4-4A76-9ED5-92FC0867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0B3F-23CC-4FAD-A9CB-BFA5640D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2B08-7026-49C0-B4EF-AA2A7677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49E6-8165-460B-8F57-FC18FCBC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3167-F8B8-48D0-80E7-FF09C5AB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9A3E-624F-4F97-BAF1-6B0656E0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889-0E0C-43D1-A8E5-C32CF879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F88-C573-4472-8579-B826688A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9A8-A7CE-44D9-9BC6-DE3F3C14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121-6285-43A5-8422-2A377C1A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5CE-93BA-46E2-A073-F9548A43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E53-D693-4A5A-BC11-140BDB21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26A-EE63-4AEA-8017-14CBB904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3C9B-9A22-4050-99D3-DD182601BF1A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D836-6DEA-43C1-83EF-7F7CF0FD155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94E4-2E5A-42ED-810A-B8D3972CA7D3}" type="datetime">
              <a:rPr b="0" lang="ru-RU" sz="1200" spc="-1" strike="noStrike">
                <a:solidFill>
                  <a:srgbClr val="898989"/>
                </a:solidFill>
                <a:latin typeface="Arial"/>
                <a:ea typeface="宋体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B557-777B-443E-9503-905A4EBD9E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"/>
          <p:cNvGrpSpPr/>
          <p:nvPr/>
        </p:nvGrpSpPr>
        <p:grpSpPr>
          <a:xfrm>
            <a:off x="0" y="357120"/>
            <a:ext cx="9144000" cy="6043680"/>
            <a:chOff x="0" y="357120"/>
            <a:chExt cx="9144000" cy="6043680"/>
          </a:xfrm>
        </p:grpSpPr>
        <p:sp>
          <p:nvSpPr>
            <p:cNvPr id="90" name="Rectangle 4"/>
            <p:cNvSpPr/>
            <p:nvPr/>
          </p:nvSpPr>
          <p:spPr>
            <a:xfrm>
              <a:off x="108000" y="2040120"/>
              <a:ext cx="871380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br>
                <a:rPr sz="2900"/>
              </a:br>
              <a:br>
                <a:rPr sz="2900"/>
              </a:b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428760" y="357120"/>
              <a:ext cx="871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76092"/>
                  </a:solidFill>
                  <a:latin typeface="Arial"/>
                </a:rPr>
                <a:t>The </a:t>
              </a:r>
              <a:r>
                <a:rPr b="1" lang="ru-RU" sz="2400" spc="-1" strike="noStrike">
                  <a:solidFill>
                    <a:srgbClr val="376092"/>
                  </a:solidFill>
                  <a:latin typeface="Arial"/>
                </a:rPr>
                <a:t>7</a:t>
              </a:r>
              <a:r>
                <a:rPr b="1" lang="en-US" sz="2400" spc="-1" strike="noStrike" baseline="30000">
                  <a:solidFill>
                    <a:srgbClr val="376092"/>
                  </a:solidFill>
                  <a:latin typeface="Arial"/>
                </a:rPr>
                <a:t>th</a:t>
              </a:r>
              <a:r>
                <a:rPr b="1" lang="en-US" sz="2400" spc="-1" strike="noStrike">
                  <a:solidFill>
                    <a:srgbClr val="376092"/>
                  </a:solidFill>
                  <a:latin typeface="Arial"/>
                </a:rPr>
                <a:t> Meeting of the</a:t>
              </a:r>
              <a:r>
                <a:rPr b="1" lang="en-US" sz="2400" spc="-1" strike="noStrike">
                  <a:solidFill>
                    <a:srgbClr val="376092"/>
                  </a:solidFill>
                  <a:latin typeface="Arial"/>
                  <a:ea typeface="宋体"/>
                </a:rPr>
                <a:t> INTOSAI Working Group on Key National Indica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0" y="2246400"/>
              <a:ext cx="91440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REPORT ON THE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  <a:ea typeface="宋体"/>
                </a:rPr>
                <a:t>WORKING GROUP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ACTIVITY</a:t>
              </a:r>
              <a:r>
                <a:rPr b="1" lang="ru-RU" sz="4000" spc="-1" strike="noStrike">
                  <a:solidFill>
                    <a:srgbClr val="376092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(</a:t>
              </a:r>
              <a:r>
                <a:rPr b="1" lang="en-US" sz="2800" spc="-1" strike="noStrike">
                  <a:solidFill>
                    <a:srgbClr val="376092"/>
                  </a:solidFill>
                  <a:latin typeface="Arial"/>
                </a:rPr>
                <a:t>April</a:t>
              </a: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 2013 - </a:t>
              </a:r>
              <a:r>
                <a:rPr b="1" lang="en-US" sz="2800" spc="-1" strike="noStrike">
                  <a:solidFill>
                    <a:srgbClr val="376092"/>
                  </a:solidFill>
                  <a:latin typeface="Arial"/>
                </a:rPr>
                <a:t>February</a:t>
              </a:r>
              <a:r>
                <a:rPr b="1" lang="ru-RU" sz="2800" spc="-1" strike="noStrike">
                  <a:solidFill>
                    <a:srgbClr val="376092"/>
                  </a:solidFill>
                  <a:latin typeface="Arial"/>
                </a:rPr>
                <a:t> 201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041640" y="60008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Прямоугольник 11"/>
          <p:cNvSpPr/>
          <p:nvPr/>
        </p:nvSpPr>
        <p:spPr>
          <a:xfrm>
            <a:off x="3015360" y="621504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Bali, February 25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0" y="4786200"/>
            <a:ext cx="671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6092"/>
                </a:solidFill>
                <a:latin typeface="Calibri"/>
              </a:rPr>
              <a:t>Tatiana Manuy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6092"/>
                </a:solidFill>
                <a:latin typeface="Calibri"/>
              </a:rPr>
              <a:t>The Auditor of the Accounts Chamber of the Russian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092"/>
                </a:solidFill>
                <a:latin typeface="Calibri"/>
                <a:ea typeface="Arial"/>
              </a:rPr>
              <a:t>Thank you</a:t>
            </a:r>
            <a:r>
              <a:rPr b="1" lang="ru-RU" sz="6000" spc="-1" strike="noStrike">
                <a:solidFill>
                  <a:srgbClr val="376092"/>
                </a:solidFill>
                <a:latin typeface="Calibri"/>
                <a:ea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2876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6</a:t>
            </a:r>
            <a:r>
              <a:rPr b="1" lang="en-US" sz="1900" spc="-1" strike="noStrike" baseline="30000">
                <a:solidFill>
                  <a:srgbClr val="254061"/>
                </a:solidFill>
                <a:latin typeface="Calibri"/>
              </a:rPr>
              <a:t>th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 Meeting of the INTOSAI WG on KNI in Krakow (Poland), April 22-24, 2013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Report on the INTOSAI WG on key national indicators activity for 3 years period (April 2010 – April 2013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Priority areas of WG activity for the period 2013 –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5</a:t>
            </a:r>
            <a:r>
              <a:rPr b="1" lang="en-US" sz="1900" spc="-1" strike="noStrike" baseline="30000">
                <a:solidFill>
                  <a:srgbClr val="254061"/>
                </a:solidFill>
                <a:latin typeface="Calibri"/>
              </a:rPr>
              <a:t>th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 Meeting of the Steering Committee on Knowledge Sharing and Knowledge Services, New Delhi (India), September 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16-17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,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 2013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Report on the INTOSAI WG on key national indicators activity for 3 years period (April 2010 – April 2013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64</a:t>
            </a:r>
            <a:r>
              <a:rPr b="1" lang="en-US" sz="1900" spc="-1" strike="noStrike" baseline="30000">
                <a:solidFill>
                  <a:srgbClr val="254061"/>
                </a:solidFill>
                <a:latin typeface="Calibri"/>
              </a:rPr>
              <a:t>th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 INTOSAI Governing Board meeting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,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 Beijing (China), September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 21</a:t>
            </a: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,</a:t>
            </a:r>
            <a:r>
              <a:rPr b="1" lang="ru-RU" sz="1900" spc="-1" strike="noStrike">
                <a:solidFill>
                  <a:srgbClr val="254061"/>
                </a:solidFill>
                <a:latin typeface="Calibri"/>
              </a:rPr>
              <a:t> 2013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Report on the INTOSAI WG on key national indicators activity for 3 years period (April 2010 – April 2013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Priority areas of WG activity for the period 2013 –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2F6E-1DAF-4702-AB2E-6059C16D65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Main Results of the Working Group Activity</a:t>
            </a:r>
            <a:br>
              <a:rPr sz="3600"/>
            </a:b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 in 2011 -20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DF26-F180-4C4F-BFC8-5B7AB36AE5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71680" y="185688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A new Federal Law on the Accounts Chamber of the Russian Federation was adopted in 201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Goal of the Chamber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: 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to choose and evaluate  the key national indicators of the social and economic development of the Russian Federation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Function of the Chamber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to make the proposals for  designing of the KNI systems which define the level and the quality of the social and economic development of the Russian Federation; 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as well as to choose the criteria and methods for its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54061"/>
                </a:solidFill>
                <a:latin typeface="Calibri"/>
              </a:rPr>
              <a:t>The Mandate of the Chamber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to analyze and to make the proposals for the macroeconomic and other key national indicators set of the social and economic development of the Russian Federation</a:t>
            </a:r>
            <a:r>
              <a:rPr b="0" lang="ru-RU" sz="1900" spc="-1" strike="noStrike">
                <a:solidFill>
                  <a:srgbClr val="254061"/>
                </a:solidFill>
                <a:latin typeface="Calibri"/>
              </a:rPr>
              <a:t>,  </a:t>
            </a:r>
            <a:r>
              <a:rPr b="0" lang="en-US" sz="1900" spc="-1" strike="noStrike">
                <a:solidFill>
                  <a:srgbClr val="254061"/>
                </a:solidFill>
                <a:latin typeface="Calibri"/>
              </a:rPr>
              <a:t>as well as for the criteria and methods of its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http://ppt.ru/images/gosorg/27700.gif"/>
          <p:cNvPicPr/>
          <p:nvPr/>
        </p:nvPicPr>
        <p:blipFill>
          <a:blip r:embed="rId1"/>
          <a:stretch/>
        </p:blipFill>
        <p:spPr>
          <a:xfrm>
            <a:off x="4071960" y="1071720"/>
            <a:ext cx="642960" cy="730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The Federal Law on the Accounts Chamber of the Russian Fed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The Transformation of the White Paper into the ISSAI </a:t>
            </a: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4" descr="Безымянный111.bmp"/>
          <p:cNvPicPr/>
          <p:nvPr/>
        </p:nvPicPr>
        <p:blipFill>
          <a:blip r:embed="rId1"/>
          <a:stretch/>
        </p:blipFill>
        <p:spPr>
          <a:xfrm>
            <a:off x="285840" y="1928880"/>
            <a:ext cx="337176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BCFD-7F7B-4F7C-8403-C8FEF1E0C4E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Выноска 1 (без границы) 5"/>
          <p:cNvGrpSpPr/>
          <p:nvPr/>
        </p:nvGrpSpPr>
        <p:grpSpPr>
          <a:xfrm>
            <a:off x="3322800" y="1914480"/>
            <a:ext cx="426960" cy="700200"/>
            <a:chOff x="3322800" y="1914480"/>
            <a:chExt cx="426960" cy="700200"/>
          </a:xfrm>
        </p:grpSpPr>
        <p:pic>
          <p:nvPicPr>
            <p:cNvPr id="111" name="Выноска 1 (без границы) 5" descr=""/>
            <p:cNvPicPr/>
            <p:nvPr/>
          </p:nvPicPr>
          <p:blipFill>
            <a:blip r:embed="rId2"/>
            <a:stretch/>
          </p:blipFill>
          <p:spPr>
            <a:xfrm>
              <a:off x="3322800" y="1944000"/>
              <a:ext cx="31320" cy="1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356640" y="1914480"/>
              <a:ext cx="3931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920">
                <a:buClr>
                  <a:srgbClr val="254061"/>
                </a:buClr>
                <a:buFont typeface="Arial"/>
                <a:buChar char="•"/>
                <a:tabLst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Methodology of the transformation</a:t>
              </a:r>
              <a:r>
                <a:rPr b="0" lang="ru-RU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the Due Process for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INTOSAI Professional Standar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buClr>
                  <a:srgbClr val="254061"/>
                </a:buClr>
                <a:buFont typeface="Arial"/>
                <a:buChar char="•"/>
                <a:tabLst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Studying the process for developme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ISSAI and INTOSAI GO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buClr>
                  <a:srgbClr val="254061"/>
                </a:buClr>
                <a:buFont typeface="Arial"/>
                <a:buChar char="•"/>
                <a:tabLst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Working out the Project proposal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the 1</a:t>
              </a:r>
              <a:r>
                <a:rPr b="0" lang="en-US" sz="2200" spc="-1" strike="noStrike" baseline="30000">
                  <a:solidFill>
                    <a:srgbClr val="254061"/>
                  </a:solidFill>
                  <a:latin typeface="Arial"/>
                  <a:ea typeface="Arial"/>
                </a:rPr>
                <a:t>st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Sta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buClr>
                  <a:srgbClr val="254061"/>
                </a:buClr>
                <a:buFont typeface="Arial"/>
                <a:buChar char="•"/>
                <a:tabLst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Dealing with the INTOSAI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254061"/>
                  </a:solidFill>
                  <a:latin typeface="Arial"/>
                  <a:ea typeface="Arial"/>
                </a:rPr>
                <a:t>Professional  Standard Committe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920">
                <a:buClr>
                  <a:srgbClr val="254061"/>
                </a:buClr>
                <a:buFont typeface="Arial"/>
                <a:buChar char="•"/>
                <a:tabLst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New Annexes to the White Paper on K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1356840"/>
            <a:ext cx="8143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The Principles for the development and use of the key national indicators 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nnex C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nalysis of opportunities on the use of KNI for international comparisons in the context of sustainable development and recommendations 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nnex D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SAI’s role in development and use of key national indicators for R&amp;D development 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nnex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E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5F3E-61F1-4DA1-A7C3-620B8D8FF5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  <a:ea typeface="Arial"/>
              </a:rPr>
              <a:t>KNIs Subprojects in the CIS Framewor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4061"/>
                </a:solidFill>
                <a:latin typeface="Calibri"/>
                <a:ea typeface="Arial"/>
              </a:rPr>
              <a:t>The 6</a:t>
            </a:r>
            <a:r>
              <a:rPr b="0" lang="en-US" sz="2600" spc="-1" strike="noStrike" baseline="30000">
                <a:solidFill>
                  <a:srgbClr val="254061"/>
                </a:solidFill>
                <a:latin typeface="Calibri"/>
                <a:ea typeface="Arial"/>
              </a:rPr>
              <a:t>th</a:t>
            </a:r>
            <a:r>
              <a:rPr b="0" lang="en-US" sz="2600" spc="-1" strike="noStrike">
                <a:solidFill>
                  <a:srgbClr val="254061"/>
                </a:solidFill>
                <a:latin typeface="Calibri"/>
                <a:ea typeface="Arial"/>
              </a:rPr>
              <a:t> Meeting of the Expert Group on KNI in Minsk (Republic of Belarus), June 6, 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54061"/>
                </a:solidFill>
                <a:latin typeface="Calibri"/>
                <a:ea typeface="Arial"/>
              </a:rPr>
              <a:t>The Documents</a:t>
            </a:r>
            <a:r>
              <a:rPr b="1" lang="ru-RU" sz="2600" spc="-1" strike="noStrike">
                <a:solidFill>
                  <a:srgbClr val="254061"/>
                </a:solidFill>
                <a:latin typeface="Calibri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Assessment of the possibilities for methodological comparability of the key national indicators of the CIS Member States” was adop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Summary table of the Passports of the indicators of the CIS Economic Development Strategy for the period up to 2020 was introduc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AB8C-E3BD-430B-B586-EDE028E6B00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76092"/>
                </a:solidFill>
                <a:latin typeface="Arial"/>
              </a:rPr>
              <a:t>Development of Cooperation in the Sphere of Progress Measurement with Relevant International Organizat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C99E-F9D0-489F-B7C1-3AA95DC7B5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Двойная стрелка влево/вправо 10"/>
          <p:cNvSpPr/>
          <p:nvPr/>
        </p:nvSpPr>
        <p:spPr>
          <a:xfrm>
            <a:off x="2647800" y="4214880"/>
            <a:ext cx="638280" cy="21600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войная стрелка влево/вправо 11"/>
          <p:cNvSpPr/>
          <p:nvPr/>
        </p:nvSpPr>
        <p:spPr>
          <a:xfrm rot="16200000">
            <a:off x="3893400" y="5036040"/>
            <a:ext cx="428760" cy="21420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Двойная стрелка влево/вправо 14"/>
          <p:cNvSpPr/>
          <p:nvPr/>
        </p:nvSpPr>
        <p:spPr>
          <a:xfrm>
            <a:off x="5786280" y="4214880"/>
            <a:ext cx="714600" cy="21420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Двойная стрелка влево/вправо 15"/>
          <p:cNvSpPr/>
          <p:nvPr/>
        </p:nvSpPr>
        <p:spPr>
          <a:xfrm rot="5400000">
            <a:off x="4893120" y="5036400"/>
            <a:ext cx="428760" cy="21420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войная стрелка влево/вправо 17"/>
          <p:cNvSpPr/>
          <p:nvPr/>
        </p:nvSpPr>
        <p:spPr>
          <a:xfrm rot="2906400">
            <a:off x="3666960" y="3386160"/>
            <a:ext cx="731880" cy="179280"/>
          </a:xfrm>
          <a:prstGeom prst="leftRight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Скругленный прямоугольник 21"/>
          <p:cNvGrpSpPr/>
          <p:nvPr/>
        </p:nvGrpSpPr>
        <p:grpSpPr>
          <a:xfrm>
            <a:off x="5041800" y="2114640"/>
            <a:ext cx="1846440" cy="982440"/>
            <a:chOff x="5041800" y="2114640"/>
            <a:chExt cx="1846440" cy="982440"/>
          </a:xfrm>
        </p:grpSpPr>
        <p:pic>
          <p:nvPicPr>
            <p:cNvPr id="127" name="Скругленный прямоугольник 21" descr=""/>
            <p:cNvPicPr/>
            <p:nvPr/>
          </p:nvPicPr>
          <p:blipFill>
            <a:blip r:embed="rId1"/>
            <a:stretch/>
          </p:blipFill>
          <p:spPr>
            <a:xfrm>
              <a:off x="5041800" y="2114640"/>
              <a:ext cx="18464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118120" y="2189160"/>
              <a:ext cx="16938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Скругленный прямоугольник 22"/>
          <p:cNvGrpSpPr/>
          <p:nvPr/>
        </p:nvGrpSpPr>
        <p:grpSpPr>
          <a:xfrm>
            <a:off x="2114640" y="2114640"/>
            <a:ext cx="1841400" cy="982440"/>
            <a:chOff x="2114640" y="2114640"/>
            <a:chExt cx="1841400" cy="982440"/>
          </a:xfrm>
        </p:grpSpPr>
        <p:pic>
          <p:nvPicPr>
            <p:cNvPr id="130" name="Скругленный прямоугольник 22" descr=""/>
            <p:cNvPicPr/>
            <p:nvPr/>
          </p:nvPicPr>
          <p:blipFill>
            <a:blip r:embed="rId2"/>
            <a:stretch/>
          </p:blipFill>
          <p:spPr>
            <a:xfrm>
              <a:off x="2114640" y="2114640"/>
              <a:ext cx="184140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189160" y="2189160"/>
              <a:ext cx="16938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r>
                <a:rPr b="1" lang="fr-FR" sz="2800" spc="-1" strike="noStrike">
                  <a:solidFill>
                    <a:srgbClr val="ffffff"/>
                  </a:solidFill>
                  <a:latin typeface="Calibri"/>
                </a:rPr>
                <a:t>E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Скругленный прямоугольник 23"/>
          <p:cNvGrpSpPr/>
          <p:nvPr/>
        </p:nvGrpSpPr>
        <p:grpSpPr>
          <a:xfrm>
            <a:off x="3402000" y="3828960"/>
            <a:ext cx="2340000" cy="1127160"/>
            <a:chOff x="3402000" y="3828960"/>
            <a:chExt cx="2340000" cy="1127160"/>
          </a:xfrm>
        </p:grpSpPr>
        <p:pic>
          <p:nvPicPr>
            <p:cNvPr id="133" name="Скругленный прямоугольник 23" descr=""/>
            <p:cNvPicPr/>
            <p:nvPr/>
          </p:nvPicPr>
          <p:blipFill>
            <a:blip r:embed="rId3"/>
            <a:stretch/>
          </p:blipFill>
          <p:spPr>
            <a:xfrm>
              <a:off x="3402000" y="3828960"/>
              <a:ext cx="23400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481560" y="3909960"/>
              <a:ext cx="21808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54061"/>
                  </a:solidFill>
                  <a:latin typeface="Calibri"/>
                </a:rPr>
                <a:t>INTOSA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Скругленный прямоугольник 26"/>
          <p:cNvGrpSpPr/>
          <p:nvPr/>
        </p:nvGrpSpPr>
        <p:grpSpPr>
          <a:xfrm>
            <a:off x="3687840" y="5327640"/>
            <a:ext cx="1841400" cy="987480"/>
            <a:chOff x="3687840" y="5327640"/>
            <a:chExt cx="1841400" cy="987480"/>
          </a:xfrm>
        </p:grpSpPr>
        <p:pic>
          <p:nvPicPr>
            <p:cNvPr id="136" name="Скругленный прямоугольник 26" descr=""/>
            <p:cNvPicPr/>
            <p:nvPr/>
          </p:nvPicPr>
          <p:blipFill>
            <a:blip r:embed="rId4"/>
            <a:stretch/>
          </p:blipFill>
          <p:spPr>
            <a:xfrm>
              <a:off x="3687840" y="5327640"/>
              <a:ext cx="18414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760920" y="5403960"/>
              <a:ext cx="16938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Other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organiz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Скругленный прямоугольник 28"/>
          <p:cNvGrpSpPr/>
          <p:nvPr/>
        </p:nvGrpSpPr>
        <p:grpSpPr>
          <a:xfrm>
            <a:off x="755640" y="3902040"/>
            <a:ext cx="1841400" cy="981000"/>
            <a:chOff x="755640" y="3902040"/>
            <a:chExt cx="1841400" cy="981000"/>
          </a:xfrm>
        </p:grpSpPr>
        <p:pic>
          <p:nvPicPr>
            <p:cNvPr id="139" name="Скругленный прямоугольник 28" descr=""/>
            <p:cNvPicPr/>
            <p:nvPr/>
          </p:nvPicPr>
          <p:blipFill>
            <a:blip r:embed="rId5"/>
            <a:stretch/>
          </p:blipFill>
          <p:spPr>
            <a:xfrm>
              <a:off x="755640" y="3902040"/>
              <a:ext cx="18414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31960" y="3975120"/>
              <a:ext cx="16938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W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Скругленный прямоугольник 29"/>
          <p:cNvGrpSpPr/>
          <p:nvPr/>
        </p:nvGrpSpPr>
        <p:grpSpPr>
          <a:xfrm>
            <a:off x="6686640" y="3828960"/>
            <a:ext cx="1841400" cy="987480"/>
            <a:chOff x="6686640" y="3828960"/>
            <a:chExt cx="1841400" cy="987480"/>
          </a:xfrm>
        </p:grpSpPr>
        <p:pic>
          <p:nvPicPr>
            <p:cNvPr id="142" name="Скругленный прямоугольник 29" descr=""/>
            <p:cNvPicPr/>
            <p:nvPr/>
          </p:nvPicPr>
          <p:blipFill>
            <a:blip r:embed="rId6"/>
            <a:stretch/>
          </p:blipFill>
          <p:spPr>
            <a:xfrm>
              <a:off x="6686640" y="3828960"/>
              <a:ext cx="18414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761160" y="3903840"/>
              <a:ext cx="16938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U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Двойная стрелка влево/вправо 30"/>
          <p:cNvSpPr/>
          <p:nvPr/>
        </p:nvSpPr>
        <p:spPr>
          <a:xfrm rot="7832400">
            <a:off x="4797000" y="3388680"/>
            <a:ext cx="731880" cy="179640"/>
          </a:xfrm>
          <a:prstGeom prst="leftRightArrow">
            <a:avLst>
              <a:gd name="adj1" fmla="val 50000"/>
              <a:gd name="adj2" fmla="val 499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Database on KNI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5661-D112-4B6D-B8FB-59761B033D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" descr="БАЗА.bmp"/>
          <p:cNvPicPr/>
          <p:nvPr/>
        </p:nvPicPr>
        <p:blipFill>
          <a:blip r:embed="rId1"/>
          <a:stretch/>
        </p:blipFill>
        <p:spPr>
          <a:xfrm>
            <a:off x="1000080" y="900000"/>
            <a:ext cx="728676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Main Priority Areas of Activity </a:t>
            </a:r>
            <a:br>
              <a:rPr sz="3800"/>
            </a:br>
            <a:r>
              <a:rPr b="1" lang="en-US" sz="3800" spc="-1" strike="noStrike">
                <a:solidFill>
                  <a:srgbClr val="376092"/>
                </a:solidFill>
                <a:latin typeface="Calibri"/>
                <a:ea typeface="Arial"/>
              </a:rPr>
              <a:t>for 2014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  <a:ea typeface="Arial"/>
              </a:rPr>
              <a:t>The preparation of the project proposal 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for the new ISSAI on the KNI’s use on the basis of the White Paper on K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Realization of the initiative of the SAI of Hungary at evaluating strategies for the national (regional) development with application of key sustainability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Development of the cooperation with the OECD, WB and other international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8F8A-6CE8-4D2C-ACA3-157679A9FFC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user</cp:lastModifiedBy>
  <dcterms:modified xsi:type="dcterms:W3CDTF">2014-02-21T10:42:31Z</dcterms:modified>
  <cp:revision>289</cp:revision>
  <dc:subject/>
  <dc:title>Слайд 1</dc:title>
</cp:coreProperties>
</file>