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3C2-0952-4E7A-B35E-ADC8B571C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A34B-EA96-4688-AE79-B156ABCD298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B02-0994-4036-9A93-CA69D1056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4800-368A-44CD-B3FE-AD42A8BAC6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44E-0477-4AD9-A34E-F5A6B11CB3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21F-06BE-42D3-A5F2-CDA5450BC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37E-3667-41CB-8275-738E2CDBB9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725-E4B7-48AD-91E3-FDB4FD3E6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442-4223-4008-8804-AFACA7C8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307-929D-4C27-B0B8-C69A2747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956-8FAC-4E4B-A25E-1ACE737E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025-12DE-45F0-950E-CDED652B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50E6-500A-4D1B-9FC6-DD1C860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544D-C33E-4072-9BA5-19F6168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826-5C68-47F7-8B60-B9384B2C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616-4E39-45CC-9E6D-9A7153C1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75A-9681-415D-85E9-0F8BDD3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6C0-837F-4424-A8DF-6CCA01A2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A12-E98D-466A-BD72-6AEE4EA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A01-4A5B-4C77-85DC-FF224492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F9C8-1FFC-4083-A210-A5CF8FA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349-D7D5-4321-9977-AD1458F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85FF-F770-4F86-A6C4-151A33C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9D4E-54B3-4150-9EAC-2074E95B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A5C5-0FF6-4719-B45B-6715BEEC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41B-89A3-47AF-ABEB-E10501B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6CE-6E16-4718-A34E-BEE654E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ADF-D4CC-409B-AA91-D5B9E3A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AE-D543-4245-A39A-A60A339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E8E-A329-48D1-8A49-A9EFAE1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29D-5065-4B09-A25E-D929ACC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FAB-0672-43FC-B123-0F30C91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A19-AE83-4B0B-AD2C-46C7A64E612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3E8F-7DA8-4214-9E1E-A687640873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9C8-C875-47A7-A380-15CEEE617B06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894-8DFF-46DE-93D4-E3976048AA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357120"/>
            <a:ext cx="9144000" cy="6043680"/>
            <a:chOff x="0" y="357120"/>
            <a:chExt cx="9144000" cy="6043680"/>
          </a:xfrm>
        </p:grpSpPr>
        <p:sp>
          <p:nvSpPr>
            <p:cNvPr id="90" name="Rectangle 4"/>
            <p:cNvSpPr/>
            <p:nvPr/>
          </p:nvSpPr>
          <p:spPr>
            <a:xfrm>
              <a:off x="108000" y="20401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428760" y="357120"/>
              <a:ext cx="871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Arial"/>
                </a:rPr>
                <a:t>The </a:t>
              </a:r>
              <a:r>
                <a:rPr b="1" lang="ru-RU" sz="2400" spc="-1" strike="noStrike">
                  <a:solidFill>
                    <a:srgbClr val="376092"/>
                  </a:solidFill>
                  <a:latin typeface="Arial"/>
                </a:rPr>
                <a:t>7</a:t>
              </a:r>
              <a:r>
                <a:rPr b="1" lang="en-US" sz="2400" spc="-1" strike="noStrike" baseline="30000">
                  <a:solidFill>
                    <a:srgbClr val="376092"/>
                  </a:solidFill>
                  <a:latin typeface="Arial"/>
                </a:rPr>
                <a:t>th</a:t>
              </a:r>
              <a:r>
                <a:rPr b="1" lang="en-US" sz="2400" spc="-1" strike="noStrike">
                  <a:solidFill>
                    <a:srgbClr val="376092"/>
                  </a:solidFill>
                  <a:latin typeface="Arial"/>
                </a:rPr>
                <a:t> Meeting of the</a:t>
              </a:r>
              <a:r>
                <a:rPr b="1" lang="en-US" sz="2400" spc="-1" strike="noStrike">
                  <a:solidFill>
                    <a:srgbClr val="376092"/>
                  </a:solidFill>
                  <a:latin typeface="Arial"/>
                  <a:ea typeface="宋体"/>
                </a:rPr>
                <a:t> INTOSAI Working Group on Key National Indica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46400"/>
              <a:ext cx="9144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</a:t>
              </a:r>
              <a:r>
                <a:rPr b="1" lang="ru-RU" sz="4000" spc="-1" strike="noStrike">
                  <a:solidFill>
                    <a:srgbClr val="376092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3 - 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February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60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015360" y="62150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Bali, February 25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0" y="4786200"/>
            <a:ext cx="671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Calibri"/>
              </a:rPr>
              <a:t>Tatiana Manuy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Calibri"/>
              </a:rPr>
              <a:t>The Auditor of the Accounts Chamber of the Russian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  <a:ea typeface="Arial"/>
              </a:rPr>
              <a:t>Thank you</a:t>
            </a:r>
            <a:r>
              <a:rPr b="1" lang="ru-RU" sz="6000" spc="-1" strike="noStrike">
                <a:solidFill>
                  <a:srgbClr val="376092"/>
                </a:solidFill>
                <a:latin typeface="Calibri"/>
                <a:ea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2876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6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Meeting of the INTOSAI WG on KNI in Krakow (Poland), April 22-24, 2013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Priority areas of WG activity for the period 2013 –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5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Meeting of the Steering Committee on Knowledge Sharing and Knowledge Services, New Delhi (India), September 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16-17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013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64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INTOSAI Governing Board meeting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Beijing (China), September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1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013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Priority areas of WG activity for the period 2013 –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E4A-0186-45D7-A240-1694F4833A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ain Results of the Working Group Activity</a:t>
            </a:r>
            <a:br>
              <a:rPr sz="3600"/>
            </a:b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 in 2011 -20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A7AA-21A6-4F9A-BA7A-EF24429763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680" y="18568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A new Federal Law on the Accounts Chamber of the Russian Federation was adopted in 201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Goal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choose and evaluate  the key national indicators of the social and economic development of the Russian Federation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Function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make the proposals for  designing of the KNI systems which define the level and the quality of the social and economic development of the Russian Federation; 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as well as to choose the criteria and methods for its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Mandate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analyze and to make the proposals for the macroeconomic and other key national indicators set of the social and economic development of the Russian Federation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,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as well as for the criteria and methods of its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://ppt.ru/images/gosorg/27700.gif"/>
          <p:cNvPicPr/>
          <p:nvPr/>
        </p:nvPicPr>
        <p:blipFill>
          <a:blip r:embed="rId1"/>
          <a:stretch/>
        </p:blipFill>
        <p:spPr>
          <a:xfrm>
            <a:off x="4071960" y="1071720"/>
            <a:ext cx="642960" cy="730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Federal Law on the Accounts Chamber of the Russian Fed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Transformation of the White Paper into the ISSAI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Безымянный111.bmp"/>
          <p:cNvPicPr/>
          <p:nvPr/>
        </p:nvPicPr>
        <p:blipFill>
          <a:blip r:embed="rId1"/>
          <a:stretch/>
        </p:blipFill>
        <p:spPr>
          <a:xfrm>
            <a:off x="285840" y="1928880"/>
            <a:ext cx="337176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03BA-FF94-499F-9D99-EA05A63178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Выноска 1 (без границы) 5"/>
          <p:cNvGrpSpPr/>
          <p:nvPr/>
        </p:nvGrpSpPr>
        <p:grpSpPr>
          <a:xfrm>
            <a:off x="3322800" y="1914480"/>
            <a:ext cx="426960" cy="700200"/>
            <a:chOff x="3322800" y="1914480"/>
            <a:chExt cx="426960" cy="700200"/>
          </a:xfrm>
        </p:grpSpPr>
        <p:pic>
          <p:nvPicPr>
            <p:cNvPr id="111" name="Выноска 1 (без границы) 5" descr=""/>
            <p:cNvPicPr/>
            <p:nvPr/>
          </p:nvPicPr>
          <p:blipFill>
            <a:blip r:embed="rId2"/>
            <a:stretch/>
          </p:blipFill>
          <p:spPr>
            <a:xfrm>
              <a:off x="3322800" y="1944000"/>
              <a:ext cx="31320" cy="1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56640" y="1914480"/>
              <a:ext cx="3931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Methodology of the transformation</a:t>
              </a:r>
              <a:r>
                <a:rPr b="0" lang="ru-RU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the Due Process for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INTOSAI Professional Standar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Studying the process for develop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ISSAI and INTOSAI GO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Working out the Project proposal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the 1</a:t>
              </a:r>
              <a:r>
                <a:rPr b="0" lang="en-US" sz="2200" spc="-1" strike="noStrike" baseline="30000">
                  <a:solidFill>
                    <a:srgbClr val="254061"/>
                  </a:solidFill>
                  <a:latin typeface="Arial"/>
                  <a:ea typeface="Arial"/>
                </a:rPr>
                <a:t>st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St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Dealing with the INTOSAI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Professional  Standard Committe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New Annexes to the White Paper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356840"/>
            <a:ext cx="8143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he Principles for the development and use of the key national indicators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 C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alysis of opportunities on the use of KNI for international comparisons in the context of sustainable development and recommendations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 D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AI’s role in development and use of key national indicators for R&amp;D development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4AB7-68A5-464E-BA28-4A5E87F866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KNIs Subprojects in the CIS Frame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The 6</a:t>
            </a:r>
            <a:r>
              <a:rPr b="0" lang="en-US" sz="2600" spc="-1" strike="noStrike" baseline="30000">
                <a:solidFill>
                  <a:srgbClr val="254061"/>
                </a:solidFill>
                <a:latin typeface="Calibri"/>
                <a:ea typeface="Arial"/>
              </a:rPr>
              <a:t>th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 Meeting of the Expert Group on KNI in Minsk (Republic of Belarus), June 6, 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The Documents</a:t>
            </a:r>
            <a:r>
              <a:rPr b="1" lang="ru-RU" sz="2600" spc="-1" strike="noStrike">
                <a:solidFill>
                  <a:srgbClr val="254061"/>
                </a:solidFill>
                <a:latin typeface="Calibri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Assessment of the possibilities for methodological comparability of the key national indicators of the CIS Member States” was adop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Summary table of the Passports of the indicators of the CIS Economic Development Strategy for the period up to 2020 was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CE4-0481-47D4-9049-4C0BA9ACDF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76092"/>
                </a:solidFill>
                <a:latin typeface="Arial"/>
              </a:rPr>
              <a:t>Development of Cooperation in the Sphere of Progress Measurement with Relevant International Organiza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793-9861-4D5B-B5D7-73C1D294E2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войная стрелка влево/вправо 10"/>
          <p:cNvSpPr/>
          <p:nvPr/>
        </p:nvSpPr>
        <p:spPr>
          <a:xfrm>
            <a:off x="2647800" y="4214880"/>
            <a:ext cx="638280" cy="2160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войная стрелка влево/вправо 11"/>
          <p:cNvSpPr/>
          <p:nvPr/>
        </p:nvSpPr>
        <p:spPr>
          <a:xfrm rot="16200000">
            <a:off x="3893400" y="5036040"/>
            <a:ext cx="42876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войная стрелка влево/вправо 14"/>
          <p:cNvSpPr/>
          <p:nvPr/>
        </p:nvSpPr>
        <p:spPr>
          <a:xfrm>
            <a:off x="5786280" y="4214880"/>
            <a:ext cx="71460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войная стрелка влево/вправо 15"/>
          <p:cNvSpPr/>
          <p:nvPr/>
        </p:nvSpPr>
        <p:spPr>
          <a:xfrm rot="5400000">
            <a:off x="4893120" y="5036400"/>
            <a:ext cx="42876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17"/>
          <p:cNvSpPr/>
          <p:nvPr/>
        </p:nvSpPr>
        <p:spPr>
          <a:xfrm rot="2906400">
            <a:off x="3666960" y="3386160"/>
            <a:ext cx="731880" cy="179280"/>
          </a:xfrm>
          <a:prstGeom prst="leftRight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Скругленный прямоугольник 21"/>
          <p:cNvGrpSpPr/>
          <p:nvPr/>
        </p:nvGrpSpPr>
        <p:grpSpPr>
          <a:xfrm>
            <a:off x="5041800" y="2114640"/>
            <a:ext cx="1846440" cy="982440"/>
            <a:chOff x="5041800" y="2114640"/>
            <a:chExt cx="1846440" cy="982440"/>
          </a:xfrm>
        </p:grpSpPr>
        <p:pic>
          <p:nvPicPr>
            <p:cNvPr id="127" name="Скругленный 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5041800" y="2114640"/>
              <a:ext cx="18464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18120" y="21891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22"/>
          <p:cNvGrpSpPr/>
          <p:nvPr/>
        </p:nvGrpSpPr>
        <p:grpSpPr>
          <a:xfrm>
            <a:off x="2114640" y="2114640"/>
            <a:ext cx="1841400" cy="982440"/>
            <a:chOff x="2114640" y="2114640"/>
            <a:chExt cx="1841400" cy="982440"/>
          </a:xfrm>
        </p:grpSpPr>
        <p:pic>
          <p:nvPicPr>
            <p:cNvPr id="130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2114640" y="2114640"/>
              <a:ext cx="184140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189160" y="21891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E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23"/>
          <p:cNvGrpSpPr/>
          <p:nvPr/>
        </p:nvGrpSpPr>
        <p:grpSpPr>
          <a:xfrm>
            <a:off x="3402000" y="3828960"/>
            <a:ext cx="2340000" cy="1127160"/>
            <a:chOff x="3402000" y="3828960"/>
            <a:chExt cx="2340000" cy="1127160"/>
          </a:xfrm>
        </p:grpSpPr>
        <p:pic>
          <p:nvPicPr>
            <p:cNvPr id="133" name="Скругленный прямоугольник 23" descr=""/>
            <p:cNvPicPr/>
            <p:nvPr/>
          </p:nvPicPr>
          <p:blipFill>
            <a:blip r:embed="rId3"/>
            <a:stretch/>
          </p:blipFill>
          <p:spPr>
            <a:xfrm>
              <a:off x="3402000" y="3828960"/>
              <a:ext cx="23400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81560" y="3909960"/>
              <a:ext cx="21808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54061"/>
                  </a:solidFill>
                  <a:latin typeface="Calibri"/>
                </a:rPr>
                <a:t>INTOS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26"/>
          <p:cNvGrpSpPr/>
          <p:nvPr/>
        </p:nvGrpSpPr>
        <p:grpSpPr>
          <a:xfrm>
            <a:off x="3687840" y="5327640"/>
            <a:ext cx="1841400" cy="987480"/>
            <a:chOff x="3687840" y="5327640"/>
            <a:chExt cx="1841400" cy="987480"/>
          </a:xfrm>
        </p:grpSpPr>
        <p:pic>
          <p:nvPicPr>
            <p:cNvPr id="136" name="Скругленный прямоугольник 26" descr=""/>
            <p:cNvPicPr/>
            <p:nvPr/>
          </p:nvPicPr>
          <p:blipFill>
            <a:blip r:embed="rId4"/>
            <a:stretch/>
          </p:blipFill>
          <p:spPr>
            <a:xfrm>
              <a:off x="3687840" y="5327640"/>
              <a:ext cx="18414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760920" y="54039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28"/>
          <p:cNvGrpSpPr/>
          <p:nvPr/>
        </p:nvGrpSpPr>
        <p:grpSpPr>
          <a:xfrm>
            <a:off x="755640" y="3902040"/>
            <a:ext cx="1841400" cy="981000"/>
            <a:chOff x="755640" y="3902040"/>
            <a:chExt cx="1841400" cy="981000"/>
          </a:xfrm>
        </p:grpSpPr>
        <p:pic>
          <p:nvPicPr>
            <p:cNvPr id="139" name="Скругленный прямоугольник 28" descr=""/>
            <p:cNvPicPr/>
            <p:nvPr/>
          </p:nvPicPr>
          <p:blipFill>
            <a:blip r:embed="rId5"/>
            <a:stretch/>
          </p:blipFill>
          <p:spPr>
            <a:xfrm>
              <a:off x="755640" y="3902040"/>
              <a:ext cx="1841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31960" y="397512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Скругленный прямоугольник 29"/>
          <p:cNvGrpSpPr/>
          <p:nvPr/>
        </p:nvGrpSpPr>
        <p:grpSpPr>
          <a:xfrm>
            <a:off x="6686640" y="3828960"/>
            <a:ext cx="1841400" cy="987480"/>
            <a:chOff x="6686640" y="3828960"/>
            <a:chExt cx="1841400" cy="987480"/>
          </a:xfrm>
        </p:grpSpPr>
        <p:pic>
          <p:nvPicPr>
            <p:cNvPr id="142" name="Скругленный 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6686640" y="3828960"/>
              <a:ext cx="18414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761160" y="3903840"/>
              <a:ext cx="16938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Двойная стрелка влево/вправо 30"/>
          <p:cNvSpPr/>
          <p:nvPr/>
        </p:nvSpPr>
        <p:spPr>
          <a:xfrm rot="7832400">
            <a:off x="4797000" y="3388680"/>
            <a:ext cx="731880" cy="179640"/>
          </a:xfrm>
          <a:prstGeom prst="leftRightArrow">
            <a:avLst>
              <a:gd name="adj1" fmla="val 50000"/>
              <a:gd name="adj2" fmla="val 499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Database on KN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956-F9E7-494F-A6FA-B9C7F9525A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БАЗА.bmp"/>
          <p:cNvPicPr/>
          <p:nvPr/>
        </p:nvPicPr>
        <p:blipFill>
          <a:blip r:embed="rId1"/>
          <a:stretch/>
        </p:blipFill>
        <p:spPr>
          <a:xfrm>
            <a:off x="1000080" y="900000"/>
            <a:ext cx="72867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Main 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4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  <a:ea typeface="Arial"/>
              </a:rPr>
              <a:t>The preparation of the project proposal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or the new ISSAI on the KNI’s use on the basis of the White Paper on K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Realization of the initiative of the SAI of Hungary at evaluating strategies for the national (regional) development with application of key sustainability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Development of the cooperation with the OECD, WB and other internation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B148-253A-4103-90EB-8F34E1BCF2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user</cp:lastModifiedBy>
  <dcterms:modified xsi:type="dcterms:W3CDTF">2014-02-21T10:42:31Z</dcterms:modified>
  <cp:revision>289</cp:revision>
  <dc:subject/>
  <dc:title>Слайд 1</dc:title>
</cp:coreProperties>
</file>