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4023-B6CD-4E50-A326-4B92A9EEC9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758E-03E3-4E53-864A-4462388D1C5B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BE3-3328-464C-8550-BF592E38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CB3C-EC9F-4DBA-B586-93FD05A2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BC25-F98B-4B0E-83FF-BECD891C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F535-6891-433E-BDA7-96A27E8F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E9E5-31EA-43C2-92E2-DD4F5E1B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B3CD-4795-4BDA-9EDE-A6F9C693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1680-038B-4694-BD5A-82F56941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EAAB-3490-4053-AB6C-B4A2AC10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8D75-D7C8-4F45-8A99-0B9C8DF4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3536-DAE3-4677-B76C-D6A8918E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B4B1-7A00-4E45-BF1E-F5BBE844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0DF-0074-436C-AEA7-D96B8004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E44B-CD06-4A43-8E35-8E2AC399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B297-2F91-40E0-8189-5AA58FCE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78F7-EBDB-43FA-9565-D5CDD26A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F09F-250A-4698-81EC-9738237A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11B1-A6D5-4412-A2CB-62AEBBF6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255-DE2B-4EF6-B422-A7428CDF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B55-7865-4811-A1BB-58CBC865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5CC-A9F2-4719-9DF6-8790A0CB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540-48F4-4FBA-BC82-12F9025A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694-CDC3-4C64-9150-35E860DA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F78D-BF32-4C48-BF7C-8E055524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3006-1D8D-4D23-9259-96FF0F14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E5A7-B695-44DA-BFC3-0867AEFD5012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FD7E-196C-4121-BBDC-9A2184EBAFE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9C45-5695-4806-B258-DC07543B583B}" type="datetime">
              <a:rPr b="0" lang="ru-RU" sz="1200" spc="-1" strike="noStrike">
                <a:solidFill>
                  <a:srgbClr val="898989"/>
                </a:solidFill>
                <a:latin typeface="Arial"/>
                <a:ea typeface="宋体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E1B4-ED28-45D7-B266-B6964027047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3"/>
          <p:cNvGrpSpPr/>
          <p:nvPr/>
        </p:nvGrpSpPr>
        <p:grpSpPr>
          <a:xfrm>
            <a:off x="0" y="357120"/>
            <a:ext cx="9144000" cy="6043680"/>
            <a:chOff x="0" y="357120"/>
            <a:chExt cx="9144000" cy="6043680"/>
          </a:xfrm>
        </p:grpSpPr>
        <p:sp>
          <p:nvSpPr>
            <p:cNvPr id="90" name="Rectangle 4"/>
            <p:cNvSpPr/>
            <p:nvPr/>
          </p:nvSpPr>
          <p:spPr>
            <a:xfrm>
              <a:off x="108000" y="2040120"/>
              <a:ext cx="871380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br>
                <a:rPr sz="2900"/>
              </a:br>
              <a:br>
                <a:rPr sz="2900"/>
              </a:b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428760" y="357120"/>
              <a:ext cx="8715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376092"/>
                  </a:solidFill>
                  <a:latin typeface="Arial"/>
                </a:rPr>
                <a:t>The </a:t>
              </a:r>
              <a:r>
                <a:rPr b="1" lang="ru-RU" sz="2700" spc="-1" strike="noStrike">
                  <a:solidFill>
                    <a:srgbClr val="376092"/>
                  </a:solidFill>
                  <a:latin typeface="Arial"/>
                </a:rPr>
                <a:t>6</a:t>
              </a:r>
              <a:r>
                <a:rPr b="1" lang="en-US" sz="2700" spc="-1" strike="noStrike" baseline="30000">
                  <a:solidFill>
                    <a:srgbClr val="376092"/>
                  </a:solidFill>
                  <a:latin typeface="Arial"/>
                </a:rPr>
                <a:t>th</a:t>
              </a:r>
              <a:r>
                <a:rPr b="1" lang="en-US" sz="2700" spc="-1" strike="noStrike">
                  <a:solidFill>
                    <a:srgbClr val="376092"/>
                  </a:solidFill>
                  <a:latin typeface="Arial"/>
                </a:rPr>
                <a:t> Meeting of the</a:t>
              </a:r>
              <a:r>
                <a:rPr b="1" lang="en-US" sz="2800" spc="-1" strike="noStrike">
                  <a:solidFill>
                    <a:srgbClr val="376092"/>
                  </a:solidFill>
                  <a:latin typeface="Arial"/>
                  <a:ea typeface="宋体"/>
                </a:rPr>
                <a:t> INTOSAI Working Group on Key National Indicato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0" y="2246400"/>
              <a:ext cx="91440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76092"/>
                  </a:solidFill>
                  <a:latin typeface="Arial"/>
                </a:rPr>
                <a:t>REPORT ON THE </a:t>
              </a:r>
              <a:r>
                <a:rPr b="1" lang="en-US" sz="4000" spc="-1" strike="noStrike">
                  <a:solidFill>
                    <a:srgbClr val="376092"/>
                  </a:solidFill>
                  <a:latin typeface="Arial"/>
                  <a:ea typeface="宋体"/>
                </a:rPr>
                <a:t>WORKING GROUP </a:t>
              </a:r>
              <a:r>
                <a:rPr b="1" lang="en-US" sz="4000" spc="-1" strike="noStrike">
                  <a:solidFill>
                    <a:srgbClr val="376092"/>
                  </a:solidFill>
                  <a:latin typeface="Arial"/>
                </a:rPr>
                <a:t>ACTIVITY</a:t>
              </a:r>
              <a:r>
                <a:rPr b="1" lang="ru-RU" sz="4000" spc="-1" strike="noStrike">
                  <a:solidFill>
                    <a:srgbClr val="376092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Arial"/>
                </a:rPr>
                <a:t>(</a:t>
              </a:r>
              <a:r>
                <a:rPr b="1" lang="en-US" sz="2800" spc="-1" strike="noStrike">
                  <a:solidFill>
                    <a:srgbClr val="376092"/>
                  </a:solidFill>
                  <a:latin typeface="Arial"/>
                </a:rPr>
                <a:t>April</a:t>
              </a:r>
              <a:r>
                <a:rPr b="1" lang="ru-RU" sz="2800" spc="-1" strike="noStrike">
                  <a:solidFill>
                    <a:srgbClr val="376092"/>
                  </a:solidFill>
                  <a:latin typeface="Arial"/>
                </a:rPr>
                <a:t> 2012 - </a:t>
              </a:r>
              <a:r>
                <a:rPr b="1" lang="en-US" sz="2800" spc="-1" strike="noStrike">
                  <a:solidFill>
                    <a:srgbClr val="376092"/>
                  </a:solidFill>
                  <a:latin typeface="Arial"/>
                </a:rPr>
                <a:t>April</a:t>
              </a:r>
              <a:r>
                <a:rPr b="1" lang="ru-RU" sz="2800" spc="-1" strike="noStrike">
                  <a:solidFill>
                    <a:srgbClr val="376092"/>
                  </a:solidFill>
                  <a:latin typeface="Arial"/>
                </a:rPr>
                <a:t> 201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3041640" y="600084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Прямоугольник 11"/>
          <p:cNvSpPr/>
          <p:nvPr/>
        </p:nvSpPr>
        <p:spPr>
          <a:xfrm>
            <a:off x="3008160" y="6215040"/>
            <a:ext cx="29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Arial"/>
              </a:rPr>
              <a:t>Krakow</a:t>
            </a: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76092"/>
                </a:solidFill>
                <a:latin typeface="Arial"/>
              </a:rPr>
              <a:t>April </a:t>
            </a: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22-24</a:t>
            </a:r>
            <a:r>
              <a:rPr b="1" lang="en-US" sz="1800" spc="-1" strike="noStrike">
                <a:solidFill>
                  <a:srgbClr val="376092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 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76092"/>
                </a:solidFill>
                <a:latin typeface="Calibri"/>
                <a:ea typeface="Arial"/>
              </a:rPr>
              <a:t>Priority areas of activity </a:t>
            </a:r>
            <a:br>
              <a:rPr sz="3800"/>
            </a:br>
            <a:r>
              <a:rPr b="1" lang="en-US" sz="3800" spc="-1" strike="noStrike">
                <a:solidFill>
                  <a:srgbClr val="376092"/>
                </a:solidFill>
                <a:latin typeface="Calibri"/>
                <a:ea typeface="Arial"/>
              </a:rPr>
              <a:t>for 2013-2016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lot audits aimed at evaluating strategies for the national (regional) development with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plication of key sustainability indica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a second phase of the subproject "Analysis of opportunities on the use of KNI for international comparisons in the context of sustainable development and recommendations“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cooperation in the sphere of progress measurement with relevant international organizations. Widening the scope of cooperation with the OECD, WB, WEF, and other institution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ing exchange of information and possible WG members’ participation in the preparation of reports on national welfare and development prospect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approaches and methods for the organization of trainings for SAIs’ staff on the use of KNIs in audit activiti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3DB0-F62D-40D4-9A9A-C8EECF10A28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76092"/>
                </a:solidFill>
                <a:latin typeface="Calibri"/>
                <a:ea typeface="Arial"/>
              </a:rPr>
              <a:t>Priority areas of activity </a:t>
            </a:r>
            <a:br>
              <a:rPr sz="3800"/>
            </a:br>
            <a:r>
              <a:rPr b="1" lang="en-US" sz="3800" spc="-1" strike="noStrike">
                <a:solidFill>
                  <a:srgbClr val="376092"/>
                </a:solidFill>
                <a:latin typeface="Calibri"/>
                <a:ea typeface="Arial"/>
              </a:rPr>
              <a:t>for 2013-2016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28760" y="1714320"/>
            <a:ext cx="822960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ological and information support of the KNIs identification for the evaluation of the imbalances of the global econom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earch on the use of KNIs in the evaluation of the effectiveness of national public procurement systems as a tool for implementation of strategic objectives of the socio-economic develop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technology based information tools for selection and assessment of KNI, including the visualization of research result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1C84-D2F1-4518-A132-77D91C1173E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76092"/>
                </a:solidFill>
                <a:latin typeface="Calibri"/>
              </a:rPr>
              <a:t>Members and Observers of the Working Group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643040" y="1428480"/>
            <a:ext cx="35006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Aust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Arme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Bulgari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Hungar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Indone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Ita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Kazakhst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Ch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Latv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Lithu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Moroc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FD95-C08E-411C-A278-DC32B783EEA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857840" y="1428840"/>
            <a:ext cx="400032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Me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Mold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Slovak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Republic of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2214720" y="857160"/>
            <a:ext cx="441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ing Group Member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226320" y="514368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er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4972680" y="564372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ana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Kirgiz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643040" y="564372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rgen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Bela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9"/>
          <p:cNvSpPr/>
          <p:nvPr/>
        </p:nvSpPr>
        <p:spPr>
          <a:xfrm rot="1836000">
            <a:off x="3214800" y="4471920"/>
            <a:ext cx="785880" cy="21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Calibri"/>
              </a:rPr>
              <a:t>ne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10"/>
          <p:cNvSpPr/>
          <p:nvPr/>
        </p:nvSpPr>
        <p:spPr>
          <a:xfrm rot="1836000">
            <a:off x="6357600" y="1757520"/>
            <a:ext cx="785880" cy="214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Calibri"/>
              </a:rPr>
              <a:t>ne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11"/>
          <p:cNvSpPr/>
          <p:nvPr/>
        </p:nvSpPr>
        <p:spPr>
          <a:xfrm rot="1836000">
            <a:off x="3214800" y="5614920"/>
            <a:ext cx="785880" cy="21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Calibri"/>
              </a:rPr>
              <a:t>ne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Web-site of the INTOSAI Working Group on K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432A-FF23-4209-BA70-D8BB906561F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214200" y="2857680"/>
            <a:ext cx="85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ww.ach.gov.ru/en/intosaik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Arial"/>
                <a:ea typeface="Arial"/>
              </a:rPr>
              <a:t>White Paper on KN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5354-BC62-4B75-9109-66762CED634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Прямоугольник 5"/>
          <p:cNvGrpSpPr/>
          <p:nvPr/>
        </p:nvGrpSpPr>
        <p:grpSpPr>
          <a:xfrm>
            <a:off x="334800" y="5473800"/>
            <a:ext cx="8467920" cy="1261800"/>
            <a:chOff x="334800" y="5473800"/>
            <a:chExt cx="8467920" cy="1261800"/>
          </a:xfrm>
        </p:grpSpPr>
        <p:pic>
          <p:nvPicPr>
            <p:cNvPr id="102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334800" y="5473800"/>
              <a:ext cx="8467920" cy="12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57120" y="5500800"/>
              <a:ext cx="842976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nciples for the Development and Use of Key National Indicators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sis of opportunities on the use of KNI for international comparisons and preparation of appropriate recommendation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I's role in development and use of key indicators for R&amp;D evalua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B933-95B6-4F9E-A0B7-9F04377D56E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Овал 7"/>
          <p:cNvGrpSpPr/>
          <p:nvPr/>
        </p:nvGrpSpPr>
        <p:grpSpPr>
          <a:xfrm>
            <a:off x="3260880" y="2475000"/>
            <a:ext cx="2255760" cy="1328760"/>
            <a:chOff x="3260880" y="2475000"/>
            <a:chExt cx="2255760" cy="1328760"/>
          </a:xfrm>
        </p:grpSpPr>
        <p:pic>
          <p:nvPicPr>
            <p:cNvPr id="106" name="Овал 7" descr=""/>
            <p:cNvPicPr/>
            <p:nvPr/>
          </p:nvPicPr>
          <p:blipFill>
            <a:blip r:embed="rId2"/>
            <a:stretch/>
          </p:blipFill>
          <p:spPr>
            <a:xfrm>
              <a:off x="3260880" y="2475000"/>
              <a:ext cx="22557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610080" y="2689200"/>
              <a:ext cx="156672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White Pa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Овал 10"/>
          <p:cNvGrpSpPr/>
          <p:nvPr/>
        </p:nvGrpSpPr>
        <p:grpSpPr>
          <a:xfrm>
            <a:off x="189000" y="2548080"/>
            <a:ext cx="2687400" cy="1255680"/>
            <a:chOff x="189000" y="2548080"/>
            <a:chExt cx="2687400" cy="1255680"/>
          </a:xfrm>
        </p:grpSpPr>
        <p:pic>
          <p:nvPicPr>
            <p:cNvPr id="109" name="Овал 10" descr=""/>
            <p:cNvPicPr/>
            <p:nvPr/>
          </p:nvPicPr>
          <p:blipFill>
            <a:blip r:embed="rId3"/>
            <a:stretch/>
          </p:blipFill>
          <p:spPr>
            <a:xfrm>
              <a:off x="189000" y="2548080"/>
              <a:ext cx="26874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01560" y="2749680"/>
              <a:ext cx="186876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440" indent="-1440"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International organizations experience in progress </a:t>
              </a:r>
              <a:r>
                <a:rPr b="1" lang="en-US" sz="1400" spc="-1" strike="noStrike">
                  <a:solidFill>
                    <a:srgbClr val="002060"/>
                  </a:solidFill>
                  <a:latin typeface="Calibri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1" name="Прямая со стрелкой 28"/>
          <p:cNvCxnSpPr/>
          <p:nvPr/>
        </p:nvCxnSpPr>
        <p:spPr>
          <a:xfrm flipH="1">
            <a:off x="2857320" y="3142080"/>
            <a:ext cx="429120" cy="3564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12" name="Прямая со стрелкой 29"/>
          <p:cNvCxnSpPr/>
          <p:nvPr/>
        </p:nvCxnSpPr>
        <p:spPr>
          <a:xfrm flipH="1" flipV="1">
            <a:off x="3138120" y="2047320"/>
            <a:ext cx="472320" cy="64188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13" name="Прямая со стрелкой 30"/>
          <p:cNvCxnSpPr/>
          <p:nvPr/>
        </p:nvCxnSpPr>
        <p:spPr>
          <a:xfrm flipH="1">
            <a:off x="2940840" y="3570840"/>
            <a:ext cx="669240" cy="52416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sp>
        <p:nvSpPr>
          <p:cNvPr id="114" name="TextBox 43"/>
          <p:cNvSpPr/>
          <p:nvPr/>
        </p:nvSpPr>
        <p:spPr>
          <a:xfrm>
            <a:off x="785880" y="642960"/>
            <a:ext cx="22860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Problem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4"/>
          <p:cNvSpPr/>
          <p:nvPr/>
        </p:nvSpPr>
        <p:spPr>
          <a:xfrm>
            <a:off x="5929200" y="642960"/>
            <a:ext cx="19288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 стрелкой 33"/>
          <p:cNvCxnSpPr/>
          <p:nvPr/>
        </p:nvCxnSpPr>
        <p:spPr>
          <a:xfrm flipV="1">
            <a:off x="4713840" y="1925280"/>
            <a:ext cx="510120" cy="57528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17" name="Прямая со стрелкой 34"/>
          <p:cNvCxnSpPr/>
          <p:nvPr/>
        </p:nvCxnSpPr>
        <p:spPr>
          <a:xfrm flipV="1">
            <a:off x="5176800" y="2499480"/>
            <a:ext cx="967680" cy="18972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18" name="Прямая со стрелкой 35"/>
          <p:cNvCxnSpPr/>
          <p:nvPr/>
        </p:nvCxnSpPr>
        <p:spPr>
          <a:xfrm>
            <a:off x="5429160" y="3357360"/>
            <a:ext cx="858240" cy="21492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19" name="Прямая со стрелкой 36"/>
          <p:cNvCxnSpPr/>
          <p:nvPr/>
        </p:nvCxnSpPr>
        <p:spPr>
          <a:xfrm>
            <a:off x="5072040" y="3642840"/>
            <a:ext cx="908640" cy="6786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20" name="Прямая со стрелкой 37"/>
          <p:cNvCxnSpPr/>
          <p:nvPr/>
        </p:nvCxnSpPr>
        <p:spPr>
          <a:xfrm flipH="1">
            <a:off x="4427280" y="3857760"/>
            <a:ext cx="2160" cy="1645200"/>
          </a:xfrm>
          <a:prstGeom prst="straightConnector1">
            <a:avLst/>
          </a:prstGeom>
          <a:ln w="19080">
            <a:solidFill>
              <a:srgbClr val="c0504d"/>
            </a:solidFill>
            <a:miter/>
            <a:headEnd len="med" type="triangle" w="med"/>
          </a:ln>
        </p:spPr>
      </p:cxnSp>
      <p:sp>
        <p:nvSpPr>
          <p:cNvPr id="121" name="TextBox 131"/>
          <p:cNvSpPr/>
          <p:nvPr/>
        </p:nvSpPr>
        <p:spPr>
          <a:xfrm>
            <a:off x="3071880" y="507204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New sub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Овал 44"/>
          <p:cNvGrpSpPr/>
          <p:nvPr/>
        </p:nvGrpSpPr>
        <p:grpSpPr>
          <a:xfrm>
            <a:off x="981000" y="1047600"/>
            <a:ext cx="2543400" cy="1182960"/>
            <a:chOff x="981000" y="1047600"/>
            <a:chExt cx="2543400" cy="1182960"/>
          </a:xfrm>
        </p:grpSpPr>
        <p:pic>
          <p:nvPicPr>
            <p:cNvPr id="123" name="Овал 44" descr=""/>
            <p:cNvPicPr/>
            <p:nvPr/>
          </p:nvPicPr>
          <p:blipFill>
            <a:blip r:embed="rId4"/>
            <a:stretch/>
          </p:blipFill>
          <p:spPr>
            <a:xfrm>
              <a:off x="981000" y="1047600"/>
              <a:ext cx="254340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366920" y="1238400"/>
              <a:ext cx="17715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440" indent="7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Countri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440" indent="7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440" indent="7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in develop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440" indent="7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and use of K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Овал 55"/>
          <p:cNvGrpSpPr/>
          <p:nvPr/>
        </p:nvGrpSpPr>
        <p:grpSpPr>
          <a:xfrm>
            <a:off x="901800" y="3902040"/>
            <a:ext cx="2401920" cy="1187640"/>
            <a:chOff x="901800" y="3902040"/>
            <a:chExt cx="2401920" cy="1187640"/>
          </a:xfrm>
        </p:grpSpPr>
        <p:pic>
          <p:nvPicPr>
            <p:cNvPr id="126" name="Овал 55" descr=""/>
            <p:cNvPicPr/>
            <p:nvPr/>
          </p:nvPicPr>
          <p:blipFill>
            <a:blip r:embed="rId5"/>
            <a:stretch/>
          </p:blipFill>
          <p:spPr>
            <a:xfrm>
              <a:off x="901800" y="3902040"/>
              <a:ext cx="2401920" cy="11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273320" y="4095720"/>
              <a:ext cx="16682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440" indent="-1440"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Role of KN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-1440"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in sustainable develop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-1440"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monito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Овал 90"/>
          <p:cNvGrpSpPr/>
          <p:nvPr/>
        </p:nvGrpSpPr>
        <p:grpSpPr>
          <a:xfrm>
            <a:off x="5546880" y="4121280"/>
            <a:ext cx="3043080" cy="1255680"/>
            <a:chOff x="5546880" y="4121280"/>
            <a:chExt cx="3043080" cy="1255680"/>
          </a:xfrm>
        </p:grpSpPr>
        <p:pic>
          <p:nvPicPr>
            <p:cNvPr id="129" name="Овал 90" descr=""/>
            <p:cNvPicPr/>
            <p:nvPr/>
          </p:nvPicPr>
          <p:blipFill>
            <a:blip r:embed="rId6"/>
            <a:stretch/>
          </p:blipFill>
          <p:spPr>
            <a:xfrm>
              <a:off x="5546880" y="4121280"/>
              <a:ext cx="30430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012000" y="4321080"/>
              <a:ext cx="21207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440" indent="7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</a:rPr>
                <a:t>Recommendation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7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</a:rPr>
                <a:t>for the development a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7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</a:rPr>
                <a:t>use of KNI i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7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</a:rPr>
                <a:t>developing econom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Овал 91"/>
          <p:cNvGrpSpPr/>
          <p:nvPr/>
        </p:nvGrpSpPr>
        <p:grpSpPr>
          <a:xfrm>
            <a:off x="6119640" y="1974960"/>
            <a:ext cx="2548080" cy="1042920"/>
            <a:chOff x="6119640" y="1974960"/>
            <a:chExt cx="2548080" cy="1042920"/>
          </a:xfrm>
        </p:grpSpPr>
        <p:pic>
          <p:nvPicPr>
            <p:cNvPr id="132" name="Овал 91" descr=""/>
            <p:cNvPicPr/>
            <p:nvPr/>
          </p:nvPicPr>
          <p:blipFill>
            <a:blip r:embed="rId7"/>
            <a:stretch/>
          </p:blipFill>
          <p:spPr>
            <a:xfrm>
              <a:off x="6119640" y="1974960"/>
              <a:ext cx="25480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510240" y="2146320"/>
              <a:ext cx="17719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</a:rPr>
                <a:t>Key national indicators: Guide to terms a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</a:rPr>
                <a:t>concep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Овал 92"/>
          <p:cNvGrpSpPr/>
          <p:nvPr/>
        </p:nvGrpSpPr>
        <p:grpSpPr>
          <a:xfrm>
            <a:off x="4834080" y="1047600"/>
            <a:ext cx="2547720" cy="1043280"/>
            <a:chOff x="4834080" y="1047600"/>
            <a:chExt cx="2547720" cy="1043280"/>
          </a:xfrm>
        </p:grpSpPr>
        <p:pic>
          <p:nvPicPr>
            <p:cNvPr id="135" name="Овал 92" descr=""/>
            <p:cNvPicPr/>
            <p:nvPr/>
          </p:nvPicPr>
          <p:blipFill>
            <a:blip r:embed="rId8"/>
            <a:stretch/>
          </p:blipFill>
          <p:spPr>
            <a:xfrm>
              <a:off x="4834080" y="1047600"/>
              <a:ext cx="254772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224320" y="1217520"/>
              <a:ext cx="17719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</a:rPr>
                <a:t>Principles for SAIs application of K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Овал 93"/>
          <p:cNvGrpSpPr/>
          <p:nvPr/>
        </p:nvGrpSpPr>
        <p:grpSpPr>
          <a:xfrm>
            <a:off x="6261120" y="3048120"/>
            <a:ext cx="2548080" cy="1042920"/>
            <a:chOff x="6261120" y="3048120"/>
            <a:chExt cx="2548080" cy="1042920"/>
          </a:xfrm>
        </p:grpSpPr>
        <p:pic>
          <p:nvPicPr>
            <p:cNvPr id="138" name="Овал 93" descr=""/>
            <p:cNvPicPr/>
            <p:nvPr/>
          </p:nvPicPr>
          <p:blipFill>
            <a:blip r:embed="rId9"/>
            <a:stretch/>
          </p:blipFill>
          <p:spPr>
            <a:xfrm>
              <a:off x="6261120" y="3048120"/>
              <a:ext cx="25480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653160" y="3218040"/>
              <a:ext cx="17715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2060"/>
                  </a:solidFill>
                  <a:latin typeface="Calibri"/>
                </a:rPr>
                <a:t>Recommend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2060"/>
                  </a:solidFill>
                  <a:latin typeface="Calibri"/>
                </a:rPr>
                <a:t>for knowledge-based econom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Main results of the Working Group activity in 2011 -2013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ctual version of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ite Paper on KN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repare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ctual version o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Principles of development and use of KN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repare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ults of the sub-projects are received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sis of opportunities on the use of KNI for international comparisons in the context of sustainable development and recommendation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I's role in development and use of key indicators for R&amp;D develo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ABB5-91A9-4242-B833-8DF9019AF2C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 rot="248400">
            <a:off x="823680" y="1026720"/>
            <a:ext cx="7580160" cy="1962360"/>
          </a:xfrm>
          <a:prstGeom prst="rect">
            <a:avLst/>
          </a:prstGeom>
          <a:ln w="0">
            <a:noFill/>
          </a:ln>
        </p:spPr>
      </p:pic>
      <p:sp>
        <p:nvSpPr>
          <p:cNvPr id="144" name="Равнобедренный треугольник 40"/>
          <p:cNvSpPr/>
          <p:nvPr/>
        </p:nvSpPr>
        <p:spPr>
          <a:xfrm>
            <a:off x="2786040" y="1143000"/>
            <a:ext cx="3500640" cy="5643720"/>
          </a:xfrm>
          <a:prstGeom prst="triangle">
            <a:avLst>
              <a:gd name="adj" fmla="val 50000"/>
            </a:avLst>
          </a:prstGeom>
          <a:solidFill>
            <a:srgbClr val="e6b9b8">
              <a:alpha val="26000"/>
            </a:srgbClr>
          </a:solidFill>
          <a:ln w="25560">
            <a:solidFill>
              <a:srgbClr val="d99694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F86B-3BAE-4243-BE1C-92983922749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19"/>
          <p:cNvSpPr/>
          <p:nvPr/>
        </p:nvSpPr>
        <p:spPr>
          <a:xfrm>
            <a:off x="6939000" y="6310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355680" y="1295280"/>
            <a:ext cx="2716200" cy="7034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5"/>
          <p:cNvSpPr/>
          <p:nvPr/>
        </p:nvSpPr>
        <p:spPr>
          <a:xfrm>
            <a:off x="1636560" y="1006560"/>
            <a:ext cx="136800" cy="285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3"/>
          <a:stretch/>
        </p:blipFill>
        <p:spPr>
          <a:xfrm rot="465600">
            <a:off x="6249960" y="1680840"/>
            <a:ext cx="2718000" cy="70488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7"/>
          <p:cNvSpPr/>
          <p:nvPr/>
        </p:nvSpPr>
        <p:spPr>
          <a:xfrm>
            <a:off x="7558200" y="1450800"/>
            <a:ext cx="136440" cy="285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56"/>
          <p:cNvSpPr/>
          <p:nvPr/>
        </p:nvSpPr>
        <p:spPr>
          <a:xfrm>
            <a:off x="108000" y="1714680"/>
            <a:ext cx="2820960" cy="3384360"/>
          </a:xfrm>
          <a:prstGeom prst="rect">
            <a:avLst/>
          </a:prstGeom>
          <a:solidFill>
            <a:srgbClr val="ffcc99">
              <a:alpha val="30000"/>
            </a:srgbClr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7"/>
          <p:cNvSpPr/>
          <p:nvPr/>
        </p:nvSpPr>
        <p:spPr>
          <a:xfrm>
            <a:off x="6072120" y="5143680"/>
            <a:ext cx="28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The Group of Twe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0"/>
          <p:cNvSpPr/>
          <p:nvPr/>
        </p:nvSpPr>
        <p:spPr>
          <a:xfrm>
            <a:off x="6000840" y="2000160"/>
            <a:ext cx="2960640" cy="2928960"/>
          </a:xfrm>
          <a:prstGeom prst="rect">
            <a:avLst/>
          </a:prstGeom>
          <a:solidFill>
            <a:srgbClr val="00b05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бъект 2"/>
          <p:cNvSpPr/>
          <p:nvPr/>
        </p:nvSpPr>
        <p:spPr>
          <a:xfrm>
            <a:off x="6000840" y="2071800"/>
            <a:ext cx="300024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c deb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dget defic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vel of private sav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sector deb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rnal imbalance indicato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luding trade balanc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low of net investment income and transf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Блок-схема: узел 32"/>
          <p:cNvSpPr/>
          <p:nvPr/>
        </p:nvSpPr>
        <p:spPr>
          <a:xfrm>
            <a:off x="2786040" y="1357200"/>
            <a:ext cx="136440" cy="142920"/>
          </a:xfrm>
          <a:prstGeom prst="flowChartConnector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Блок-схема: узел 33"/>
          <p:cNvSpPr/>
          <p:nvPr/>
        </p:nvSpPr>
        <p:spPr>
          <a:xfrm>
            <a:off x="500040" y="1357200"/>
            <a:ext cx="136440" cy="142920"/>
          </a:xfrm>
          <a:prstGeom prst="flowChartConnector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Блок-схема: узел 34"/>
          <p:cNvSpPr/>
          <p:nvPr/>
        </p:nvSpPr>
        <p:spPr>
          <a:xfrm>
            <a:off x="8597880" y="1863720"/>
            <a:ext cx="136440" cy="142920"/>
          </a:xfrm>
          <a:prstGeom prst="flowChartConnector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Блок-схема: узел 35"/>
          <p:cNvSpPr/>
          <p:nvPr/>
        </p:nvSpPr>
        <p:spPr>
          <a:xfrm>
            <a:off x="6483240" y="1577880"/>
            <a:ext cx="135000" cy="142920"/>
          </a:xfrm>
          <a:prstGeom prst="flowChartConnector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8"/>
          <p:cNvSpPr/>
          <p:nvPr/>
        </p:nvSpPr>
        <p:spPr>
          <a:xfrm>
            <a:off x="3214800" y="4214880"/>
            <a:ext cx="2714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stemic network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tion growth  not provided by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7"/>
          <p:cNvSpPr/>
          <p:nvPr/>
        </p:nvSpPr>
        <p:spPr>
          <a:xfrm>
            <a:off x="4133160" y="371484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32523"/>
                </a:solidFill>
                <a:latin typeface="Arial"/>
                <a:ea typeface="Arial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бъект 2"/>
          <p:cNvSpPr/>
          <p:nvPr/>
        </p:nvSpPr>
        <p:spPr>
          <a:xfrm>
            <a:off x="214200" y="1785960"/>
            <a:ext cx="27147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ci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c 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u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atisfaction with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lance between labour and lei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2286000" y="5357880"/>
            <a:ext cx="450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obal interaction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in systemic financial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crease of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eenhouse gas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142920" y="0"/>
            <a:ext cx="90010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Imbalance between  social and economic objectives and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7"/>
          <p:cNvSpPr/>
          <p:nvPr/>
        </p:nvSpPr>
        <p:spPr>
          <a:xfrm>
            <a:off x="214200" y="521496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OECD Better Lif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053F-094F-4E1B-BA93-6C9D3464E8F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0" y="-71280"/>
            <a:ext cx="91440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Visualization of comparison of </a:t>
            </a: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the countries’ positions and development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5" descr="8.PNG"/>
          <p:cNvPicPr/>
          <p:nvPr/>
        </p:nvPicPr>
        <p:blipFill>
          <a:blip r:embed="rId1"/>
          <a:stretch/>
        </p:blipFill>
        <p:spPr>
          <a:xfrm>
            <a:off x="468360" y="1143000"/>
            <a:ext cx="8207280" cy="52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1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67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142920" y="0"/>
            <a:ext cx="8786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Arial"/>
              </a:rPr>
              <a:t>European meadow of life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according to the Better Life Index data (OECD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5D15-85A1-4C5B-820C-04DC59C5985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Development of cooperation in the sphere of progress measurement with relevant international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1692-4601-471F-B8A9-E57AE58D9A0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Овал 4"/>
          <p:cNvGrpSpPr/>
          <p:nvPr/>
        </p:nvGrpSpPr>
        <p:grpSpPr>
          <a:xfrm>
            <a:off x="755640" y="3328920"/>
            <a:ext cx="2127240" cy="1266840"/>
            <a:chOff x="755640" y="3328920"/>
            <a:chExt cx="2127240" cy="1266840"/>
          </a:xfrm>
        </p:grpSpPr>
        <p:pic>
          <p:nvPicPr>
            <p:cNvPr id="174" name="Овал 4" descr=""/>
            <p:cNvPicPr/>
            <p:nvPr/>
          </p:nvPicPr>
          <p:blipFill>
            <a:blip r:embed="rId1"/>
            <a:stretch/>
          </p:blipFill>
          <p:spPr>
            <a:xfrm>
              <a:off x="755640" y="3328920"/>
              <a:ext cx="212724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089000" y="3535200"/>
              <a:ext cx="14652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W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Овал 5"/>
          <p:cNvGrpSpPr/>
          <p:nvPr/>
        </p:nvGrpSpPr>
        <p:grpSpPr>
          <a:xfrm>
            <a:off x="2468520" y="2041560"/>
            <a:ext cx="2127240" cy="1268280"/>
            <a:chOff x="2468520" y="2041560"/>
            <a:chExt cx="2127240" cy="1268280"/>
          </a:xfrm>
        </p:grpSpPr>
        <p:pic>
          <p:nvPicPr>
            <p:cNvPr id="177" name="Овал 5" descr=""/>
            <p:cNvPicPr/>
            <p:nvPr/>
          </p:nvPicPr>
          <p:blipFill>
            <a:blip r:embed="rId2"/>
            <a:stretch/>
          </p:blipFill>
          <p:spPr>
            <a:xfrm>
              <a:off x="2468520" y="2041560"/>
              <a:ext cx="212724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803680" y="2249640"/>
              <a:ext cx="14652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OEC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6"/>
          <p:cNvGrpSpPr/>
          <p:nvPr/>
        </p:nvGrpSpPr>
        <p:grpSpPr>
          <a:xfrm>
            <a:off x="1395360" y="5114880"/>
            <a:ext cx="2129040" cy="1266840"/>
            <a:chOff x="1395360" y="5114880"/>
            <a:chExt cx="2129040" cy="1266840"/>
          </a:xfrm>
        </p:grpSpPr>
        <p:pic>
          <p:nvPicPr>
            <p:cNvPr id="180" name="Овал 6" descr=""/>
            <p:cNvPicPr/>
            <p:nvPr/>
          </p:nvPicPr>
          <p:blipFill>
            <a:blip r:embed="rId3"/>
            <a:stretch/>
          </p:blipFill>
          <p:spPr>
            <a:xfrm>
              <a:off x="1395360" y="5114880"/>
              <a:ext cx="212904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731960" y="5321160"/>
              <a:ext cx="14652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IIA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Овал 7"/>
          <p:cNvGrpSpPr/>
          <p:nvPr/>
        </p:nvGrpSpPr>
        <p:grpSpPr>
          <a:xfrm>
            <a:off x="3340080" y="3828960"/>
            <a:ext cx="2543040" cy="1266840"/>
            <a:chOff x="3340080" y="3828960"/>
            <a:chExt cx="2543040" cy="1266840"/>
          </a:xfrm>
        </p:grpSpPr>
        <p:pic>
          <p:nvPicPr>
            <p:cNvPr id="183" name="Овал 7" descr=""/>
            <p:cNvPicPr/>
            <p:nvPr/>
          </p:nvPicPr>
          <p:blipFill>
            <a:blip r:embed="rId4"/>
            <a:stretch/>
          </p:blipFill>
          <p:spPr>
            <a:xfrm>
              <a:off x="3340080" y="3828960"/>
              <a:ext cx="254304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724200" y="4035600"/>
              <a:ext cx="176688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254061"/>
                  </a:solidFill>
                  <a:latin typeface="Calibri"/>
                </a:rPr>
                <a:t>INTOSA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Овал 8"/>
          <p:cNvGrpSpPr/>
          <p:nvPr/>
        </p:nvGrpSpPr>
        <p:grpSpPr>
          <a:xfrm>
            <a:off x="5327640" y="5254560"/>
            <a:ext cx="2341440" cy="1268640"/>
            <a:chOff x="5327640" y="5254560"/>
            <a:chExt cx="2341440" cy="1268640"/>
          </a:xfrm>
        </p:grpSpPr>
        <p:pic>
          <p:nvPicPr>
            <p:cNvPr id="186" name="Овал 8" descr=""/>
            <p:cNvPicPr/>
            <p:nvPr/>
          </p:nvPicPr>
          <p:blipFill>
            <a:blip r:embed="rId5"/>
            <a:stretch/>
          </p:blipFill>
          <p:spPr>
            <a:xfrm>
              <a:off x="5327640" y="5254560"/>
              <a:ext cx="234144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692680" y="5464080"/>
              <a:ext cx="161604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Other organiz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Овал 9"/>
          <p:cNvGrpSpPr/>
          <p:nvPr/>
        </p:nvGrpSpPr>
        <p:grpSpPr>
          <a:xfrm>
            <a:off x="6327720" y="3395520"/>
            <a:ext cx="2127240" cy="1273320"/>
            <a:chOff x="6327720" y="3395520"/>
            <a:chExt cx="2127240" cy="1273320"/>
          </a:xfrm>
        </p:grpSpPr>
        <p:pic>
          <p:nvPicPr>
            <p:cNvPr id="189" name="Овал 9" descr=""/>
            <p:cNvPicPr/>
            <p:nvPr/>
          </p:nvPicPr>
          <p:blipFill>
            <a:blip r:embed="rId6"/>
            <a:stretch/>
          </p:blipFill>
          <p:spPr>
            <a:xfrm>
              <a:off x="6327720" y="3395520"/>
              <a:ext cx="212724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661080" y="3606840"/>
              <a:ext cx="14652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U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Двойная стрелка влево/вправо 10"/>
          <p:cNvSpPr/>
          <p:nvPr/>
        </p:nvSpPr>
        <p:spPr>
          <a:xfrm rot="1243800">
            <a:off x="2876400" y="4083120"/>
            <a:ext cx="500040" cy="203040"/>
          </a:xfrm>
          <a:prstGeom prst="left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Двойная стрелка влево/вправо 11"/>
          <p:cNvSpPr/>
          <p:nvPr/>
        </p:nvSpPr>
        <p:spPr>
          <a:xfrm rot="19416000">
            <a:off x="3368520" y="5057280"/>
            <a:ext cx="500040" cy="203400"/>
          </a:xfrm>
          <a:prstGeom prst="leftRightArrow">
            <a:avLst>
              <a:gd name="adj1" fmla="val 50000"/>
              <a:gd name="adj2" fmla="val 4995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Двойная стрелка влево/вправо 13"/>
          <p:cNvSpPr/>
          <p:nvPr/>
        </p:nvSpPr>
        <p:spPr>
          <a:xfrm rot="7515000">
            <a:off x="5048280" y="3518280"/>
            <a:ext cx="500040" cy="203400"/>
          </a:xfrm>
          <a:prstGeom prst="leftRightArrow">
            <a:avLst>
              <a:gd name="adj1" fmla="val 50000"/>
              <a:gd name="adj2" fmla="val 4995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Двойная стрелка влево/вправо 14"/>
          <p:cNvSpPr/>
          <p:nvPr/>
        </p:nvSpPr>
        <p:spPr>
          <a:xfrm rot="20639400">
            <a:off x="5805000" y="4035240"/>
            <a:ext cx="500040" cy="203040"/>
          </a:xfrm>
          <a:prstGeom prst="left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Двойная стрелка влево/вправо 15"/>
          <p:cNvSpPr/>
          <p:nvPr/>
        </p:nvSpPr>
        <p:spPr>
          <a:xfrm rot="2023800">
            <a:off x="5300280" y="5051520"/>
            <a:ext cx="500040" cy="203040"/>
          </a:xfrm>
          <a:prstGeom prst="left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Овал 16"/>
          <p:cNvGrpSpPr/>
          <p:nvPr/>
        </p:nvGrpSpPr>
        <p:grpSpPr>
          <a:xfrm>
            <a:off x="5041800" y="2109960"/>
            <a:ext cx="2127240" cy="1272960"/>
            <a:chOff x="5041800" y="2109960"/>
            <a:chExt cx="2127240" cy="1272960"/>
          </a:xfrm>
        </p:grpSpPr>
        <p:pic>
          <p:nvPicPr>
            <p:cNvPr id="197" name="Овал 16" descr=""/>
            <p:cNvPicPr/>
            <p:nvPr/>
          </p:nvPicPr>
          <p:blipFill>
            <a:blip r:embed="rId7"/>
            <a:stretch/>
          </p:blipFill>
          <p:spPr>
            <a:xfrm>
              <a:off x="5041800" y="2109960"/>
              <a:ext cx="212724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375160" y="2320920"/>
              <a:ext cx="14652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Двойная стрелка влево/вправо 17"/>
          <p:cNvSpPr/>
          <p:nvPr/>
        </p:nvSpPr>
        <p:spPr>
          <a:xfrm rot="4035000">
            <a:off x="3869640" y="3453480"/>
            <a:ext cx="500040" cy="203040"/>
          </a:xfrm>
          <a:prstGeom prst="left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76092"/>
                </a:solidFill>
                <a:latin typeface="Calibri"/>
                <a:ea typeface="Arial"/>
              </a:rPr>
              <a:t>Database on KNI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7BB9-B61D-4E9D-A9A9-B7A7C6AE26D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rcRect l="0" t="10599" r="18454" b="2845"/>
          <a:stretch/>
        </p:blipFill>
        <p:spPr>
          <a:xfrm>
            <a:off x="184320" y="912960"/>
            <a:ext cx="8673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76092"/>
                </a:solidFill>
                <a:latin typeface="Calibri"/>
                <a:ea typeface="Arial"/>
              </a:rPr>
              <a:t>KNIs Subprojects in the CIS Framework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1729-F809-4518-A04B-70366E0565F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285840" y="2254320"/>
            <a:ext cx="864396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of the possibilities for methodological comparability of the key national indicators of the CIS Member Stat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table of the passports of the indicators of the CIS Economic Development Strategy for the period up to 202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4-11T13:33:38Z</dcterms:modified>
  <cp:revision>254</cp:revision>
  <dc:subject/>
  <dc:title>Слайд 1</dc:title>
</cp:coreProperties>
</file>