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246E-8483-4C8D-97D6-D5370942E0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1AF9-2C82-4FAF-AEE0-3DCBF2F9D6E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CA4-A07A-431C-AC79-6BABBF18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BC2-D1AD-4D09-BA58-C3898D0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8F3-D3DE-4008-9BA1-AD85399C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2EE-6F81-4169-8F98-7A457772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7B5E-0C34-4C69-9557-2CD11B4B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EDD8-B35A-447B-B399-2C7A0BC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C783-D104-4ECA-8FDF-EE1BEBF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4290-11DB-4365-B5FE-4659300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B0C0-9871-492B-B8DE-0331B31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FE7-E076-4E78-AF61-D489EC3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F22B-2D73-4A78-A4FC-350CF0DA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9AC-C8EE-4B5F-AC03-7CEF4B8C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FB14-273D-4DE3-850D-2D7855D9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98C6-2E5F-450E-9E24-7A80D8A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FF9B-00DB-4C1C-9985-0AC42099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FD2-F284-4628-8E9D-C6CE40C4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0F6-380C-47E1-BE0E-F7A029D9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028-27CE-450A-9732-D05A8D3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5BE-2A12-40D0-8009-AEDA008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0D0-C7FE-41DC-A861-C3ECD679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DC7-885F-40FC-913E-C38CFF32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432-0BDC-498A-A97F-93CD0EC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24C-8775-4909-BC16-85F87C6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3E8-DC8E-45B2-BA2E-EB4F4F1D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B4C8-8642-4ED5-935A-354BD24F19B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A12C-E95D-44DB-A50A-D28ED787B2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E469-5B85-456D-9CFD-EB7A7A1DC3F6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CF2-64FC-4257-B90C-024BE38F3F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357120"/>
            <a:ext cx="9144000" cy="6043680"/>
            <a:chOff x="0" y="357120"/>
            <a:chExt cx="9144000" cy="6043680"/>
          </a:xfrm>
        </p:grpSpPr>
        <p:sp>
          <p:nvSpPr>
            <p:cNvPr id="90" name="Rectangle 4"/>
            <p:cNvSpPr/>
            <p:nvPr/>
          </p:nvSpPr>
          <p:spPr>
            <a:xfrm>
              <a:off x="108000" y="204012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428760" y="357120"/>
              <a:ext cx="8715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76092"/>
                  </a:solidFill>
                  <a:latin typeface="Arial"/>
                </a:rPr>
                <a:t>The </a:t>
              </a:r>
              <a:r>
                <a:rPr b="1" lang="ru-RU" sz="2700" spc="-1" strike="noStrike">
                  <a:solidFill>
                    <a:srgbClr val="376092"/>
                  </a:solidFill>
                  <a:latin typeface="Arial"/>
                </a:rPr>
                <a:t>6</a:t>
              </a:r>
              <a:r>
                <a:rPr b="1" lang="en-US" sz="2700" spc="-1" strike="noStrike" baseline="30000">
                  <a:solidFill>
                    <a:srgbClr val="376092"/>
                  </a:solidFill>
                  <a:latin typeface="Arial"/>
                </a:rPr>
                <a:t>th</a:t>
              </a:r>
              <a:r>
                <a:rPr b="1" lang="en-US" sz="2700" spc="-1" strike="noStrike">
                  <a:solidFill>
                    <a:srgbClr val="376092"/>
                  </a:solidFill>
                  <a:latin typeface="Arial"/>
                </a:rPr>
                <a:t> Meeting of the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  <a:ea typeface="宋体"/>
                </a:rPr>
                <a:t> INTOSAI Working Group on Key National Indica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46400"/>
              <a:ext cx="91440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REPORT ON THE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  <a:ea typeface="宋体"/>
                </a:rPr>
                <a:t>WORKING GROUP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ACTIVITY</a:t>
              </a:r>
              <a:r>
                <a:rPr b="1" lang="ru-RU" sz="4000" spc="-1" strike="noStrike">
                  <a:solidFill>
                    <a:srgbClr val="376092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April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2 - 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April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60008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3008160" y="621504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Krakow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April 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22-24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Priority areas of activity </a:t>
            </a:r>
            <a:br>
              <a:rPr sz="3800"/>
            </a:b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for 2013-2016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lot audits aimed at evaluating strategies for the national (regional) development with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ication of key sustainability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second phase of the subproject "Analysis of opportunities on the use of KNI for international comparisons in the context of sustainable development and recommendations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cooperation in the sphere of progress measurement with relevant international organizations. Widening the scope of cooperation with the OECD, WB, WEF, and other institution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exchange of information and possible WG members’ participation in the preparation of reports on national welfare and development prospect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pproaches and methods for the organization of trainings for SAIs’ staff on the use of KNIs in audit activit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1F2-EE0A-4E68-84B5-7921A198F2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Priority areas of activity </a:t>
            </a:r>
            <a:br>
              <a:rPr sz="3800"/>
            </a:b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for 2013-2016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760" y="171432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ical and information support of the KNIs identification for the evaluation of the imbalances of the global econom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 on the use of KNIs in the evaluation of the effectiveness of national public procurement systems as a tool for implementation of strategic objectives of the socio-economic develop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technology based information tools for selection and assessment of KNI, including the visualization of research resul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4C0A-0CE8-4B5E-87DB-7801A060A8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</a:rPr>
              <a:t>Members and Observers of the Working Group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43040" y="1428480"/>
            <a:ext cx="350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ust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rm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Bulgar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Hungar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Indone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Kazakhst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h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Latv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Lithu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roc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3330-22E6-44C4-82C3-5CF11A1C34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857840" y="1428840"/>
            <a:ext cx="40003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ld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lova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Republic of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214720" y="857160"/>
            <a:ext cx="441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Group Member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26320" y="51436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r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972680" y="56437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ana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Kirgi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643040" y="564372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rgen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9"/>
          <p:cNvSpPr/>
          <p:nvPr/>
        </p:nvSpPr>
        <p:spPr>
          <a:xfrm rot="1836000">
            <a:off x="3214800" y="4471920"/>
            <a:ext cx="785880" cy="21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libri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10"/>
          <p:cNvSpPr/>
          <p:nvPr/>
        </p:nvSpPr>
        <p:spPr>
          <a:xfrm rot="1836000">
            <a:off x="6357600" y="1757520"/>
            <a:ext cx="785880" cy="214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libri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1"/>
          <p:cNvSpPr/>
          <p:nvPr/>
        </p:nvSpPr>
        <p:spPr>
          <a:xfrm rot="1836000">
            <a:off x="3214800" y="5614920"/>
            <a:ext cx="785880" cy="21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libri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Web-site of the INTOSAI Working Group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593-4123-4DA4-BADD-C8040A8021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14200" y="28576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ww.ach.gov.ru/en/intosaik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Arial"/>
                <a:ea typeface="Arial"/>
              </a:rPr>
              <a:t>White Paper on K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EFDA-6E56-4A7B-93F1-9DD7883B73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Прямоугольник 5"/>
          <p:cNvGrpSpPr/>
          <p:nvPr/>
        </p:nvGrpSpPr>
        <p:grpSpPr>
          <a:xfrm>
            <a:off x="334800" y="5473800"/>
            <a:ext cx="8467920" cy="1261800"/>
            <a:chOff x="334800" y="5473800"/>
            <a:chExt cx="8467920" cy="1261800"/>
          </a:xfrm>
        </p:grpSpPr>
        <p:pic>
          <p:nvPicPr>
            <p:cNvPr id="10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34800" y="5473800"/>
              <a:ext cx="84679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57120" y="5500800"/>
              <a:ext cx="84297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iples for the Development and Use of Key National Indicators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 of opportunities on the use of KNI for international comparisons and preparation of appropriate recommendation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I's role in development and use of key indicators for R&amp;D evalua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11A-EEA9-403F-BFEE-EA4F7F7527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Овал 7"/>
          <p:cNvGrpSpPr/>
          <p:nvPr/>
        </p:nvGrpSpPr>
        <p:grpSpPr>
          <a:xfrm>
            <a:off x="3260880" y="2475000"/>
            <a:ext cx="2255760" cy="1328760"/>
            <a:chOff x="3260880" y="2475000"/>
            <a:chExt cx="2255760" cy="1328760"/>
          </a:xfrm>
        </p:grpSpPr>
        <p:pic>
          <p:nvPicPr>
            <p:cNvPr id="106" name="Овал 7" descr=""/>
            <p:cNvPicPr/>
            <p:nvPr/>
          </p:nvPicPr>
          <p:blipFill>
            <a:blip r:embed="rId2"/>
            <a:stretch/>
          </p:blipFill>
          <p:spPr>
            <a:xfrm>
              <a:off x="3260880" y="2475000"/>
              <a:ext cx="22557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10080" y="2689200"/>
              <a:ext cx="15667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White Pa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189000" y="2548080"/>
            <a:ext cx="2687400" cy="1255680"/>
            <a:chOff x="189000" y="2548080"/>
            <a:chExt cx="2687400" cy="125568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189000" y="2548080"/>
              <a:ext cx="26874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01560" y="2749680"/>
              <a:ext cx="1868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International organizations experience in progress </a:t>
              </a: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Прямая со стрелкой 28"/>
          <p:cNvCxnSpPr/>
          <p:nvPr/>
        </p:nvCxnSpPr>
        <p:spPr>
          <a:xfrm flipH="1">
            <a:off x="2857320" y="3142080"/>
            <a:ext cx="429120" cy="356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2" name="Прямая со стрелкой 29"/>
          <p:cNvCxnSpPr/>
          <p:nvPr/>
        </p:nvCxnSpPr>
        <p:spPr>
          <a:xfrm flipH="1" flipV="1">
            <a:off x="3138120" y="2047320"/>
            <a:ext cx="472320" cy="6418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3" name="Прямая со стрелкой 30"/>
          <p:cNvCxnSpPr/>
          <p:nvPr/>
        </p:nvCxnSpPr>
        <p:spPr>
          <a:xfrm flipH="1">
            <a:off x="2940840" y="3570840"/>
            <a:ext cx="669240" cy="5241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sp>
        <p:nvSpPr>
          <p:cNvPr id="114" name="TextBox 43"/>
          <p:cNvSpPr/>
          <p:nvPr/>
        </p:nvSpPr>
        <p:spPr>
          <a:xfrm>
            <a:off x="785880" y="642960"/>
            <a:ext cx="228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4"/>
          <p:cNvSpPr/>
          <p:nvPr/>
        </p:nvSpPr>
        <p:spPr>
          <a:xfrm>
            <a:off x="5929200" y="642960"/>
            <a:ext cx="19288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33"/>
          <p:cNvCxnSpPr/>
          <p:nvPr/>
        </p:nvCxnSpPr>
        <p:spPr>
          <a:xfrm flipV="1">
            <a:off x="4713840" y="1925280"/>
            <a:ext cx="510120" cy="5752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7" name="Прямая со стрелкой 34"/>
          <p:cNvCxnSpPr/>
          <p:nvPr/>
        </p:nvCxnSpPr>
        <p:spPr>
          <a:xfrm flipV="1">
            <a:off x="5176800" y="2499480"/>
            <a:ext cx="967680" cy="1897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8" name="Прямая со стрелкой 35"/>
          <p:cNvCxnSpPr/>
          <p:nvPr/>
        </p:nvCxnSpPr>
        <p:spPr>
          <a:xfrm>
            <a:off x="5429160" y="3357360"/>
            <a:ext cx="858240" cy="2149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19" name="Прямая со стрелкой 36"/>
          <p:cNvCxnSpPr/>
          <p:nvPr/>
        </p:nvCxnSpPr>
        <p:spPr>
          <a:xfrm>
            <a:off x="5072040" y="3642840"/>
            <a:ext cx="908640" cy="6786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20" name="Прямая со стрелкой 37"/>
          <p:cNvCxnSpPr/>
          <p:nvPr/>
        </p:nvCxnSpPr>
        <p:spPr>
          <a:xfrm flipH="1">
            <a:off x="4427280" y="3857760"/>
            <a:ext cx="2160" cy="16452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121" name="TextBox 131"/>
          <p:cNvSpPr/>
          <p:nvPr/>
        </p:nvSpPr>
        <p:spPr>
          <a:xfrm>
            <a:off x="3071880" y="50720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New sub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Овал 44"/>
          <p:cNvGrpSpPr/>
          <p:nvPr/>
        </p:nvGrpSpPr>
        <p:grpSpPr>
          <a:xfrm>
            <a:off x="981000" y="1047600"/>
            <a:ext cx="2543400" cy="1182960"/>
            <a:chOff x="981000" y="1047600"/>
            <a:chExt cx="2543400" cy="1182960"/>
          </a:xfrm>
        </p:grpSpPr>
        <p:pic>
          <p:nvPicPr>
            <p:cNvPr id="123" name="Овал 44" descr=""/>
            <p:cNvPicPr/>
            <p:nvPr/>
          </p:nvPicPr>
          <p:blipFill>
            <a:blip r:embed="rId4"/>
            <a:stretch/>
          </p:blipFill>
          <p:spPr>
            <a:xfrm>
              <a:off x="981000" y="1047600"/>
              <a:ext cx="254340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366920" y="1238400"/>
              <a:ext cx="1771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Countr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in 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and use of K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Овал 55"/>
          <p:cNvGrpSpPr/>
          <p:nvPr/>
        </p:nvGrpSpPr>
        <p:grpSpPr>
          <a:xfrm>
            <a:off x="901800" y="3902040"/>
            <a:ext cx="2401920" cy="1187640"/>
            <a:chOff x="901800" y="3902040"/>
            <a:chExt cx="2401920" cy="1187640"/>
          </a:xfrm>
        </p:grpSpPr>
        <p:pic>
          <p:nvPicPr>
            <p:cNvPr id="126" name="Овал 55" descr=""/>
            <p:cNvPicPr/>
            <p:nvPr/>
          </p:nvPicPr>
          <p:blipFill>
            <a:blip r:embed="rId5"/>
            <a:stretch/>
          </p:blipFill>
          <p:spPr>
            <a:xfrm>
              <a:off x="901800" y="3902040"/>
              <a:ext cx="240192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273320" y="4095720"/>
              <a:ext cx="16682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Role of KN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in sustainable 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Овал 90"/>
          <p:cNvGrpSpPr/>
          <p:nvPr/>
        </p:nvGrpSpPr>
        <p:grpSpPr>
          <a:xfrm>
            <a:off x="5546880" y="4121280"/>
            <a:ext cx="3043080" cy="1255680"/>
            <a:chOff x="5546880" y="4121280"/>
            <a:chExt cx="3043080" cy="1255680"/>
          </a:xfrm>
        </p:grpSpPr>
        <p:pic>
          <p:nvPicPr>
            <p:cNvPr id="129" name="Овал 90" descr=""/>
            <p:cNvPicPr/>
            <p:nvPr/>
          </p:nvPicPr>
          <p:blipFill>
            <a:blip r:embed="rId6"/>
            <a:stretch/>
          </p:blipFill>
          <p:spPr>
            <a:xfrm>
              <a:off x="5546880" y="4121280"/>
              <a:ext cx="30430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012000" y="4321080"/>
              <a:ext cx="21207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Recommendation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for the development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use of KNI 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developing econom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91"/>
          <p:cNvGrpSpPr/>
          <p:nvPr/>
        </p:nvGrpSpPr>
        <p:grpSpPr>
          <a:xfrm>
            <a:off x="6119640" y="1974960"/>
            <a:ext cx="2548080" cy="1042920"/>
            <a:chOff x="6119640" y="1974960"/>
            <a:chExt cx="2548080" cy="1042920"/>
          </a:xfrm>
        </p:grpSpPr>
        <p:pic>
          <p:nvPicPr>
            <p:cNvPr id="132" name="Овал 91" descr=""/>
            <p:cNvPicPr/>
            <p:nvPr/>
          </p:nvPicPr>
          <p:blipFill>
            <a:blip r:embed="rId7"/>
            <a:stretch/>
          </p:blipFill>
          <p:spPr>
            <a:xfrm>
              <a:off x="6119640" y="1974960"/>
              <a:ext cx="25480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510240" y="2146320"/>
              <a:ext cx="17719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Key national indicators: Guide to terms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concep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Овал 92"/>
          <p:cNvGrpSpPr/>
          <p:nvPr/>
        </p:nvGrpSpPr>
        <p:grpSpPr>
          <a:xfrm>
            <a:off x="4834080" y="1047600"/>
            <a:ext cx="2547720" cy="1043280"/>
            <a:chOff x="4834080" y="1047600"/>
            <a:chExt cx="2547720" cy="1043280"/>
          </a:xfrm>
        </p:grpSpPr>
        <p:pic>
          <p:nvPicPr>
            <p:cNvPr id="135" name="Овал 92" descr=""/>
            <p:cNvPicPr/>
            <p:nvPr/>
          </p:nvPicPr>
          <p:blipFill>
            <a:blip r:embed="rId8"/>
            <a:stretch/>
          </p:blipFill>
          <p:spPr>
            <a:xfrm>
              <a:off x="4834080" y="1047600"/>
              <a:ext cx="25477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224320" y="1217520"/>
              <a:ext cx="17719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Calibri"/>
                </a:rPr>
                <a:t>Principles for SAIs application of K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Овал 93"/>
          <p:cNvGrpSpPr/>
          <p:nvPr/>
        </p:nvGrpSpPr>
        <p:grpSpPr>
          <a:xfrm>
            <a:off x="6261120" y="3048120"/>
            <a:ext cx="2548080" cy="1042920"/>
            <a:chOff x="6261120" y="3048120"/>
            <a:chExt cx="2548080" cy="1042920"/>
          </a:xfrm>
        </p:grpSpPr>
        <p:pic>
          <p:nvPicPr>
            <p:cNvPr id="138" name="Овал 93" descr=""/>
            <p:cNvPicPr/>
            <p:nvPr/>
          </p:nvPicPr>
          <p:blipFill>
            <a:blip r:embed="rId9"/>
            <a:stretch/>
          </p:blipFill>
          <p:spPr>
            <a:xfrm>
              <a:off x="6261120" y="3048120"/>
              <a:ext cx="25480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53160" y="3218040"/>
              <a:ext cx="17715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</a:rPr>
                <a:t>Recommend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2060"/>
                  </a:solidFill>
                  <a:latin typeface="Calibri"/>
                </a:rPr>
                <a:t>for knowledge-based econom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Main results of the Working Group activity in 2011 -201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ual version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te Paper on KN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epar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ual version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Principles of development and use of KN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epar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s of the sub-projects are receive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sis of opportunities on the use of KNI for international comparisons in the context of sustainable development and recommenda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I's role in development and use of key indicators for R&amp;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F7C-F73D-43CB-A174-6750A379B6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 rot="248400">
            <a:off x="823680" y="1026720"/>
            <a:ext cx="7580160" cy="1962360"/>
          </a:xfrm>
          <a:prstGeom prst="rect">
            <a:avLst/>
          </a:prstGeom>
          <a:ln w="0">
            <a:noFill/>
          </a:ln>
        </p:spPr>
      </p:pic>
      <p:sp>
        <p:nvSpPr>
          <p:cNvPr id="144" name="Равнобедренный треугольник 40"/>
          <p:cNvSpPr/>
          <p:nvPr/>
        </p:nvSpPr>
        <p:spPr>
          <a:xfrm>
            <a:off x="2786040" y="1143000"/>
            <a:ext cx="3500640" cy="5643720"/>
          </a:xfrm>
          <a:prstGeom prst="triangle">
            <a:avLst>
              <a:gd name="adj" fmla="val 50000"/>
            </a:avLst>
          </a:prstGeom>
          <a:solidFill>
            <a:srgbClr val="e6b9b8">
              <a:alpha val="26000"/>
            </a:srgbClr>
          </a:solidFill>
          <a:ln w="25560">
            <a:solidFill>
              <a:srgbClr val="d9969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921-EE62-463A-A7B8-9EA83B7019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19"/>
          <p:cNvSpPr/>
          <p:nvPr/>
        </p:nvSpPr>
        <p:spPr>
          <a:xfrm>
            <a:off x="6939000" y="6310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355680" y="1295280"/>
            <a:ext cx="2716200" cy="7034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5"/>
          <p:cNvSpPr/>
          <p:nvPr/>
        </p:nvSpPr>
        <p:spPr>
          <a:xfrm>
            <a:off x="1636560" y="1006560"/>
            <a:ext cx="136800" cy="285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 rot="465600">
            <a:off x="6249960" y="1680840"/>
            <a:ext cx="2718000" cy="7048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7"/>
          <p:cNvSpPr/>
          <p:nvPr/>
        </p:nvSpPr>
        <p:spPr>
          <a:xfrm>
            <a:off x="7558200" y="1450800"/>
            <a:ext cx="136440" cy="285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6"/>
          <p:cNvSpPr/>
          <p:nvPr/>
        </p:nvSpPr>
        <p:spPr>
          <a:xfrm>
            <a:off x="108000" y="1714680"/>
            <a:ext cx="2820960" cy="338436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6072120" y="5143680"/>
            <a:ext cx="28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The Group of Twe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0"/>
          <p:cNvSpPr/>
          <p:nvPr/>
        </p:nvSpPr>
        <p:spPr>
          <a:xfrm>
            <a:off x="6000840" y="2000160"/>
            <a:ext cx="2960640" cy="2928960"/>
          </a:xfrm>
          <a:prstGeom prst="rect">
            <a:avLst/>
          </a:prstGeom>
          <a:solidFill>
            <a:srgbClr val="00b05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ъект 2"/>
          <p:cNvSpPr/>
          <p:nvPr/>
        </p:nvSpPr>
        <p:spPr>
          <a:xfrm>
            <a:off x="6000840" y="2071800"/>
            <a:ext cx="300024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de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dget defic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vel of private sav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sector deb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rnal imbalance indicato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luding trade balan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ow of net investment income and transf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Блок-схема: узел 32"/>
          <p:cNvSpPr/>
          <p:nvPr/>
        </p:nvSpPr>
        <p:spPr>
          <a:xfrm>
            <a:off x="2786040" y="1357200"/>
            <a:ext cx="13644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узел 33"/>
          <p:cNvSpPr/>
          <p:nvPr/>
        </p:nvSpPr>
        <p:spPr>
          <a:xfrm>
            <a:off x="500040" y="1357200"/>
            <a:ext cx="13644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узел 34"/>
          <p:cNvSpPr/>
          <p:nvPr/>
        </p:nvSpPr>
        <p:spPr>
          <a:xfrm>
            <a:off x="8597880" y="1863720"/>
            <a:ext cx="13644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узел 35"/>
          <p:cNvSpPr/>
          <p:nvPr/>
        </p:nvSpPr>
        <p:spPr>
          <a:xfrm>
            <a:off x="6483240" y="1577880"/>
            <a:ext cx="135000" cy="14292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8"/>
          <p:cNvSpPr/>
          <p:nvPr/>
        </p:nvSpPr>
        <p:spPr>
          <a:xfrm>
            <a:off x="3214800" y="4214880"/>
            <a:ext cx="2714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stemic network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growth  not provided by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4133160" y="37148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2523"/>
                </a:solidFill>
                <a:latin typeface="Arial"/>
                <a:ea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бъект 2"/>
          <p:cNvSpPr/>
          <p:nvPr/>
        </p:nvSpPr>
        <p:spPr>
          <a:xfrm>
            <a:off x="214200" y="1785960"/>
            <a:ext cx="27147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tisfaction with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lance between labour and lei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2286000" y="5357880"/>
            <a:ext cx="450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obal interaction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systemic financial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rease o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eenhouse gas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142920" y="0"/>
            <a:ext cx="90010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Imbalance between  social and economic objectives and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7"/>
          <p:cNvSpPr/>
          <p:nvPr/>
        </p:nvSpPr>
        <p:spPr>
          <a:xfrm>
            <a:off x="214200" y="5214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OECD Better Lif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C25-BF6D-4472-AFCE-544EB77697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0" y="-71280"/>
            <a:ext cx="914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Visualization of comparison of </a:t>
            </a: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the countries’ positions and development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8.PNG"/>
          <p:cNvPicPr/>
          <p:nvPr/>
        </p:nvPicPr>
        <p:blipFill>
          <a:blip r:embed="rId1"/>
          <a:stretch/>
        </p:blipFill>
        <p:spPr>
          <a:xfrm>
            <a:off x="468360" y="1143000"/>
            <a:ext cx="820728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42920" y="0"/>
            <a:ext cx="878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Arial"/>
              </a:rPr>
              <a:t>European meadow of life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according to the Better Life Index data (OECD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FD7-B26F-4528-B499-DE4069B89C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Development of cooperation in the sphere of progress measurement with relevant internatio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4DA-D9DB-4B21-A61C-F873CE98B9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Овал 4"/>
          <p:cNvGrpSpPr/>
          <p:nvPr/>
        </p:nvGrpSpPr>
        <p:grpSpPr>
          <a:xfrm>
            <a:off x="755640" y="3328920"/>
            <a:ext cx="2127240" cy="1266840"/>
            <a:chOff x="755640" y="3328920"/>
            <a:chExt cx="2127240" cy="1266840"/>
          </a:xfrm>
        </p:grpSpPr>
        <p:pic>
          <p:nvPicPr>
            <p:cNvPr id="174" name="Овал 4" descr=""/>
            <p:cNvPicPr/>
            <p:nvPr/>
          </p:nvPicPr>
          <p:blipFill>
            <a:blip r:embed="rId1"/>
            <a:stretch/>
          </p:blipFill>
          <p:spPr>
            <a:xfrm>
              <a:off x="755640" y="3328920"/>
              <a:ext cx="21272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089000" y="353520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W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5"/>
          <p:cNvGrpSpPr/>
          <p:nvPr/>
        </p:nvGrpSpPr>
        <p:grpSpPr>
          <a:xfrm>
            <a:off x="2468520" y="2041560"/>
            <a:ext cx="2127240" cy="1268280"/>
            <a:chOff x="2468520" y="2041560"/>
            <a:chExt cx="2127240" cy="1268280"/>
          </a:xfrm>
        </p:grpSpPr>
        <p:pic>
          <p:nvPicPr>
            <p:cNvPr id="177" name="Овал 5" descr=""/>
            <p:cNvPicPr/>
            <p:nvPr/>
          </p:nvPicPr>
          <p:blipFill>
            <a:blip r:embed="rId2"/>
            <a:stretch/>
          </p:blipFill>
          <p:spPr>
            <a:xfrm>
              <a:off x="2468520" y="2041560"/>
              <a:ext cx="21272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803680" y="2249640"/>
              <a:ext cx="14652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E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6"/>
          <p:cNvGrpSpPr/>
          <p:nvPr/>
        </p:nvGrpSpPr>
        <p:grpSpPr>
          <a:xfrm>
            <a:off x="1395360" y="5114880"/>
            <a:ext cx="2129040" cy="1266840"/>
            <a:chOff x="1395360" y="5114880"/>
            <a:chExt cx="2129040" cy="1266840"/>
          </a:xfrm>
        </p:grpSpPr>
        <p:pic>
          <p:nvPicPr>
            <p:cNvPr id="180" name="Овал 6" descr=""/>
            <p:cNvPicPr/>
            <p:nvPr/>
          </p:nvPicPr>
          <p:blipFill>
            <a:blip r:embed="rId3"/>
            <a:stretch/>
          </p:blipFill>
          <p:spPr>
            <a:xfrm>
              <a:off x="1395360" y="5114880"/>
              <a:ext cx="21290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731960" y="532116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IIA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7"/>
          <p:cNvGrpSpPr/>
          <p:nvPr/>
        </p:nvGrpSpPr>
        <p:grpSpPr>
          <a:xfrm>
            <a:off x="3340080" y="3828960"/>
            <a:ext cx="2543040" cy="1266840"/>
            <a:chOff x="3340080" y="3828960"/>
            <a:chExt cx="2543040" cy="1266840"/>
          </a:xfrm>
        </p:grpSpPr>
        <p:pic>
          <p:nvPicPr>
            <p:cNvPr id="183" name="Овал 7" descr=""/>
            <p:cNvPicPr/>
            <p:nvPr/>
          </p:nvPicPr>
          <p:blipFill>
            <a:blip r:embed="rId4"/>
            <a:stretch/>
          </p:blipFill>
          <p:spPr>
            <a:xfrm>
              <a:off x="3340080" y="3828960"/>
              <a:ext cx="25430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724200" y="4035600"/>
              <a:ext cx="17668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54061"/>
                  </a:solidFill>
                  <a:latin typeface="Calibri"/>
                </a:rPr>
                <a:t>INTOS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8"/>
          <p:cNvGrpSpPr/>
          <p:nvPr/>
        </p:nvGrpSpPr>
        <p:grpSpPr>
          <a:xfrm>
            <a:off x="5327640" y="5254560"/>
            <a:ext cx="2341440" cy="1268640"/>
            <a:chOff x="5327640" y="5254560"/>
            <a:chExt cx="2341440" cy="1268640"/>
          </a:xfrm>
        </p:grpSpPr>
        <p:pic>
          <p:nvPicPr>
            <p:cNvPr id="186" name="Овал 8" descr=""/>
            <p:cNvPicPr/>
            <p:nvPr/>
          </p:nvPicPr>
          <p:blipFill>
            <a:blip r:embed="rId5"/>
            <a:stretch/>
          </p:blipFill>
          <p:spPr>
            <a:xfrm>
              <a:off x="5327640" y="5254560"/>
              <a:ext cx="234144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692680" y="5464080"/>
              <a:ext cx="16160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Other 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9"/>
          <p:cNvGrpSpPr/>
          <p:nvPr/>
        </p:nvGrpSpPr>
        <p:grpSpPr>
          <a:xfrm>
            <a:off x="6327720" y="3395520"/>
            <a:ext cx="2127240" cy="1273320"/>
            <a:chOff x="6327720" y="3395520"/>
            <a:chExt cx="2127240" cy="1273320"/>
          </a:xfrm>
        </p:grpSpPr>
        <p:pic>
          <p:nvPicPr>
            <p:cNvPr id="189" name="Овал 9" descr=""/>
            <p:cNvPicPr/>
            <p:nvPr/>
          </p:nvPicPr>
          <p:blipFill>
            <a:blip r:embed="rId6"/>
            <a:stretch/>
          </p:blipFill>
          <p:spPr>
            <a:xfrm>
              <a:off x="6327720" y="3395520"/>
              <a:ext cx="212724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661080" y="360684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Двойная стрелка влево/вправо 10"/>
          <p:cNvSpPr/>
          <p:nvPr/>
        </p:nvSpPr>
        <p:spPr>
          <a:xfrm rot="1243800">
            <a:off x="2876400" y="408312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войная стрелка влево/вправо 11"/>
          <p:cNvSpPr/>
          <p:nvPr/>
        </p:nvSpPr>
        <p:spPr>
          <a:xfrm rot="19416000">
            <a:off x="3368520" y="5057280"/>
            <a:ext cx="500040" cy="20340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Двойная стрелка влево/вправо 13"/>
          <p:cNvSpPr/>
          <p:nvPr/>
        </p:nvSpPr>
        <p:spPr>
          <a:xfrm rot="7515000">
            <a:off x="5048280" y="3518280"/>
            <a:ext cx="500040" cy="20340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войная стрелка влево/вправо 14"/>
          <p:cNvSpPr/>
          <p:nvPr/>
        </p:nvSpPr>
        <p:spPr>
          <a:xfrm rot="20639400">
            <a:off x="5805000" y="403524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войная стрелка влево/вправо 15"/>
          <p:cNvSpPr/>
          <p:nvPr/>
        </p:nvSpPr>
        <p:spPr>
          <a:xfrm rot="2023800">
            <a:off x="5300280" y="505152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Овал 16"/>
          <p:cNvGrpSpPr/>
          <p:nvPr/>
        </p:nvGrpSpPr>
        <p:grpSpPr>
          <a:xfrm>
            <a:off x="5041800" y="2109960"/>
            <a:ext cx="2127240" cy="1272960"/>
            <a:chOff x="5041800" y="2109960"/>
            <a:chExt cx="2127240" cy="1272960"/>
          </a:xfrm>
        </p:grpSpPr>
        <p:pic>
          <p:nvPicPr>
            <p:cNvPr id="197" name="Овал 16" descr=""/>
            <p:cNvPicPr/>
            <p:nvPr/>
          </p:nvPicPr>
          <p:blipFill>
            <a:blip r:embed="rId7"/>
            <a:stretch/>
          </p:blipFill>
          <p:spPr>
            <a:xfrm>
              <a:off x="5041800" y="2109960"/>
              <a:ext cx="212724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375160" y="2320920"/>
              <a:ext cx="14652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Двойная стрелка влево/вправо 17"/>
          <p:cNvSpPr/>
          <p:nvPr/>
        </p:nvSpPr>
        <p:spPr>
          <a:xfrm rot="4035000">
            <a:off x="3869640" y="3453480"/>
            <a:ext cx="500040" cy="20304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Database on KN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19D-EFC6-4BCE-B62A-A9DFB163B3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rcRect l="0" t="10599" r="18454" b="2845"/>
          <a:stretch/>
        </p:blipFill>
        <p:spPr>
          <a:xfrm>
            <a:off x="184320" y="912960"/>
            <a:ext cx="8673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KNIs Subprojects in the CIS Framework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1718-8FAF-4044-8EEE-0DF3548295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285840" y="2254320"/>
            <a:ext cx="8643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the possibilities for methodological comparability of the key national indicators of the CIS Member Stat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table of the passports of the indicators of the CIS Economic Development Strategy for the period up to 20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11T13:33:38Z</dcterms:modified>
  <cp:revision>254</cp:revision>
  <dc:subject/>
  <dc:title>Слайд 1</dc:title>
</cp:coreProperties>
</file>