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158-9EC1-4202-B8FE-9911179F6D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2307-192F-49CC-879D-F3F2F25CD480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0E0-470B-4CAD-B3FC-1274A3F5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F06-4A02-4D6B-9AF8-81BB76BB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4A3-E656-496B-B65B-100F4422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20E-AC3E-4DA5-9299-D8A8C4BE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4D4E-F54E-4D1D-B5E2-85BFBD82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E2C2-6533-43BC-B1C4-66B7F601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A6A9-8E10-44B9-802A-83DDC5C7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055F-AE8D-4663-A98A-3B7B89FB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E981-AC9B-401C-9BAD-4DFE226B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7FFE-8F1C-4B07-BC05-269A6D9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3A11-9A33-4A63-9291-79E61F3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6EC-CD0A-4B83-B49F-4F58C95F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7924-F5BF-48E8-BEC5-4065D38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8D63-792B-4C2C-BE82-1A67BA7A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0B2C-AFDF-4815-A826-F5F5E213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5F1F-F0C9-49D3-9D84-83AE936E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00C1-8936-486C-9DB3-A9781640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507-354B-4FB7-9CB2-B319F3BB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807-C531-48A1-97E6-31B6DDF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B14-26DD-4BAB-B580-2DE0D87A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C04-3B9B-4FA1-B75F-75936045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5FA-C575-4787-BB90-D17C11FB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AD5-18D2-40F8-8E7B-1C5BA423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A11-70B7-4FE3-A52D-4FC8F77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6A93-DF25-48D4-B051-0F08312DFEF6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302B-1615-4EE6-BB2E-99CA7DDDB4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6EA1-B864-44F8-87F1-444532980452}" type="datetime">
              <a:rPr b="0" lang="ru-RU" sz="1200" spc="-1" strike="noStrike">
                <a:solidFill>
                  <a:srgbClr val="898989"/>
                </a:solidFill>
                <a:latin typeface="Arial"/>
                <a:ea typeface="宋体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B9D7-F7A4-4E7A-BF34-D7CC73D71A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0" y="214200"/>
            <a:ext cx="9144000" cy="5995800"/>
            <a:chOff x="0" y="214200"/>
            <a:chExt cx="9144000" cy="5995800"/>
          </a:xfrm>
        </p:grpSpPr>
        <p:sp>
          <p:nvSpPr>
            <p:cNvPr id="90" name="Rectangle 4"/>
            <p:cNvSpPr/>
            <p:nvPr/>
          </p:nvSpPr>
          <p:spPr>
            <a:xfrm>
              <a:off x="108000" y="1849320"/>
              <a:ext cx="87138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br>
                <a:rPr sz="2900"/>
              </a:br>
              <a:br>
                <a:rPr sz="2900"/>
              </a:b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0" y="31795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0" y="31795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0" y="31795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0" y="31795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0" y="2142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6092"/>
                  </a:solidFill>
                  <a:latin typeface="Arial"/>
                  <a:ea typeface="宋体"/>
                </a:rPr>
                <a:t>The INTOSAI Working Group on Key National Indica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0" y="2222280"/>
              <a:ext cx="9144000" cy="18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REPORT ON THE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  <a:ea typeface="宋体"/>
                </a:rPr>
                <a:t>WORKING GROUP </a:t>
              </a:r>
              <a:r>
                <a:rPr b="1" lang="en-US" sz="4000" spc="-1" strike="noStrike">
                  <a:solidFill>
                    <a:srgbClr val="376092"/>
                  </a:solidFill>
                  <a:latin typeface="Arial"/>
                </a:rPr>
                <a:t>ACTIVITY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76092"/>
                  </a:solidFill>
                  <a:latin typeface="Arial"/>
                </a:rPr>
                <a:t>(</a:t>
              </a:r>
              <a:r>
                <a:rPr b="1" lang="en-US" sz="3600" spc="-1" strike="noStrike">
                  <a:solidFill>
                    <a:srgbClr val="376092"/>
                  </a:solidFill>
                  <a:latin typeface="Arial"/>
                </a:rPr>
                <a:t>April 201</a:t>
              </a:r>
              <a:r>
                <a:rPr b="1" lang="ru-RU" sz="3600" spc="-1" strike="noStrike">
                  <a:solidFill>
                    <a:srgbClr val="376092"/>
                  </a:solidFill>
                  <a:latin typeface="Arial"/>
                </a:rPr>
                <a:t>1</a:t>
              </a:r>
              <a:r>
                <a:rPr b="1" lang="en-US" sz="3600" spc="-1" strike="noStrike">
                  <a:solidFill>
                    <a:srgbClr val="376092"/>
                  </a:solidFill>
                  <a:latin typeface="Arial"/>
                </a:rPr>
                <a:t> – April 201</a:t>
              </a:r>
              <a:r>
                <a:rPr b="1" lang="ru-RU" sz="3600" spc="-1" strike="noStrike">
                  <a:solidFill>
                    <a:srgbClr val="376092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37609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041640" y="58100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11"/>
          <p:cNvSpPr/>
          <p:nvPr/>
        </p:nvSpPr>
        <p:spPr>
          <a:xfrm>
            <a:off x="3227400" y="60688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The 5</a:t>
            </a:r>
            <a:r>
              <a:rPr b="1" lang="en-US" sz="1800" spc="-1" strike="noStrike" baseline="30000">
                <a:solidFill>
                  <a:srgbClr val="376092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</a:rPr>
              <a:t>April 3-4, 2012, R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1076400"/>
            <a:ext cx="9144000" cy="57816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280" y="142560"/>
            <a:ext cx="90014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Visualization of comparisons of countries position and development goal</a:t>
            </a:r>
            <a:r>
              <a:rPr b="1" lang="en-US" sz="3500" spc="-1" strike="noStrike">
                <a:solidFill>
                  <a:srgbClr val="376092"/>
                </a:solidFill>
                <a:latin typeface="Arial"/>
                <a:ea typeface="Arial"/>
              </a:rPr>
              <a:t>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692C-EFE1-4B21-969B-9BB33F2A8E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76092"/>
                </a:solidFill>
                <a:latin typeface="Calibri"/>
              </a:rPr>
              <a:t>Data Envelopment Analysi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8A20-B2BE-4797-AFF0-CFEB8E87A5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3" descr="снимок22.png"/>
          <p:cNvPicPr/>
          <p:nvPr/>
        </p:nvPicPr>
        <p:blipFill>
          <a:blip r:embed="rId1"/>
          <a:stretch/>
        </p:blipFill>
        <p:spPr>
          <a:xfrm>
            <a:off x="500040" y="1714680"/>
            <a:ext cx="82152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Knowledge Base on KNI </a:t>
            </a:r>
            <a:r>
              <a:rPr b="1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http://nfbr.prognoz.ru/kni</a:t>
            </a:r>
            <a:r>
              <a:rPr b="1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Группа 4"/>
          <p:cNvGrpSpPr/>
          <p:nvPr/>
        </p:nvGrpSpPr>
        <p:grpSpPr>
          <a:xfrm>
            <a:off x="184320" y="692280"/>
            <a:ext cx="8959680" cy="5881680"/>
            <a:chOff x="184320" y="692280"/>
            <a:chExt cx="8959680" cy="5881680"/>
          </a:xfrm>
        </p:grpSpPr>
        <p:pic>
          <p:nvPicPr>
            <p:cNvPr id="167" name="Picture 6" descr=""/>
            <p:cNvPicPr/>
            <p:nvPr/>
          </p:nvPicPr>
          <p:blipFill>
            <a:blip r:embed="rId1"/>
            <a:srcRect l="0" t="10599" r="18454" b="2845"/>
            <a:stretch/>
          </p:blipFill>
          <p:spPr>
            <a:xfrm>
              <a:off x="184320" y="3141720"/>
              <a:ext cx="4919760" cy="34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" descr=""/>
            <p:cNvPicPr/>
            <p:nvPr/>
          </p:nvPicPr>
          <p:blipFill>
            <a:blip r:embed="rId2"/>
            <a:srcRect l="0" t="0" r="1564" b="5501"/>
            <a:stretch/>
          </p:blipFill>
          <p:spPr>
            <a:xfrm>
              <a:off x="3029040" y="692280"/>
              <a:ext cx="6114960" cy="397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8829-B947-4B60-9920-3AD73288D4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Web-site of the INTOSAI Working Group on K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75FE-2B08-485F-A131-C11E72E3E1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14200" y="285768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ach.gov.ru/en/intosaik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4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6564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1"/>
          <p:cNvSpPr/>
          <p:nvPr/>
        </p:nvSpPr>
        <p:spPr>
          <a:xfrm>
            <a:off x="69390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204D-B876-4B17-9B88-8EAA9EBC14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2920" y="142920"/>
            <a:ext cx="8715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Global risks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Methodology on the KNI selection for the use in SAIs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F4BF-2F77-4D86-821C-AD59216EB50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1521360"/>
            <a:ext cx="900108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Main points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universal principles of SAIs activity in the process of selection and use of KNI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goals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of SAIs in the process of selection and using KNI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tasks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of SAIs in the process of selection and using KNI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legal and regulatory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institutional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information and methodological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and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financial support of the selection and use of KNI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basic characteristics of KNI system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classification of KNI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selection of KNIs for their use in auditin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regularly publishing of special reports on the use of KNI in SAI’s activity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accumulation and dissemination of knowledge obtained by SAIs as a result of the use of KNI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dissemination of the existing international and national experience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82BB-BAE1-4821-B08F-8F340F26DE4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42920" y="142920"/>
            <a:ext cx="8715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Subprojects</a:t>
            </a:r>
            <a:r>
              <a:rPr b="1" lang="ru-RU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for</a:t>
            </a:r>
            <a:r>
              <a:rPr b="1" lang="ru-RU" sz="3600" spc="-1" strike="noStrike">
                <a:solidFill>
                  <a:srgbClr val="376092"/>
                </a:solidFill>
                <a:latin typeface="Arial"/>
                <a:ea typeface="Arial"/>
              </a:rPr>
              <a:t>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Arial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42960" y="1557720"/>
            <a:ext cx="771516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Analysis of opportunities on the use of KNI for international comparisons and preparation of appropriate recommend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SAI's role in development and use of key indicators for R&amp;D evaluation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A4CD-FE88-43AF-B340-57B5F17EE6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White Paper on K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214200" y="5857920"/>
            <a:ext cx="8643960" cy="857160"/>
          </a:xfrm>
          <a:prstGeom prst="rect">
            <a:avLst/>
          </a:prstGeom>
          <a:solidFill>
            <a:srgbClr val="ebf1de"/>
          </a:solidFill>
          <a:ln w="3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thodology on the KNI selection for the use in SAIs activity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 of opportunities on the use of KNI for international comparisons and preparation of appropriate recommendati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I's role in development and use of key indicators for R&amp;D evalu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F080-7C77-4316-86CB-D62DBF7D43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7"/>
          <p:cNvSpPr/>
          <p:nvPr/>
        </p:nvSpPr>
        <p:spPr>
          <a:xfrm>
            <a:off x="3714840" y="2857680"/>
            <a:ext cx="1500120" cy="928440"/>
          </a:xfrm>
          <a:prstGeom prst="ellipse">
            <a:avLst/>
          </a:prstGeom>
          <a:solidFill>
            <a:srgbClr val="e6e0ec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6215040" y="4714920"/>
            <a:ext cx="1785960" cy="1000080"/>
          </a:xfrm>
          <a:prstGeom prst="ellipse">
            <a:avLst/>
          </a:prstGeom>
          <a:solidFill>
            <a:srgbClr val="e6e0ec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Группа 9"/>
          <p:cNvGrpSpPr/>
          <p:nvPr/>
        </p:nvGrpSpPr>
        <p:grpSpPr>
          <a:xfrm>
            <a:off x="642960" y="1503360"/>
            <a:ext cx="2500200" cy="1139760"/>
            <a:chOff x="642960" y="1503360"/>
            <a:chExt cx="2500200" cy="1139760"/>
          </a:xfrm>
        </p:grpSpPr>
        <p:sp>
          <p:nvSpPr>
            <p:cNvPr id="115" name="Овал 10"/>
            <p:cNvSpPr/>
            <p:nvPr/>
          </p:nvSpPr>
          <p:spPr>
            <a:xfrm>
              <a:off x="1033560" y="1503360"/>
              <a:ext cx="1719000" cy="113976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оугольник 11"/>
            <p:cNvSpPr/>
            <p:nvPr/>
          </p:nvSpPr>
          <p:spPr>
            <a:xfrm>
              <a:off x="642960" y="1555560"/>
              <a:ext cx="2500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Countri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in develop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and use of KNI</a:t>
              </a:r>
              <a:r>
                <a:rPr b="0" lang="ru-RU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12"/>
          <p:cNvGrpSpPr/>
          <p:nvPr/>
        </p:nvGrpSpPr>
        <p:grpSpPr>
          <a:xfrm>
            <a:off x="642960" y="2789280"/>
            <a:ext cx="2428920" cy="1139760"/>
            <a:chOff x="642960" y="2789280"/>
            <a:chExt cx="2428920" cy="1139760"/>
          </a:xfrm>
        </p:grpSpPr>
        <p:sp>
          <p:nvSpPr>
            <p:cNvPr id="118" name="Овал 13"/>
            <p:cNvSpPr/>
            <p:nvPr/>
          </p:nvSpPr>
          <p:spPr>
            <a:xfrm>
              <a:off x="966600" y="2789280"/>
              <a:ext cx="1781280" cy="113976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оугольник 14"/>
            <p:cNvSpPr/>
            <p:nvPr/>
          </p:nvSpPr>
          <p:spPr>
            <a:xfrm>
              <a:off x="642960" y="2856960"/>
              <a:ext cx="2428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Internatio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organization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experience in progress </a:t>
              </a: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15"/>
          <p:cNvGrpSpPr/>
          <p:nvPr/>
        </p:nvGrpSpPr>
        <p:grpSpPr>
          <a:xfrm>
            <a:off x="500040" y="4044960"/>
            <a:ext cx="2643120" cy="1170000"/>
            <a:chOff x="500040" y="4044960"/>
            <a:chExt cx="2643120" cy="1170000"/>
          </a:xfrm>
        </p:grpSpPr>
        <p:sp>
          <p:nvSpPr>
            <p:cNvPr id="121" name="Овал 16"/>
            <p:cNvSpPr/>
            <p:nvPr/>
          </p:nvSpPr>
          <p:spPr>
            <a:xfrm>
              <a:off x="912960" y="4044960"/>
              <a:ext cx="1817280" cy="117000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7"/>
            <p:cNvSpPr/>
            <p:nvPr/>
          </p:nvSpPr>
          <p:spPr>
            <a:xfrm>
              <a:off x="500040" y="4124520"/>
              <a:ext cx="2643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Role of KN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in sustainab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develop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40" indent="-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moni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18"/>
          <p:cNvGrpSpPr/>
          <p:nvPr/>
        </p:nvGrpSpPr>
        <p:grpSpPr>
          <a:xfrm>
            <a:off x="6143760" y="1214280"/>
            <a:ext cx="1714320" cy="1071720"/>
            <a:chOff x="6143760" y="1214280"/>
            <a:chExt cx="1714320" cy="1071720"/>
          </a:xfrm>
        </p:grpSpPr>
        <p:sp>
          <p:nvSpPr>
            <p:cNvPr id="124" name="Овал 19"/>
            <p:cNvSpPr/>
            <p:nvPr/>
          </p:nvSpPr>
          <p:spPr>
            <a:xfrm>
              <a:off x="6143760" y="1214280"/>
              <a:ext cx="1714320" cy="107172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оугольник 20"/>
            <p:cNvSpPr/>
            <p:nvPr/>
          </p:nvSpPr>
          <p:spPr>
            <a:xfrm>
              <a:off x="6221520" y="1417680"/>
              <a:ext cx="1636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Principles for SAIs application of K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1"/>
          <p:cNvGrpSpPr/>
          <p:nvPr/>
        </p:nvGrpSpPr>
        <p:grpSpPr>
          <a:xfrm>
            <a:off x="6000840" y="2357280"/>
            <a:ext cx="2143080" cy="1070280"/>
            <a:chOff x="6000840" y="2357280"/>
            <a:chExt cx="2143080" cy="1070280"/>
          </a:xfrm>
        </p:grpSpPr>
        <p:sp>
          <p:nvSpPr>
            <p:cNvPr id="127" name="Овал 22"/>
            <p:cNvSpPr/>
            <p:nvPr/>
          </p:nvSpPr>
          <p:spPr>
            <a:xfrm>
              <a:off x="6159600" y="2357280"/>
              <a:ext cx="1746360" cy="107028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23"/>
            <p:cNvSpPr/>
            <p:nvPr/>
          </p:nvSpPr>
          <p:spPr>
            <a:xfrm>
              <a:off x="6000840" y="2428560"/>
              <a:ext cx="2143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Key natio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indicators: Guide to terms 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Arial"/>
                </a:rPr>
                <a:t>concep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4"/>
          <p:cNvGrpSpPr/>
          <p:nvPr/>
        </p:nvGrpSpPr>
        <p:grpSpPr>
          <a:xfrm>
            <a:off x="5929200" y="3571920"/>
            <a:ext cx="2357640" cy="1071360"/>
            <a:chOff x="5929200" y="3571920"/>
            <a:chExt cx="2357640" cy="1071360"/>
          </a:xfrm>
        </p:grpSpPr>
        <p:sp>
          <p:nvSpPr>
            <p:cNvPr id="130" name="Овал 25"/>
            <p:cNvSpPr/>
            <p:nvPr/>
          </p:nvSpPr>
          <p:spPr>
            <a:xfrm>
              <a:off x="6243480" y="3571920"/>
              <a:ext cx="1729080" cy="1071360"/>
            </a:xfrm>
            <a:prstGeom prst="ellipse">
              <a:avLst/>
            </a:prstGeom>
            <a:solidFill>
              <a:srgbClr val="e6e0ec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26"/>
            <p:cNvSpPr/>
            <p:nvPr/>
          </p:nvSpPr>
          <p:spPr>
            <a:xfrm>
              <a:off x="5929200" y="3724920"/>
              <a:ext cx="2357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</a:rPr>
                <a:t>Recommend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2060"/>
                  </a:solidFill>
                  <a:latin typeface="Arial"/>
                </a:rPr>
                <a:t>for knowledge-based econom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Прямоугольник 27"/>
          <p:cNvSpPr/>
          <p:nvPr/>
        </p:nvSpPr>
        <p:spPr>
          <a:xfrm>
            <a:off x="5715000" y="4714920"/>
            <a:ext cx="278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440" indent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Recommend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for the 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and use of KNI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developing 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28"/>
          <p:cNvCxnSpPr>
            <a:stCxn id="112" idx="1"/>
            <a:endCxn id="115" idx="6"/>
          </p:cNvCxnSpPr>
          <p:nvPr/>
        </p:nvCxnSpPr>
        <p:spPr>
          <a:xfrm flipH="1" flipV="1">
            <a:off x="2751840" y="2072880"/>
            <a:ext cx="1181880" cy="9216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34" name="Прямая со стрелкой 29"/>
          <p:cNvCxnSpPr>
            <a:stCxn id="112" idx="2"/>
          </p:cNvCxnSpPr>
          <p:nvPr/>
        </p:nvCxnSpPr>
        <p:spPr>
          <a:xfrm flipH="1" flipV="1">
            <a:off x="2714400" y="3285720"/>
            <a:ext cx="1000800" cy="374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35" name="Прямая со стрелкой 30"/>
          <p:cNvCxnSpPr>
            <a:endCxn id="121" idx="6"/>
          </p:cNvCxnSpPr>
          <p:nvPr/>
        </p:nvCxnSpPr>
        <p:spPr>
          <a:xfrm flipH="1">
            <a:off x="2730240" y="3714840"/>
            <a:ext cx="1342080" cy="9165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sp>
        <p:nvSpPr>
          <p:cNvPr id="136" name="TextBox 31"/>
          <p:cNvSpPr/>
          <p:nvPr/>
        </p:nvSpPr>
        <p:spPr>
          <a:xfrm>
            <a:off x="1000080" y="844560"/>
            <a:ext cx="228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Problem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2"/>
          <p:cNvSpPr/>
          <p:nvPr/>
        </p:nvSpPr>
        <p:spPr>
          <a:xfrm>
            <a:off x="5929200" y="785880"/>
            <a:ext cx="19288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33"/>
          <p:cNvCxnSpPr>
            <a:stCxn id="112" idx="7"/>
          </p:cNvCxnSpPr>
          <p:nvPr/>
        </p:nvCxnSpPr>
        <p:spPr>
          <a:xfrm flipV="1">
            <a:off x="4994640" y="1999440"/>
            <a:ext cx="1220040" cy="99468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39" name="Прямая со стрелкой 34"/>
          <p:cNvCxnSpPr>
            <a:stCxn id="112" idx="6"/>
            <a:endCxn id="127" idx="2"/>
          </p:cNvCxnSpPr>
          <p:nvPr/>
        </p:nvCxnSpPr>
        <p:spPr>
          <a:xfrm flipV="1">
            <a:off x="5214960" y="2891880"/>
            <a:ext cx="945360" cy="43092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40" name="Прямая со стрелкой 35"/>
          <p:cNvCxnSpPr>
            <a:endCxn id="130" idx="2"/>
          </p:cNvCxnSpPr>
          <p:nvPr/>
        </p:nvCxnSpPr>
        <p:spPr>
          <a:xfrm>
            <a:off x="5143320" y="3499920"/>
            <a:ext cx="1100520" cy="6087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41" name="Прямая со стрелкой 36"/>
          <p:cNvCxnSpPr/>
          <p:nvPr/>
        </p:nvCxnSpPr>
        <p:spPr>
          <a:xfrm>
            <a:off x="4857480" y="3714840"/>
            <a:ext cx="1429560" cy="12866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headEnd len="med" type="triangle" w="med"/>
          </a:ln>
        </p:spPr>
      </p:cxnSp>
      <p:cxnSp>
        <p:nvCxnSpPr>
          <p:cNvPr id="142" name="Прямая со стрелкой 37"/>
          <p:cNvCxnSpPr/>
          <p:nvPr/>
        </p:nvCxnSpPr>
        <p:spPr>
          <a:xfrm flipH="1">
            <a:off x="4428360" y="3785760"/>
            <a:ext cx="1080" cy="2072520"/>
          </a:xfrm>
          <a:prstGeom prst="straightConnector1">
            <a:avLst/>
          </a:prstGeom>
          <a:ln w="19080">
            <a:solidFill>
              <a:srgbClr val="c0504d"/>
            </a:solidFill>
            <a:miter/>
            <a:headEnd len="med" type="triangle" w="med"/>
          </a:ln>
        </p:spPr>
      </p:cxnSp>
      <p:sp>
        <p:nvSpPr>
          <p:cNvPr id="143" name="TextBox 38"/>
          <p:cNvSpPr/>
          <p:nvPr/>
        </p:nvSpPr>
        <p:spPr>
          <a:xfrm>
            <a:off x="3857760" y="5429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w sub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142920" y="1494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European meadow of life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192B-5A7F-4FC9-A912-3982B737E0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142920" y="77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European economic meado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9E96-2C68-408D-9A81-44C4E48959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2" descr=""/>
          <p:cNvPicPr/>
          <p:nvPr/>
        </p:nvPicPr>
        <p:blipFill>
          <a:blip r:embed="rId1"/>
          <a:stretch/>
        </p:blipFill>
        <p:spPr>
          <a:xfrm>
            <a:off x="298440" y="1477800"/>
            <a:ext cx="8569440" cy="5169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142920" y="1429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Comparison of GCI and BLI assess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case of Germany</a:t>
            </a:r>
            <a:r>
              <a:rPr b="1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6EC3-737D-4B01-9F99-778213F1D9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142920" y="1810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Comparison of GCI and BLI assess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(case of 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C22A-D67D-4361-A276-EE9D4A0216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Группа 5"/>
          <p:cNvGrpSpPr/>
          <p:nvPr/>
        </p:nvGrpSpPr>
        <p:grpSpPr>
          <a:xfrm>
            <a:off x="0" y="1930320"/>
            <a:ext cx="9144000" cy="4356360"/>
            <a:chOff x="0" y="1930320"/>
            <a:chExt cx="9144000" cy="4356360"/>
          </a:xfrm>
        </p:grpSpPr>
        <p:pic>
          <p:nvPicPr>
            <p:cNvPr id="156" name="Рисунок 6" descr="BLI6.jpg"/>
            <p:cNvPicPr/>
            <p:nvPr/>
          </p:nvPicPr>
          <p:blipFill>
            <a:blip r:embed="rId1"/>
            <a:stretch/>
          </p:blipFill>
          <p:spPr>
            <a:xfrm>
              <a:off x="0" y="1930320"/>
              <a:ext cx="9144000" cy="43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6"/>
            <p:cNvSpPr/>
            <p:nvPr/>
          </p:nvSpPr>
          <p:spPr>
            <a:xfrm>
              <a:off x="499680" y="200160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tter Life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7"/>
            <p:cNvSpPr/>
            <p:nvPr/>
          </p:nvSpPr>
          <p:spPr>
            <a:xfrm>
              <a:off x="4786200" y="2001600"/>
              <a:ext cx="36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bal Competitiveness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3-30T11:49:14Z</dcterms:modified>
  <cp:revision>210</cp:revision>
  <dc:subject/>
  <dc:title>Слайд 1</dc:title>
</cp:coreProperties>
</file>