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5.png" ContentType="image/png"/>
  <Override PartName="/ppt/media/image29.jpeg" ContentType="image/jpeg"/>
  <Override PartName="/ppt/media/image17.jpeg" ContentType="image/jpeg"/>
  <Override PartName="/ppt/media/image11.wmf" ContentType="image/x-wmf"/>
  <Override PartName="/ppt/media/image7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9.wmf" ContentType="image/x-wmf"/>
  <Override PartName="/ppt/media/image13.jpeg" ContentType="image/jpeg"/>
  <Override PartName="/ppt/media/image30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88A-EE3F-495D-8F2D-2EF538BD18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23ED-D9F5-44C1-9401-CDBFF9ADD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7BFD-D719-4CAE-B289-4B81CA45A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7FA-6561-4603-B6E2-A3EECA586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9BA-D279-460B-B722-B40856A83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295-4FD7-4499-BBF0-75EDC59F6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4A2-46A8-4F6A-9E36-23B8B73BD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E6D-DDB4-4389-8709-0E63EB372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D60-2180-47EF-A2D8-D79DDAB02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83E-C696-422B-BC11-611648827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7136-8695-476D-8CAA-5258CBC7D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B79-D367-4153-800B-2FA923F9C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D211-5C20-4C13-A5DF-0090C425C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2520-60D8-4255-889D-2A3BC3FDA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44B6-6D64-43ED-AED9-376C5CDD8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8E00-98E8-45EF-8E39-203115FBF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6CD-5F40-4D12-836F-BE97F9956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EC3-67B1-43DF-9388-E0EC50407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1DDC-DBCD-4232-A2E1-C00BFBFDC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102-2872-4041-A083-DD489B7F2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4BD-196C-44A2-89F8-1A2CF5F18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CA42-9C28-4E35-BAC8-82C83FA17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723-36E3-45A5-8294-75AAF399C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4A7-56C3-4ECC-966D-404B9211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EF1-A5F1-41B4-97E1-2EA1FA8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B30-EF5D-4FA0-B00D-8144920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A1A-ABCB-4B0B-8036-6D534436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8F57-216A-455C-A300-AFD0EC61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B62-2887-40FD-B603-8A5AD2F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C1C7-D6D1-4D47-89B1-98E2328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0BE9-DF61-4C56-83B3-7161710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490-714A-4258-ADF7-B9CC2103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48DA-2EFC-4701-8ED2-706AE7BC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407-626D-4C40-A406-C6D72AF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0CA-7326-4CA4-86E9-F2A29698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851-95D2-4A17-828B-2E3A4ED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9C7-7BF1-419D-8B24-1BF4181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019E-D87B-4E26-B691-47FA0B6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AC64-A644-452D-A3E6-ECBEC28D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395-7C46-4E88-B865-EE5DB477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205-EE10-4536-A583-6C22819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ED7-83C5-4CCD-A7FA-60A9218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E4D-B7AE-42C2-B7DA-3481135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B96-D712-47C1-A484-777AD2AF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D3D-C14C-415D-808C-9A387B5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822-0A0E-4276-A324-269D8F7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AE8-F684-4521-96AC-A8A38451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CBB-A18A-41CF-9F9F-1A602A3A30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4A8-4ACA-4AB0-B652-7C7D499C3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878-7B7F-4BD6-8537-1094F83535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733-68D6-4BE6-AB89-84E604232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palata_big01.jpg"/>
          <p:cNvPicPr/>
          <p:nvPr/>
        </p:nvPicPr>
        <p:blipFill>
          <a:blip r:embed="rId1"/>
          <a:stretch/>
        </p:blipFill>
        <p:spPr>
          <a:xfrm>
            <a:off x="1928880" y="-7920"/>
            <a:ext cx="5429160" cy="6865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40000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2484360" y="4221000"/>
            <a:ext cx="6551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04960" y="42876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Chamber of the Russian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28760" y="2143080"/>
            <a:ext cx="82864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Герб Счетной палаты"/>
          <p:cNvPicPr/>
          <p:nvPr/>
        </p:nvPicPr>
        <p:blipFill>
          <a:blip r:embed="rId2"/>
          <a:stretch/>
        </p:blipFill>
        <p:spPr>
          <a:xfrm>
            <a:off x="357120" y="285840"/>
            <a:ext cx="1490760" cy="15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71640" y="5589720"/>
            <a:ext cx="7416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Times New Roman"/>
              </a:rPr>
              <a:t>Auditor of </a:t>
            </a:r>
            <a:r>
              <a:rPr b="1" lang="ru-RU" sz="2000" spc="-1" strike="noStrike">
                <a:solidFill>
                  <a:srgbClr val="00008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e"/>
                </a:solidFill>
                <a:latin typeface="Times New Roman"/>
                <a:ea typeface="Times New Roman"/>
              </a:rPr>
              <a:t>Accounts Chamber of the 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Times New Roman"/>
              </a:rPr>
              <a:t>Alexander Pisku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714240" y="2928960"/>
            <a:ext cx="7715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8e"/>
                </a:solidFill>
                <a:latin typeface="Calibri"/>
              </a:rPr>
              <a:t>Possibilities of using </a:t>
            </a:r>
            <a:r>
              <a:rPr b="1" lang="en-US" sz="4400" spc="-1" strike="noStrike">
                <a:solidFill>
                  <a:srgbClr val="00008e"/>
                </a:solidFill>
                <a:latin typeface="Arial Narrow"/>
              </a:rPr>
              <a:t>information technologies for KNI evaluation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8"/>
          <p:cNvSpPr/>
          <p:nvPr/>
        </p:nvSpPr>
        <p:spPr>
          <a:xfrm>
            <a:off x="2928960" y="3357720"/>
            <a:ext cx="3602160" cy="1081080"/>
          </a:xfrm>
          <a:prstGeom prst="roundRect">
            <a:avLst>
              <a:gd name="adj" fmla="val 16667"/>
            </a:avLst>
          </a:prstGeom>
          <a:solidFill>
            <a:srgbClr val="e8d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covering hidde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Dat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rot="19221000">
            <a:off x="2232000" y="2752200"/>
            <a:ext cx="863640" cy="816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KNI identification with Data Min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000080" y="5000760"/>
            <a:ext cx="727236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216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aled dependenci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petitiveness Index on K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14200" y="1071720"/>
            <a:ext cx="3600720" cy="165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fram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004 –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 rot="2502000">
            <a:off x="6376680" y="2755440"/>
            <a:ext cx="863640" cy="816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857840" y="1071720"/>
            <a:ext cx="3601800" cy="1655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857760" y="4429080"/>
            <a:ext cx="1800000" cy="574560"/>
          </a:xfrm>
          <a:prstGeom prst="downArrow">
            <a:avLst>
              <a:gd name="adj1" fmla="val 49907"/>
              <a:gd name="adj2" fmla="val 3137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2C7D-C97C-4117-B43F-AD66D945A4A2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Скругленный прямоугольник 2"/>
          <p:cNvSpPr/>
          <p:nvPr/>
        </p:nvSpPr>
        <p:spPr>
          <a:xfrm>
            <a:off x="1214280" y="142920"/>
            <a:ext cx="650088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Statistically significant K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6A9-CE8E-4A5B-AD84-08404456039A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4200" y="1500120"/>
          <a:ext cx="8786880" cy="2225880"/>
        </p:xfrm>
        <a:graphic>
          <a:graphicData uri="http://schemas.openxmlformats.org/drawingml/2006/table">
            <a:tbl>
              <a:tblPr/>
              <a:tblGrid>
                <a:gridCol w="6429600"/>
                <a:gridCol w="2357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nomic development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ternet users, per 100 citiz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expectancy at birth,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P per capita, PPP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survival to age 65, % of co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 ages 65 and above, % of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3"/>
          <p:cNvSpPr/>
          <p:nvPr/>
        </p:nvSpPr>
        <p:spPr>
          <a:xfrm>
            <a:off x="0" y="107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Arial"/>
              </a:rPr>
              <a:t>Significant indicators identified with convenient statist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0" y="3786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e"/>
                </a:solidFill>
                <a:latin typeface="Arial"/>
              </a:rPr>
              <a:t>Significant indicators identified with Data Min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4200" y="4286160"/>
          <a:ext cx="8786880" cy="2286000"/>
        </p:xfrm>
        <a:graphic>
          <a:graphicData uri="http://schemas.openxmlformats.org/drawingml/2006/table">
            <a:tbl>
              <a:tblPr/>
              <a:tblGrid>
                <a:gridCol w="6429600"/>
                <a:gridCol w="2357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nomic development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raw materials imports, % of merchandise im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 production from oil sources, % of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population growth, annu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ign direct investment, net inflows, 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Problem of</a:t>
            </a:r>
            <a:r>
              <a:rPr b="1" lang="ru-RU" sz="2800" spc="-1" strike="noStrike">
                <a:solidFill>
                  <a:srgbClr val="00008e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development metrics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e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-Тремасов\док КИТАЙ\доклад1704\VISIO\1.jpg"/>
          <p:cNvPicPr/>
          <p:nvPr/>
        </p:nvPicPr>
        <p:blipFill>
          <a:blip r:embed="rId1"/>
          <a:stretch/>
        </p:blipFill>
        <p:spPr>
          <a:xfrm>
            <a:off x="571680" y="1071720"/>
            <a:ext cx="809136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4" descr="снимок_eng_5.png"/>
          <p:cNvPicPr/>
          <p:nvPr/>
        </p:nvPicPr>
        <p:blipFill>
          <a:blip r:embed="rId1"/>
          <a:stretch/>
        </p:blipFill>
        <p:spPr>
          <a:xfrm>
            <a:off x="-14400" y="1071720"/>
            <a:ext cx="9158400" cy="57956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5655-DABA-46EA-83E7-DD5863A232F7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Times New Roman"/>
              </a:rPr>
              <a:t>Socio-economic development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214200" y="285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complex KNI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E10-23BE-40C1-BB21-862C8FC5070E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2" descr="im14a.jpg"/>
          <p:cNvPicPr/>
          <p:nvPr/>
        </p:nvPicPr>
        <p:blipFill>
          <a:blip r:embed="rId1"/>
          <a:stretch/>
        </p:blipFill>
        <p:spPr>
          <a:xfrm>
            <a:off x="1071720" y="1071720"/>
            <a:ext cx="69627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29"/>
          <p:cNvGrpSpPr/>
          <p:nvPr/>
        </p:nvGrpSpPr>
        <p:grpSpPr>
          <a:xfrm>
            <a:off x="1214280" y="1143000"/>
            <a:ext cx="6667560" cy="5172120"/>
            <a:chOff x="1214280" y="1143000"/>
            <a:chExt cx="6667560" cy="5172120"/>
          </a:xfrm>
        </p:grpSpPr>
        <p:pic>
          <p:nvPicPr>
            <p:cNvPr id="192" name="Рисунок 24" descr="im15a.jpg"/>
            <p:cNvPicPr/>
            <p:nvPr/>
          </p:nvPicPr>
          <p:blipFill>
            <a:blip r:embed="rId1"/>
            <a:stretch/>
          </p:blipFill>
          <p:spPr>
            <a:xfrm>
              <a:off x="1214280" y="1143000"/>
              <a:ext cx="6667560" cy="51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5"/>
            <p:cNvSpPr/>
            <p:nvPr/>
          </p:nvSpPr>
          <p:spPr>
            <a:xfrm>
              <a:off x="3650040" y="485784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ntry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Прямая со стрелкой 20"/>
            <p:cNvCxnSpPr/>
            <p:nvPr/>
          </p:nvCxnSpPr>
          <p:spPr>
            <a:xfrm flipH="1" flipV="1">
              <a:off x="3214080" y="4714560"/>
              <a:ext cx="398880" cy="27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5" name="TextBox 4"/>
            <p:cNvSpPr/>
            <p:nvPr/>
          </p:nvSpPr>
          <p:spPr>
            <a:xfrm>
              <a:off x="4435920" y="442908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ntry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Прямая со стрелкой 25"/>
            <p:cNvCxnSpPr>
              <a:endCxn id="197" idx="5"/>
            </p:cNvCxnSpPr>
            <p:nvPr/>
          </p:nvCxnSpPr>
          <p:spPr>
            <a:xfrm flipH="1" flipV="1">
              <a:off x="3972600" y="4179600"/>
              <a:ext cx="456120" cy="321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7" name="Овал 27"/>
            <p:cNvSpPr/>
            <p:nvPr/>
          </p:nvSpPr>
          <p:spPr>
            <a:xfrm>
              <a:off x="3786120" y="4000680"/>
              <a:ext cx="218880" cy="209520"/>
            </a:xfrm>
            <a:prstGeom prst="ellipse">
              <a:avLst/>
            </a:prstGeom>
            <a:noFill/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30"/>
            <p:cNvSpPr/>
            <p:nvPr/>
          </p:nvSpPr>
          <p:spPr>
            <a:xfrm>
              <a:off x="3000240" y="4572000"/>
              <a:ext cx="218880" cy="209520"/>
            </a:xfrm>
            <a:prstGeom prst="ellipse">
              <a:avLst/>
            </a:prstGeom>
            <a:noFill/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Равнобедренный треугольник 31"/>
            <p:cNvSpPr/>
            <p:nvPr/>
          </p:nvSpPr>
          <p:spPr>
            <a:xfrm rot="16876200">
              <a:off x="2296800" y="3728880"/>
              <a:ext cx="1752480" cy="149040"/>
            </a:xfrm>
            <a:prstGeom prst="triangle">
              <a:avLst>
                <a:gd name="adj" fmla="val 75287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Равнобедренный треугольник 32"/>
            <p:cNvSpPr/>
            <p:nvPr/>
          </p:nvSpPr>
          <p:spPr>
            <a:xfrm rot="1405800">
              <a:off x="2639520" y="3315960"/>
              <a:ext cx="761760" cy="1222200"/>
            </a:xfrm>
            <a:prstGeom prst="triangle">
              <a:avLst>
                <a:gd name="adj" fmla="val 42792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Равнобедренный треугольник 35"/>
            <p:cNvSpPr/>
            <p:nvPr/>
          </p:nvSpPr>
          <p:spPr>
            <a:xfrm rot="15808200">
              <a:off x="2821680" y="3142440"/>
              <a:ext cx="1782720" cy="225360"/>
            </a:xfrm>
            <a:prstGeom prst="triangle">
              <a:avLst>
                <a:gd name="adj" fmla="val 83667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Равнобедренный треугольник 36"/>
            <p:cNvSpPr/>
            <p:nvPr/>
          </p:nvSpPr>
          <p:spPr>
            <a:xfrm rot="3817200">
              <a:off x="3009240" y="3220560"/>
              <a:ext cx="1474560" cy="29664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50000"/>
              </a:srgbClr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659-E7DE-475D-BAE9-31626BC7BCD8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complex KNI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Problem of development potentials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C20-FAB3-4BA2-8FE8-5218AD90FD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5"/>
          <p:cNvGrpSpPr/>
          <p:nvPr/>
        </p:nvGrpSpPr>
        <p:grpSpPr>
          <a:xfrm>
            <a:off x="500040" y="1071720"/>
            <a:ext cx="7991640" cy="5209920"/>
            <a:chOff x="500040" y="1071720"/>
            <a:chExt cx="7991640" cy="5209920"/>
          </a:xfrm>
        </p:grpSpPr>
        <p:pic>
          <p:nvPicPr>
            <p:cNvPr id="208" name="Рисунок 4" descr="im16.jpg"/>
            <p:cNvPicPr/>
            <p:nvPr/>
          </p:nvPicPr>
          <p:blipFill>
            <a:blip r:embed="rId1"/>
            <a:stretch/>
          </p:blipFill>
          <p:spPr>
            <a:xfrm>
              <a:off x="500040" y="1071720"/>
              <a:ext cx="7991640" cy="52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кругленный прямоугольник 4"/>
            <p:cNvSpPr/>
            <p:nvPr/>
          </p:nvSpPr>
          <p:spPr>
            <a:xfrm>
              <a:off x="1000080" y="4643640"/>
              <a:ext cx="928440" cy="28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onceptual space for development potential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556-6920-44AC-80E4-7C036B905D8C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4" descr="im17.jpg"/>
          <p:cNvPicPr/>
          <p:nvPr/>
        </p:nvPicPr>
        <p:blipFill>
          <a:blip r:embed="rId1"/>
          <a:stretch/>
        </p:blipFill>
        <p:spPr>
          <a:xfrm>
            <a:off x="714240" y="1071720"/>
            <a:ext cx="742968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642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Results of KNI assessment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with imitation modeling of development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A06D-6E87-4C70-932D-46C2E74C41FA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im18.jpg"/>
          <p:cNvPicPr/>
          <p:nvPr/>
        </p:nvPicPr>
        <p:blipFill>
          <a:blip r:embed="rId1"/>
          <a:stretch/>
        </p:blipFill>
        <p:spPr>
          <a:xfrm>
            <a:off x="142920" y="1214280"/>
            <a:ext cx="8877240" cy="52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963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terval-based assessment of invest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1"/>
          <a:stretch/>
        </p:blipFill>
        <p:spPr>
          <a:xfrm>
            <a:off x="587520" y="1206360"/>
            <a:ext cx="7762680" cy="5473800"/>
          </a:xfrm>
          <a:prstGeom prst="rect">
            <a:avLst/>
          </a:prstGeom>
          <a:ln w="0">
            <a:noFill/>
          </a:ln>
        </p:spPr>
      </p:pic>
      <p:sp>
        <p:nvSpPr>
          <p:cNvPr id="21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7D3-C1B1-4C13-BBCE-B579B473A0A5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KNI transparency problem</a:t>
            </a:r>
            <a:r>
              <a:rPr b="1" lang="ru-RU" sz="2800" spc="-1" strike="noStrike">
                <a:solidFill>
                  <a:srgbClr val="00008e"/>
                </a:solidFill>
                <a:latin typeface="Arial Narrow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B51F-BC6B-4972-B6BE-7B26B9FE938F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im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724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apability indicator at a critically low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171360" y="1384200"/>
            <a:ext cx="8825040" cy="4845240"/>
          </a:xfrm>
          <a:prstGeom prst="rect">
            <a:avLst/>
          </a:prstGeom>
          <a:ln w="0">
            <a:noFill/>
          </a:ln>
        </p:spPr>
      </p:pic>
      <p:sp>
        <p:nvSpPr>
          <p:cNvPr id="22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E365-28CB-4B71-9853-FB96580FE7B1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formation technology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mprovements in management and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216000" y="1117440"/>
            <a:ext cx="8712000" cy="5301000"/>
          </a:xfrm>
          <a:prstGeom prst="rect">
            <a:avLst/>
          </a:prstGeom>
          <a:ln w="0">
            <a:noFill/>
          </a:ln>
        </p:spPr>
      </p:pic>
      <p:sp>
        <p:nvSpPr>
          <p:cNvPr id="22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DD7-5B24-4281-94CD-E3E23B808D81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91440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The practice of comprehensive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1060560" y="1011240"/>
            <a:ext cx="6972120" cy="5662440"/>
          </a:xfrm>
          <a:prstGeom prst="rect">
            <a:avLst/>
          </a:prstGeom>
          <a:ln w="0">
            <a:noFill/>
          </a:ln>
        </p:spPr>
      </p:pic>
      <p:sp>
        <p:nvSpPr>
          <p:cNvPr id="2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C95-8E1D-416F-9F97-74559881C231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dicators for comprehensiv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5328-7FD3-43FA-ADC0-6E406C231385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5"/>
          <p:cNvGrpSpPr/>
          <p:nvPr/>
        </p:nvGrpSpPr>
        <p:grpSpPr>
          <a:xfrm>
            <a:off x="127080" y="2000160"/>
            <a:ext cx="8928000" cy="3565440"/>
            <a:chOff x="127080" y="2000160"/>
            <a:chExt cx="8928000" cy="3565440"/>
          </a:xfrm>
        </p:grpSpPr>
        <p:pic>
          <p:nvPicPr>
            <p:cNvPr id="232" name="Рисунок 7" descr="компл.jpg"/>
            <p:cNvPicPr/>
            <p:nvPr/>
          </p:nvPicPr>
          <p:blipFill>
            <a:blip r:embed="rId1"/>
            <a:stretch/>
          </p:blipFill>
          <p:spPr>
            <a:xfrm>
              <a:off x="127080" y="2000160"/>
              <a:ext cx="892800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4"/>
            <p:cNvSpPr/>
            <p:nvPr/>
          </p:nvSpPr>
          <p:spPr>
            <a:xfrm>
              <a:off x="3500280" y="2071440"/>
              <a:ext cx="1285920" cy="21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The architecture of comprehensive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27A6-8278-49EE-8542-98BE5BA9E81D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7"/>
          <p:cNvGrpSpPr/>
          <p:nvPr/>
        </p:nvGrpSpPr>
        <p:grpSpPr>
          <a:xfrm>
            <a:off x="885960" y="1117440"/>
            <a:ext cx="7375320" cy="5640480"/>
            <a:chOff x="885960" y="1117440"/>
            <a:chExt cx="7375320" cy="5640480"/>
          </a:xfrm>
        </p:grpSpPr>
        <p:pic>
          <p:nvPicPr>
            <p:cNvPr id="237" name="Picture 9" descr=""/>
            <p:cNvPicPr/>
            <p:nvPr/>
          </p:nvPicPr>
          <p:blipFill>
            <a:blip r:embed="rId1"/>
            <a:stretch/>
          </p:blipFill>
          <p:spPr>
            <a:xfrm>
              <a:off x="885960" y="1117440"/>
              <a:ext cx="7375320" cy="56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Скругленный прямоугольник 4"/>
            <p:cNvSpPr/>
            <p:nvPr/>
          </p:nvSpPr>
          <p:spPr>
            <a:xfrm>
              <a:off x="3357720" y="1142640"/>
              <a:ext cx="2357280" cy="4284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erformance audi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Овал 6"/>
            <p:cNvSpPr/>
            <p:nvPr/>
          </p:nvSpPr>
          <p:spPr>
            <a:xfrm>
              <a:off x="5572080" y="5857920"/>
              <a:ext cx="2571480" cy="642960"/>
            </a:xfrm>
            <a:prstGeom prst="ellipse">
              <a:avLst/>
            </a:prstGeom>
            <a:solidFill>
              <a:srgbClr val="dd6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ze and diagnose the results  of FA and P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Progre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357120" y="1514520"/>
            <a:ext cx="8429760" cy="3571920"/>
          </a:xfrm>
          <a:prstGeom prst="roundRect">
            <a:avLst>
              <a:gd name="adj" fmla="val 6403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Скругленный прямоугольник 14"/>
          <p:cNvGrpSpPr/>
          <p:nvPr/>
        </p:nvGrpSpPr>
        <p:grpSpPr>
          <a:xfrm>
            <a:off x="4797360" y="1773360"/>
            <a:ext cx="3760920" cy="2176200"/>
            <a:chOff x="4797360" y="1773360"/>
            <a:chExt cx="3760920" cy="2176200"/>
          </a:xfrm>
        </p:grpSpPr>
        <p:pic>
          <p:nvPicPr>
            <p:cNvPr id="103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4797360" y="1773360"/>
              <a:ext cx="3760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59360" y="1909800"/>
              <a:ext cx="344016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ая соединительная линия 19"/>
          <p:cNvSpPr/>
          <p:nvPr/>
        </p:nvSpPr>
        <p:spPr>
          <a:xfrm>
            <a:off x="2891880" y="2708280"/>
            <a:ext cx="363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Скругленный прямоугольник 30"/>
          <p:cNvGrpSpPr/>
          <p:nvPr/>
        </p:nvGrpSpPr>
        <p:grpSpPr>
          <a:xfrm>
            <a:off x="652320" y="1822320"/>
            <a:ext cx="3760920" cy="2183040"/>
            <a:chOff x="652320" y="1822320"/>
            <a:chExt cx="3760920" cy="2183040"/>
          </a:xfrm>
        </p:grpSpPr>
        <p:pic>
          <p:nvPicPr>
            <p:cNvPr id="107" name="Скругленный прямоугольник 30" descr=""/>
            <p:cNvPicPr/>
            <p:nvPr/>
          </p:nvPicPr>
          <p:blipFill>
            <a:blip r:embed="rId2"/>
            <a:stretch/>
          </p:blipFill>
          <p:spPr>
            <a:xfrm>
              <a:off x="652320" y="1822320"/>
              <a:ext cx="3760920" cy="21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16120" y="1960560"/>
              <a:ext cx="343980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1"/>
          <p:cNvSpPr/>
          <p:nvPr/>
        </p:nvSpPr>
        <p:spPr>
          <a:xfrm>
            <a:off x="1143000" y="2073240"/>
            <a:ext cx="3000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edom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lized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. Engels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3"/>
          <p:cNvSpPr/>
          <p:nvPr/>
        </p:nvSpPr>
        <p:spPr>
          <a:xfrm>
            <a:off x="5143680" y="1951200"/>
            <a:ext cx="3000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Freedom as possibilit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f self-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. Sen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Скругленный прямоугольник 13"/>
          <p:cNvGrpSpPr/>
          <p:nvPr/>
        </p:nvGrpSpPr>
        <p:grpSpPr>
          <a:xfrm>
            <a:off x="1011240" y="3492360"/>
            <a:ext cx="7188120" cy="1244880"/>
            <a:chOff x="1011240" y="3492360"/>
            <a:chExt cx="7188120" cy="1244880"/>
          </a:xfrm>
        </p:grpSpPr>
        <p:pic>
          <p:nvPicPr>
            <p:cNvPr id="112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1011240" y="3492360"/>
              <a:ext cx="718812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27160" y="3587760"/>
              <a:ext cx="69613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8"/>
          <p:cNvSpPr/>
          <p:nvPr/>
        </p:nvSpPr>
        <p:spPr>
          <a:xfrm>
            <a:off x="1332000" y="364644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reedom as the realized potential possibilities of realization of fi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Скругленный прямоугольник 12"/>
          <p:cNvGrpSpPr/>
          <p:nvPr/>
        </p:nvGrpSpPr>
        <p:grpSpPr>
          <a:xfrm>
            <a:off x="682560" y="4791240"/>
            <a:ext cx="7832880" cy="963360"/>
            <a:chOff x="682560" y="4791240"/>
            <a:chExt cx="7832880" cy="963360"/>
          </a:xfrm>
        </p:grpSpPr>
        <p:pic>
          <p:nvPicPr>
            <p:cNvPr id="116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82560" y="4791240"/>
              <a:ext cx="78328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85880" y="4869000"/>
              <a:ext cx="76327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3"/>
          <p:cNvSpPr/>
          <p:nvPr/>
        </p:nvSpPr>
        <p:spPr>
          <a:xfrm>
            <a:off x="1042920" y="4870440"/>
            <a:ext cx="70581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of socio-economic capabi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ends and means of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15"/>
          <p:cNvSpPr/>
          <p:nvPr/>
        </p:nvSpPr>
        <p:spPr>
          <a:xfrm>
            <a:off x="657216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408-0EB5-4E4C-BD5B-9D75E77789F3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"/>
          <p:cNvGrpSpPr/>
          <p:nvPr/>
        </p:nvGrpSpPr>
        <p:grpSpPr>
          <a:xfrm>
            <a:off x="0" y="44280"/>
            <a:ext cx="9144000" cy="934920"/>
            <a:chOff x="0" y="44280"/>
            <a:chExt cx="9144000" cy="934920"/>
          </a:xfrm>
        </p:grpSpPr>
        <p:sp>
          <p:nvSpPr>
            <p:cNvPr id="121" name="Rectangle 6"/>
            <p:cNvSpPr/>
            <p:nvPr/>
          </p:nvSpPr>
          <p:spPr>
            <a:xfrm>
              <a:off x="0" y="44280"/>
              <a:ext cx="9144000" cy="863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0" rIns="0" tIns="0" bIns="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0" y="979200"/>
              <a:ext cx="9144000" cy="0"/>
            </a:xfrm>
            <a:prstGeom prst="line">
              <a:avLst/>
            </a:prstGeom>
            <a:ln w="76320">
              <a:solidFill>
                <a:srgbClr val="2e4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Using the capabilities approach for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  <a:ea typeface="Arial"/>
              </a:rPr>
              <a:t>a comprehensive evaluation of a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838760" y="1339920"/>
            <a:ext cx="385920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perty of a system, probability that the system will succeed in achieving the goal of its func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ence between required and predicted state sets in the functioning of a system can be represented as the probability of the following binary predicate being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0440" y="5253120"/>
          <a:ext cx="29685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5253120"/>
                    <a:ext cx="296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0"/>
          <p:cNvGraphicFramePr/>
          <p:nvPr/>
        </p:nvGraphicFramePr>
        <p:xfrm>
          <a:off x="3448080" y="5013360"/>
          <a:ext cx="54831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5013360"/>
                    <a:ext cx="5483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1"/>
          <p:cNvGraphicFramePr/>
          <p:nvPr/>
        </p:nvGraphicFramePr>
        <p:xfrm>
          <a:off x="3549600" y="5695920"/>
          <a:ext cx="54086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9600" y="5695920"/>
                    <a:ext cx="5408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Box 11"/>
          <p:cNvSpPr/>
          <p:nvPr/>
        </p:nvSpPr>
        <p:spPr>
          <a:xfrm>
            <a:off x="5594400" y="5145120"/>
            <a:ext cx="333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ed sta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638680" y="5784840"/>
            <a:ext cx="3333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sta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1"/>
          <p:cNvGrpSpPr/>
          <p:nvPr/>
        </p:nvGrpSpPr>
        <p:grpSpPr>
          <a:xfrm>
            <a:off x="127080" y="1384200"/>
            <a:ext cx="4587840" cy="3094200"/>
            <a:chOff x="127080" y="1384200"/>
            <a:chExt cx="4587840" cy="3094200"/>
          </a:xfrm>
        </p:grpSpPr>
        <p:pic>
          <p:nvPicPr>
            <p:cNvPr id="134" name="Picture 4" descr="cover"/>
            <p:cNvPicPr/>
            <p:nvPr/>
          </p:nvPicPr>
          <p:blipFill>
            <a:blip r:embed="rId7"/>
            <a:stretch/>
          </p:blipFill>
          <p:spPr>
            <a:xfrm>
              <a:off x="127080" y="1433160"/>
              <a:ext cx="1364040" cy="19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cover"/>
            <p:cNvPicPr/>
            <p:nvPr/>
          </p:nvPicPr>
          <p:blipFill>
            <a:blip r:embed="rId8"/>
            <a:stretch/>
          </p:blipFill>
          <p:spPr>
            <a:xfrm>
              <a:off x="3268800" y="1384200"/>
              <a:ext cx="1351080" cy="19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cover"/>
            <p:cNvPicPr/>
            <p:nvPr/>
          </p:nvPicPr>
          <p:blipFill>
            <a:blip r:embed="rId9"/>
            <a:stretch/>
          </p:blipFill>
          <p:spPr>
            <a:xfrm>
              <a:off x="1697760" y="1384200"/>
              <a:ext cx="1602720" cy="19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cover"/>
            <p:cNvPicPr/>
            <p:nvPr/>
          </p:nvPicPr>
          <p:blipFill>
            <a:blip r:embed="rId10"/>
            <a:stretch/>
          </p:blipFill>
          <p:spPr>
            <a:xfrm>
              <a:off x="416520" y="2460600"/>
              <a:ext cx="12574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cover"/>
            <p:cNvPicPr/>
            <p:nvPr/>
          </p:nvPicPr>
          <p:blipFill>
            <a:blip r:embed="rId11"/>
            <a:stretch/>
          </p:blipFill>
          <p:spPr>
            <a:xfrm>
              <a:off x="3350880" y="2380680"/>
              <a:ext cx="1364040" cy="19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over"/>
            <p:cNvPicPr/>
            <p:nvPr/>
          </p:nvPicPr>
          <p:blipFill>
            <a:blip r:embed="rId12"/>
            <a:stretch/>
          </p:blipFill>
          <p:spPr>
            <a:xfrm>
              <a:off x="1738800" y="2205720"/>
              <a:ext cx="1506960" cy="227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3" descr="Герб Счетной палаты"/>
          <p:cNvPicPr/>
          <p:nvPr/>
        </p:nvPicPr>
        <p:blipFill>
          <a:blip r:embed="rId13"/>
          <a:stretch/>
        </p:blipFill>
        <p:spPr>
          <a:xfrm>
            <a:off x="142920" y="142920"/>
            <a:ext cx="620640" cy="642960"/>
          </a:xfrm>
          <a:prstGeom prst="rect">
            <a:avLst/>
          </a:prstGeom>
          <a:ln w="0">
            <a:noFill/>
          </a:ln>
        </p:spPr>
      </p:pic>
      <p:sp>
        <p:nvSpPr>
          <p:cNvPr id="141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F7D-390E-445D-91B7-3022445717C5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Problem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"/>
                <a:ea typeface="Arial"/>
              </a:rPr>
              <a:t>of development management evalu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24000" y="571680"/>
            <a:ext cx="849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2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0"/>
          <p:cNvSpPr/>
          <p:nvPr/>
        </p:nvSpPr>
        <p:spPr>
          <a:xfrm>
            <a:off x="214200" y="6000840"/>
            <a:ext cx="875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2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ement of social-economical capability as progres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31E-55BD-4F17-BF25-E7C13ABC3467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1" descr="im5.jpg"/>
          <p:cNvPicPr/>
          <p:nvPr/>
        </p:nvPicPr>
        <p:blipFill>
          <a:blip r:embed="rId1"/>
          <a:stretch/>
        </p:blipFill>
        <p:spPr>
          <a:xfrm>
            <a:off x="928800" y="1071720"/>
            <a:ext cx="721512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7" descr="17.04.2009 Ст.jpg"/>
          <p:cNvPicPr/>
          <p:nvPr/>
        </p:nvPicPr>
        <p:blipFill>
          <a:blip r:embed="rId1"/>
          <a:srcRect l="14943" t="0" r="19681" b="7287"/>
          <a:stretch/>
        </p:blipFill>
        <p:spPr>
          <a:xfrm>
            <a:off x="714240" y="1071720"/>
            <a:ext cx="7929720" cy="5395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 rot="10418400">
            <a:off x="320040" y="1942560"/>
            <a:ext cx="6066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es o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s o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Evaluation of key assets </a:t>
            </a:r>
            <a:br>
              <a:rPr sz="2800"/>
            </a:b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indexes of providing competitive ability pot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4"/>
          <p:cNvSpPr/>
          <p:nvPr/>
        </p:nvSpPr>
        <p:spPr>
          <a:xfrm rot="14254800">
            <a:off x="7482600" y="4933800"/>
            <a:ext cx="393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 rot="18022800">
            <a:off x="1634040" y="4133880"/>
            <a:ext cx="393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87B1-4DBA-44B7-96A4-D95B432273CF}" type="slidenum">
              <a:rPr b="0" lang="ru-RU" sz="1200" spc="-1" strike="noStrike">
                <a:solidFill>
                  <a:srgbClr val="0000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96080" cy="4926240"/>
          </a:xfrm>
          <a:prstGeom prst="rect">
            <a:avLst/>
          </a:prstGeom>
          <a:ln w="0">
            <a:noFill/>
          </a:ln>
        </p:spPr>
      </p:pic>
      <p:sp>
        <p:nvSpPr>
          <p:cNvPr id="154" name="Выноска 2 (с границей) 3"/>
          <p:cNvSpPr/>
          <p:nvPr/>
        </p:nvSpPr>
        <p:spPr>
          <a:xfrm>
            <a:off x="7429680" y="3500280"/>
            <a:ext cx="1571400" cy="192888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Strategic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International standards and agre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Выноска 2 (с границей) 4"/>
          <p:cNvSpPr/>
          <p:nvPr/>
        </p:nvSpPr>
        <p:spPr>
          <a:xfrm>
            <a:off x="5619600" y="1214280"/>
            <a:ext cx="1785960" cy="50040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Terms and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ыноска 2 (с границей) 5"/>
          <p:cNvSpPr/>
          <p:nvPr/>
        </p:nvSpPr>
        <p:spPr>
          <a:xfrm flipH="1">
            <a:off x="142200" y="2286000"/>
            <a:ext cx="1833480" cy="2143080"/>
          </a:xfr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Databases provided by national statistics agencies and international institutions, including UN, OECD, WB, IMF, Eur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Выноска 2 (с границей) 6"/>
          <p:cNvSpPr/>
          <p:nvPr/>
        </p:nvSpPr>
        <p:spPr>
          <a:xfrm>
            <a:off x="5715000" y="2786040"/>
            <a:ext cx="3024360" cy="571680"/>
          </a:xfr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A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Computation method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285840"/>
            <a:ext cx="9144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Key National Indicators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91CA-D899-466F-A69E-A88F0E832A07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luster analysis results </a:t>
            </a:r>
            <a:br>
              <a:rPr sz="2800"/>
            </a:b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(based on 410 KNI provided by World Bank with 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2000-2008</a:t>
            </a: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 time frame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ADC-1594-427B-8C52-C171252C2D29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im8.jpg"/>
          <p:cNvPicPr/>
          <p:nvPr/>
        </p:nvPicPr>
        <p:blipFill>
          <a:blip r:embed="rId1"/>
          <a:stretch/>
        </p:blipFill>
        <p:spPr>
          <a:xfrm>
            <a:off x="142920" y="1071720"/>
            <a:ext cx="888696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B98E-C8C0-431A-B1EF-6CD1BB9C175A}" type="slidenum">
              <a:rPr b="0" lang="ru-RU" sz="1200" spc="-1" strike="noStrike">
                <a:solidFill>
                  <a:srgbClr val="00008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0" y="1429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 Narrow"/>
              </a:rPr>
              <a:t>Cluster analysis results </a:t>
            </a:r>
            <a:br>
              <a:rPr sz="2800"/>
            </a:br>
            <a:r>
              <a:rPr b="1" lang="en-US" sz="2000" spc="-1" strike="noStrike">
                <a:solidFill>
                  <a:srgbClr val="00008e"/>
                </a:solidFill>
                <a:latin typeface="Arial Narrow"/>
              </a:rPr>
              <a:t>(based on 119 competitiveness indicators provided by WEF 2010</a:t>
            </a:r>
            <a:r>
              <a:rPr b="1" lang="ru-RU" sz="2000" spc="-1" strike="noStrike">
                <a:solidFill>
                  <a:srgbClr val="00008e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6" descr="im9.jpg"/>
          <p:cNvPicPr/>
          <p:nvPr/>
        </p:nvPicPr>
        <p:blipFill>
          <a:blip r:embed="rId1"/>
          <a:stretch/>
        </p:blipFill>
        <p:spPr>
          <a:xfrm>
            <a:off x="142920" y="1143000"/>
            <a:ext cx="887724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4:18:44Z</dcterms:created>
  <dc:creator>Пользователь Windows</dc:creator>
  <dc:description/>
  <dc:language>en-US</dc:language>
  <cp:lastModifiedBy>Your User Name</cp:lastModifiedBy>
  <dcterms:modified xsi:type="dcterms:W3CDTF">2011-04-11T15:32:05Z</dcterms:modified>
  <cp:revision>81</cp:revision>
  <dc:subject/>
  <dc:title>Слайд 1</dc:title>
</cp:coreProperties>
</file>