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CA9F-1121-494A-81EE-731EC7A796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6108-A545-484A-BE20-05BE2728972C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DF20-5F7D-4FF2-92F6-CF6F2355A1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150A-526F-4283-AD6B-07116F6E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DEB-0761-4353-8FB0-88C993C2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373F-297F-4C24-AF2B-4BB2AE7E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F5A-1E30-457B-A7F6-C1CBDEE9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E1B9-E5F3-48E1-A3FC-6A6037E4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D28E-D375-41FF-AED7-4CEBBDDF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F313-8DA2-4367-837A-694CFC85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77DD-9265-449D-86CD-EF31BA1B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B6D4-D2D4-4FC6-8E05-CB13242B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E02E-7582-4A71-AD6A-699B3A7A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B62C-4502-410E-B2CA-8931B99C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BA5-ED15-4E29-B50A-72DF9D53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0292-A3BD-4C3D-B986-797E2147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8EFB-5F57-47D7-919E-0916D283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B436-7C58-4AB7-9D45-6752CB5E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1B33-DEC5-4850-829B-A0CECAFE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3208-C5DE-4FD6-B837-4C3BF446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DF6-4603-4398-806A-9900B175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D74-EAE4-4846-9E98-2F199236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1FE-4585-405F-BACC-1B95FC7F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BB64-8860-418F-B0D6-3EB0C17D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AAC-7D59-4766-8714-CB3581BA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52F-BE52-409C-98FB-5EDA5E21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38F-37EE-4BC8-8748-2BCCCF3C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BBE3-2714-41E6-8B44-0C630527FF0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A3A8-0AA1-4F40-83BD-D6DE66E509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3535-4148-4C34-A1B4-45F917006B1E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宋体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E66E-B4CF-40A2-91EA-AE29D1F2426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LOGO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3"/>
          <p:cNvGrpSpPr/>
          <p:nvPr/>
        </p:nvGrpSpPr>
        <p:grpSpPr>
          <a:xfrm>
            <a:off x="0" y="404640"/>
            <a:ext cx="9144000" cy="6299640"/>
            <a:chOff x="0" y="404640"/>
            <a:chExt cx="9144000" cy="6299640"/>
          </a:xfrm>
        </p:grpSpPr>
        <p:sp>
          <p:nvSpPr>
            <p:cNvPr id="91" name="Rectangle 4"/>
            <p:cNvSpPr/>
            <p:nvPr/>
          </p:nvSpPr>
          <p:spPr>
            <a:xfrm>
              <a:off x="108000" y="2039760"/>
              <a:ext cx="871380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br>
                <a:rPr sz="2900"/>
              </a:br>
              <a:br>
                <a:rPr sz="2900"/>
              </a:b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>
              <a:off x="0" y="336996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0" y="336996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0" y="336996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0" y="336996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0" y="40464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INTOSAI Working Group on Key National Indicator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0" y="2246040"/>
              <a:ext cx="91440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eport on the Working Group activ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(April 2010 – April 2011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1"/>
            <p:cNvSpPr/>
            <p:nvPr/>
          </p:nvSpPr>
          <p:spPr>
            <a:xfrm>
              <a:off x="3047400" y="6000480"/>
              <a:ext cx="330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 4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ril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3-14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2011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lsink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4" descr="снимок_eng_6.png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sion of the assessment of heterogeneous development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58BC-19E3-4BD2-ABBF-AC552024901F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снимок_eng_8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rehensive assessment of methods of national wealth calcula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DEBF-D884-4D7D-9F66-2F5625A431D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4" descr="снимок_eng_9.pn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ualization of comparisons of countries position and development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CD7A-93EB-44DA-A7DA-09464C1E6868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project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011-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4C82-34F7-4D8B-8EFD-85D5E66EAD79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285840" y="1586880"/>
            <a:ext cx="864396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ation of Draft Methodology on the KNI selection for the use in SAIs activit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sis of opportunities on the use of KNI for international comparisons and preparation of appropriate recommendation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of opportunities of KNI use for the evaluation of the results of national and transnational projects and programs audi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ic and informational support of the KNI selection for the assessment of global economic imbala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nowledge Base on KN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nfbr.prognoz.ru/kn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C4D4-41DF-4858-AAAE-65C3D9295C98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4"/>
          <p:cNvGrpSpPr/>
          <p:nvPr/>
        </p:nvGrpSpPr>
        <p:grpSpPr>
          <a:xfrm>
            <a:off x="184320" y="692280"/>
            <a:ext cx="8959680" cy="5881680"/>
            <a:chOff x="184320" y="692280"/>
            <a:chExt cx="8959680" cy="5881680"/>
          </a:xfrm>
        </p:grpSpPr>
        <p:pic>
          <p:nvPicPr>
            <p:cNvPr id="139" name="Picture 6" descr=""/>
            <p:cNvPicPr/>
            <p:nvPr/>
          </p:nvPicPr>
          <p:blipFill>
            <a:blip r:embed="rId1"/>
            <a:srcRect l="0" t="10599" r="18454" b="2845"/>
            <a:stretch/>
          </p:blipFill>
          <p:spPr>
            <a:xfrm>
              <a:off x="184320" y="3141720"/>
              <a:ext cx="4919760" cy="343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" descr=""/>
            <p:cNvPicPr/>
            <p:nvPr/>
          </p:nvPicPr>
          <p:blipFill>
            <a:blip r:embed="rId2"/>
            <a:srcRect l="0" t="0" r="1564" b="5501"/>
            <a:stretch/>
          </p:blipFill>
          <p:spPr>
            <a:xfrm>
              <a:off x="3029040" y="692280"/>
              <a:ext cx="6114960" cy="397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F080-B9FD-4D71-BCE5-C3B7E9AD64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0" y="2643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Thank you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16720" y="6310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668C-A131-4D93-B71C-076ECC37FBF5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снимок_eng_4.png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Диаграмма 5" descr=""/>
          <p:cNvPicPr/>
          <p:nvPr/>
        </p:nvPicPr>
        <p:blipFill>
          <a:blip r:embed="rId1"/>
          <a:stretch/>
        </p:blipFill>
        <p:spPr>
          <a:xfrm>
            <a:off x="353880" y="706320"/>
            <a:ext cx="8466120" cy="5956560"/>
          </a:xfrm>
          <a:prstGeom prst="rect">
            <a:avLst/>
          </a:prstGeom>
          <a:ln w="0">
            <a:noFill/>
          </a:ln>
        </p:spPr>
      </p:pic>
      <p:pic>
        <p:nvPicPr>
          <p:cNvPr id="103" name="Диаграмма 4" descr=""/>
          <p:cNvPicPr/>
          <p:nvPr/>
        </p:nvPicPr>
        <p:blipFill>
          <a:blip r:embed="rId2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812C-81BA-4030-8998-C612C07BB1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0" y="142920"/>
            <a:ext cx="9144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 of the government spending as share of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 risks interconn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16720" y="6310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50C3-1665-4739-B47F-882A2ECAE1F6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снимок_eng_2.png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projects of the Working Group on K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65167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6DC4-B6AE-4470-B8DC-CBAD52D52954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00040" y="1571760"/>
            <a:ext cx="8358120" cy="35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NI: Draft Guide to terms and concepts (SAI of the USA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view of the international experience in the development and use of KNI (SAI of Latvi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ilot project in the field of KNI describing the processes of knowledge-based economy and society (SAI of Hungary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Guidelines for the use of KNI in Performance audit (SAI of Russi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inciples for SAI’s application of KN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SAI of Denmark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4" descr="снимок_eng_1.png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ety of the development goal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dir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4192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92E7-D70C-4D10-A4C7-BBB1D47DE36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4" descr="снимок_eng_3.png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of transparency vision of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A831-AED4-4567-9B99-5371BB3C186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4" descr="снимок_eng_5.png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69B8-0195-43DC-8AD1-A7F4769CAAE1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sion of the economic metrics of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7" descr="снимок_eng_7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023C-7863-4529-A97A-564F96FDFCF1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sion of the social metrics of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4-06T08:21:24Z</dcterms:modified>
  <cp:revision>111</cp:revision>
  <dc:subject/>
  <dc:title>Слайд 1</dc:title>
</cp:coreProperties>
</file>