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F0EA-A116-4E4B-AF5D-16975A4763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7A97-CED3-4C53-B020-EDE41E9FB4F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8A22-D307-4AA6-8495-C6E29E2117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967-61CB-4C16-AC26-B3685596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A71-C842-4114-BFF8-3BB5CBEF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623-A01F-41E2-A955-9C5F1E9B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0C3-078F-4A0D-BA4A-565BD17F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8637-7D70-495C-B654-44F300B6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CFD5-E030-4485-967C-7E088728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67FE-23EC-4536-96EB-CA57256D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855E-8A07-4EA5-8A48-4EA2A9E8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DFC0-EF2E-4368-A581-88B1DBFA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D7BE-2EF5-4C53-9EF6-70D384C9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0999-CA09-4072-BF71-F5CFA9F4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E81-FFAE-44E3-91B6-87B22DFE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7C1E-12EB-4B8A-9AF1-217934B7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54F8-CBB6-4DC7-B08A-389240B0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574B-1C89-455A-BCBA-76A0D628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3F37-E69E-466A-8F76-6334CBA5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2ECD-909D-4045-850E-6DB35DE1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6E0-919B-41A1-8DBC-C6139D98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2E9-4294-4410-978C-C90BA24E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D1F-4CF6-4BC4-9D9B-189512F5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107-A624-4F46-9714-C70AF6AF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E3C-3032-49B9-B572-9393B55C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764-6A7E-4ACE-ACE0-2D0E38D4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54D-D3D7-4686-A552-92308854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0AC4-983F-406F-AF53-9DA7E296FF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74E4-877B-4083-8E9B-4B6A43939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A54-85B9-4342-92A7-436D736AB44F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宋体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1D64-19E9-4184-BBE8-BD9CC2681DC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OGO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3"/>
          <p:cNvGrpSpPr/>
          <p:nvPr/>
        </p:nvGrpSpPr>
        <p:grpSpPr>
          <a:xfrm>
            <a:off x="0" y="404640"/>
            <a:ext cx="9144000" cy="6299640"/>
            <a:chOff x="0" y="404640"/>
            <a:chExt cx="9144000" cy="6299640"/>
          </a:xfrm>
        </p:grpSpPr>
        <p:sp>
          <p:nvSpPr>
            <p:cNvPr id="91" name="Rectangle 4"/>
            <p:cNvSpPr/>
            <p:nvPr/>
          </p:nvSpPr>
          <p:spPr>
            <a:xfrm>
              <a:off x="108000" y="2039760"/>
              <a:ext cx="871380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br>
                <a:rPr sz="2900"/>
              </a:br>
              <a:br>
                <a:rPr sz="2900"/>
              </a:b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>
              <a:off x="0" y="336996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0" y="336996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0" y="336996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0" y="336996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0" y="40464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INTOSAI Working Group on Key National Indicator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0" y="2246040"/>
              <a:ext cx="9144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eport on the Working Group activ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(April 2010 – April 2011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1"/>
            <p:cNvSpPr/>
            <p:nvPr/>
          </p:nvSpPr>
          <p:spPr>
            <a:xfrm>
              <a:off x="3047400" y="6000480"/>
              <a:ext cx="330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 4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ril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3-1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2011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lsink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снимок_eng_6.pn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sion of the assessment of heterogeneous development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684E-27D1-4E8D-B398-80863E5A621D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нимок_eng_8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rehensive assessment of methods of national wealth calcula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4467-A5AB-4146-97AB-CF3268A1A13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4" descr="снимок_eng_9.pn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ualization of comparisons of countries position and development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8537-2C72-4BA8-8D81-CC98598E02F5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011-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4BE7-8E00-43AB-9C47-3CC721A2782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285840" y="1586880"/>
            <a:ext cx="86439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ation of Draft Methodology on the KNI selection for the use in SAIs activit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is of opportunities on the use of KNI for international comparisons and preparation of appropriate recommendation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of opportunities of KNI use for the evaluation of the results of national and transnational projects and programs audi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ic and informational support of the KNI selection for the assessment of global economic imbala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ledge Base on KN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nfbr.prognoz.ru/kn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881B-AD7E-4D75-9E4A-32780280D0B0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4"/>
          <p:cNvGrpSpPr/>
          <p:nvPr/>
        </p:nvGrpSpPr>
        <p:grpSpPr>
          <a:xfrm>
            <a:off x="184320" y="692280"/>
            <a:ext cx="8959680" cy="5881680"/>
            <a:chOff x="184320" y="692280"/>
            <a:chExt cx="8959680" cy="5881680"/>
          </a:xfrm>
        </p:grpSpPr>
        <p:pic>
          <p:nvPicPr>
            <p:cNvPr id="139" name="Picture 6" descr=""/>
            <p:cNvPicPr/>
            <p:nvPr/>
          </p:nvPicPr>
          <p:blipFill>
            <a:blip r:embed="rId1"/>
            <a:srcRect l="0" t="10599" r="18454" b="2845"/>
            <a:stretch/>
          </p:blipFill>
          <p:spPr>
            <a:xfrm>
              <a:off x="184320" y="3141720"/>
              <a:ext cx="4919760" cy="34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" descr=""/>
            <p:cNvPicPr/>
            <p:nvPr/>
          </p:nvPicPr>
          <p:blipFill>
            <a:blip r:embed="rId2"/>
            <a:srcRect l="0" t="0" r="1564" b="5501"/>
            <a:stretch/>
          </p:blipFill>
          <p:spPr>
            <a:xfrm>
              <a:off x="3029040" y="692280"/>
              <a:ext cx="6114960" cy="397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A028-D5B6-4656-B523-A8EB0F7526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0" y="2643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16720" y="6310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4056-544A-442F-AF8D-18BE1BC1C6D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снимок_eng_4.pn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Диаграмма 5" descr=""/>
          <p:cNvPicPr/>
          <p:nvPr/>
        </p:nvPicPr>
        <p:blipFill>
          <a:blip r:embed="rId1"/>
          <a:stretch/>
        </p:blipFill>
        <p:spPr>
          <a:xfrm>
            <a:off x="353880" y="706320"/>
            <a:ext cx="8466120" cy="5956560"/>
          </a:xfrm>
          <a:prstGeom prst="rect">
            <a:avLst/>
          </a:prstGeom>
          <a:ln w="0">
            <a:noFill/>
          </a:ln>
        </p:spPr>
      </p:pic>
      <p:pic>
        <p:nvPicPr>
          <p:cNvPr id="103" name="Диаграмма 4" descr=""/>
          <p:cNvPicPr/>
          <p:nvPr/>
        </p:nvPicPr>
        <p:blipFill>
          <a:blip r:embed="rId2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A29E-886D-4A3B-832C-BDFAA89ABF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0" y="142920"/>
            <a:ext cx="9144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of the government spending as share of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risks interconn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16720" y="6310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C015-8A31-42C1-9C0A-80B88419402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снимок_eng_2.pn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projects of the Working Group on K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16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2AF8-DFA2-49DA-B82C-2B1B0A5C9E3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00040" y="1571760"/>
            <a:ext cx="835812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NI: Draft Guide to terms and concepts (SAI of the USA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view of the international experience in the development and use of KNI (SAI of Latvi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ilot project in the field of KNI describing the processes of knowledge-based economy and society (SAI of Hungary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Guidelines for the use of KNI in Performance audit (SAI of Russi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inciples for SAI’s application of KN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SAI of Denmark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4" descr="снимок_eng_1.pn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ety of the development goal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dir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4192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F531-A4E2-4DD6-9838-1B1CC799FC8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4" descr="снимок_eng_3.pn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of transparency vision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7552-A89D-4893-97BA-85ECA5E7463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снимок_eng_5.pn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123E-FD1B-4F6E-A3B9-327D5B53F5C7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sion of the economic metrics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7" descr="снимок_eng_7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FAEF-5D71-42D1-8AC9-3FFA29C23FB6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sion of the social metrics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4-06T08:21:24Z</dcterms:modified>
  <cp:revision>111</cp:revision>
  <dc:subject/>
  <dc:title>Слайд 1</dc:title>
</cp:coreProperties>
</file>