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3670-76DB-4F67-9B8C-04F341D970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4C7D-3CE1-4E08-874B-4F62B9335E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1064-95F8-48AB-97A5-0FDD4095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AD21-592B-4000-A99F-FCA67E6D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B069-825F-43C2-BB40-CA97B6E1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7167-F6F5-4B85-A0BA-9B8CCBB3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CE7D-BD4B-4C5D-9A6D-CA668245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5ABE-BE93-4875-882B-4B4B20CF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64B1-1A89-4692-B84E-8F1AC937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E468-2EC7-46B7-8601-4D8B280A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B2C9-7D6D-4590-93C2-11F841A0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8C8D-9358-4F0E-B0A3-75E5D0D9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8528-9C95-441A-B49F-5CF8B988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F985-5370-46B5-88A2-30ABBD7B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marL="291960" indent="-2919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4300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73080" indent="-1936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363680" indent="-1936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752480" indent="-193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752480" indent="-193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752480" indent="-193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583D-6A35-464E-A38F-5E8E38E8AAB1}" type="datetime"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587E-92E7-4A10-806E-DB50F4AF8D66}" type="slidenum"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46"/>
          <p:cNvSpPr/>
          <p:nvPr/>
        </p:nvSpPr>
        <p:spPr>
          <a:xfrm>
            <a:off x="6477120" y="228600"/>
            <a:ext cx="24382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" name="Рисунок 4" descr="заголовок1.bmp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4296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6" descr="prognoz_white_eng.png"/>
          <p:cNvPicPr/>
          <p:nvPr/>
        </p:nvPicPr>
        <p:blipFill>
          <a:blip r:embed="rId3"/>
          <a:stretch/>
        </p:blipFill>
        <p:spPr>
          <a:xfrm>
            <a:off x="7000920" y="285840"/>
            <a:ext cx="1990800" cy="21420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4" descr="заголовок1.bmp"/>
          <p:cNvPicPr/>
          <p:nvPr/>
        </p:nvPicPr>
        <p:blipFill>
          <a:blip r:embed="rId4"/>
          <a:stretch/>
        </p:blipFill>
        <p:spPr>
          <a:xfrm>
            <a:off x="0" y="6715080"/>
            <a:ext cx="9144000" cy="142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3"/>
          <p:cNvSpPr/>
          <p:nvPr/>
        </p:nvSpPr>
        <p:spPr>
          <a:xfrm>
            <a:off x="23760" y="6654960"/>
            <a:ext cx="828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marL="291960" indent="-29196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© ЗАО "ПРОГНОЗ" 2009 г. Все права защищены.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4" descr="заголовок1.bmp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429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2" descr="prognoz_white_eng.png"/>
          <p:cNvPicPr/>
          <p:nvPr/>
        </p:nvPicPr>
        <p:blipFill>
          <a:blip r:embed="rId3"/>
          <a:stretch/>
        </p:blipFill>
        <p:spPr>
          <a:xfrm>
            <a:off x="7000920" y="285840"/>
            <a:ext cx="1990800" cy="2142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3" descr="заголовок1.bmp"/>
          <p:cNvPicPr/>
          <p:nvPr/>
        </p:nvPicPr>
        <p:blipFill>
          <a:blip r:embed="rId4"/>
          <a:stretch/>
        </p:blipFill>
        <p:spPr>
          <a:xfrm>
            <a:off x="0" y="6715080"/>
            <a:ext cx="9144000" cy="142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857160" y="71280"/>
            <a:ext cx="42148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marL="291960" indent="-2919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Accounts Chamber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of the Russian Federation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58680" y="6543720"/>
            <a:ext cx="1787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marL="291960" indent="-2919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www.ach.gov.ru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7810560" y="6553080"/>
            <a:ext cx="1785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marL="291960" indent="-2919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www.prognoz.ru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5" descr="D:\Миша\База_КНП_Панель\Презентация\decor_logo_img.gif"/>
          <p:cNvPicPr/>
          <p:nvPr/>
        </p:nvPicPr>
        <p:blipFill>
          <a:blip r:embed="rId5"/>
          <a:stretch/>
        </p:blipFill>
        <p:spPr>
          <a:xfrm>
            <a:off x="142920" y="0"/>
            <a:ext cx="714240" cy="8301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marL="291960" indent="-2919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4300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73080" indent="-1936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363680" indent="-1936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752480" indent="-193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752480" indent="-193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752480" indent="-193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214280" y="6381360"/>
            <a:ext cx="6400800" cy="1904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c2d5a"/>
                </a:solidFill>
                <a:latin typeface="Calibri"/>
              </a:rPr>
              <a:t>April</a:t>
            </a:r>
            <a:r>
              <a:rPr b="1" lang="ru-RU" sz="900" spc="-1" strike="noStrike">
                <a:solidFill>
                  <a:srgbClr val="2c2d5a"/>
                </a:solidFill>
                <a:latin typeface="Calibri"/>
              </a:rPr>
              <a:t> </a:t>
            </a:r>
            <a:r>
              <a:rPr b="1" lang="en-US" sz="900" spc="-1" strike="noStrike">
                <a:solidFill>
                  <a:srgbClr val="2c2d5a"/>
                </a:solidFill>
                <a:latin typeface="Calibri"/>
              </a:rPr>
              <a:t>201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615960" y="2357280"/>
            <a:ext cx="78469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  <a:ea typeface="Times New Roman"/>
              </a:rPr>
              <a:t>Key National Indicators Knowledge Base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  <a:ea typeface="Times New Roman"/>
              </a:rPr>
              <a:t>Management Tool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Подзаголовок 6"/>
          <p:cNvSpPr/>
          <p:nvPr/>
        </p:nvSpPr>
        <p:spPr>
          <a:xfrm>
            <a:off x="6286680" y="5286240"/>
            <a:ext cx="2576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marL="291960" indent="-2919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2d5a"/>
                </a:solidFill>
                <a:latin typeface="Calibri"/>
              </a:rPr>
              <a:t>Yevgeny Ovcharov</a:t>
            </a:r>
            <a:r>
              <a:rPr b="1" lang="ru-RU" sz="1200" spc="-1" strike="noStrike">
                <a:solidFill>
                  <a:srgbClr val="2c2d5a"/>
                </a:solidFill>
                <a:latin typeface="Calibri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2d5a"/>
                </a:solidFill>
                <a:latin typeface="Calibri"/>
              </a:rPr>
              <a:t>Deputy CEO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2d5a"/>
                </a:solidFill>
                <a:latin typeface="Calibri"/>
              </a:rPr>
              <a:t>PROGNOZ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8"/>
          <p:cNvSpPr/>
          <p:nvPr/>
        </p:nvSpPr>
        <p:spPr>
          <a:xfrm>
            <a:off x="8758080" y="66801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90B0-DDBF-4DF5-9456-02EAAEC19967}" type="slidenum">
              <a:rPr b="0" lang="ru-RU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642960" y="785880"/>
            <a:ext cx="76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alibri"/>
                <a:ea typeface="Times New Roman"/>
              </a:rPr>
              <a:t>ASSESSMENT ON DATA AVAILABILITY ACROSS VARIOUS DATA SOURCES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57120" y="1214280"/>
          <a:ext cx="8358120" cy="5286600"/>
        </p:xfrm>
        <a:graphic>
          <a:graphicData uri="http://schemas.openxmlformats.org/drawingml/2006/table">
            <a:tbl>
              <a:tblPr/>
              <a:tblGrid>
                <a:gridCol w="1160640"/>
                <a:gridCol w="931680"/>
                <a:gridCol w="704880"/>
                <a:gridCol w="701640"/>
                <a:gridCol w="703440"/>
                <a:gridCol w="701640"/>
                <a:gridCol w="1112760"/>
                <a:gridCol w="1170000"/>
                <a:gridCol w="1171440"/>
              </a:tblGrid>
              <a:tr h="276480">
                <a:tc gridSpan="2"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Concept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EC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ld Bank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osta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F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O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S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ulation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44960"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onomically active popul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wag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ss Domestic Produc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35600"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Production Index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00520">
                <a:tc rowSpan="4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l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I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0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I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I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DP deflator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3400"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employ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08600"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fe expectanc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ant mortal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ni index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ss fixed capital form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3"/>
          <p:cNvSpPr/>
          <p:nvPr/>
        </p:nvSpPr>
        <p:spPr>
          <a:xfrm>
            <a:off x="571680" y="814320"/>
            <a:ext cx="82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alibri"/>
                <a:ea typeface="Times New Roman"/>
              </a:rPr>
              <a:t>SAMPLE ASSESSMENT ON DATA QUALITY ACROSS VARIOUS DATA SOURCES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Диаграмма 2" descr=""/>
          <p:cNvPicPr/>
          <p:nvPr/>
        </p:nvPicPr>
        <p:blipFill>
          <a:blip r:embed="rId1"/>
          <a:stretch/>
        </p:blipFill>
        <p:spPr>
          <a:xfrm>
            <a:off x="281160" y="1206360"/>
            <a:ext cx="8521560" cy="5108760"/>
          </a:xfrm>
          <a:prstGeom prst="rect">
            <a:avLst/>
          </a:prstGeom>
          <a:ln w="0">
            <a:noFill/>
          </a:ln>
        </p:spPr>
      </p:pic>
      <p:sp>
        <p:nvSpPr>
          <p:cNvPr id="106" name="Номер слайда 8"/>
          <p:cNvSpPr/>
          <p:nvPr/>
        </p:nvSpPr>
        <p:spPr>
          <a:xfrm>
            <a:off x="8758080" y="66801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C77D-EDD8-45DF-B49E-E76F8D9B69ED}" type="slidenum">
              <a:rPr b="0" lang="ru-RU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Диаграмма 1" descr=""/>
          <p:cNvPicPr/>
          <p:nvPr/>
        </p:nvPicPr>
        <p:blipFill>
          <a:blip r:embed="rId1"/>
          <a:stretch/>
        </p:blipFill>
        <p:spPr>
          <a:xfrm>
            <a:off x="208080" y="1133640"/>
            <a:ext cx="8654760" cy="54432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3"/>
          <p:cNvSpPr/>
          <p:nvPr/>
        </p:nvSpPr>
        <p:spPr>
          <a:xfrm>
            <a:off x="571680" y="814320"/>
            <a:ext cx="82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alibri"/>
                <a:ea typeface="Times New Roman"/>
              </a:rPr>
              <a:t>SAMPLE ASSESSMENT ON DATA QUALITY ACROSS VARIOUS DATA SOURCES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Номер слайда 8"/>
          <p:cNvSpPr/>
          <p:nvPr/>
        </p:nvSpPr>
        <p:spPr>
          <a:xfrm>
            <a:off x="8758080" y="66801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B37C-12DA-46EC-909D-F8E5A16F595E}" type="slidenum">
              <a:rPr b="0" lang="ru-RU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3"/>
          <p:cNvSpPr/>
          <p:nvPr/>
        </p:nvSpPr>
        <p:spPr>
          <a:xfrm>
            <a:off x="500040" y="792000"/>
            <a:ext cx="8143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alibri"/>
                <a:ea typeface="Times New Roman"/>
              </a:rPr>
              <a:t>SAMPLE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700" spc="-1" strike="noStrike">
                <a:solidFill>
                  <a:srgbClr val="000066"/>
                </a:solidFill>
                <a:latin typeface="Calibri"/>
                <a:ea typeface="Times New Roman"/>
              </a:rPr>
              <a:t>DATA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700" spc="-1" strike="noStrike">
                <a:solidFill>
                  <a:srgbClr val="000066"/>
                </a:solidFill>
                <a:latin typeface="Calibri"/>
                <a:ea typeface="Times New Roman"/>
              </a:rPr>
              <a:t>MIGRATION FLOW PROCESS SHOWN FOR THE INDICATOR VALUE OF U.S. GDP (CURRENT PRICES, US DOLLARS) IN YEAR 2007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1071720" y="1438200"/>
            <a:ext cx="7286400" cy="5133960"/>
          </a:xfrm>
          <a:prstGeom prst="rect">
            <a:avLst/>
          </a:prstGeom>
          <a:ln w="0">
            <a:noFill/>
          </a:ln>
        </p:spPr>
      </p:pic>
      <p:sp>
        <p:nvSpPr>
          <p:cNvPr id="112" name="Номер слайда 8"/>
          <p:cNvSpPr/>
          <p:nvPr/>
        </p:nvSpPr>
        <p:spPr>
          <a:xfrm>
            <a:off x="8758080" y="66801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8CB0-8F37-4894-A3A6-0FB92D0F5E75}" type="slidenum">
              <a:rPr b="0" lang="ru-RU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2" descr="D:\Миша\База_КНП_Панель\Презентация\Для 6-го слайда (EAP).JPG"/>
          <p:cNvPicPr/>
          <p:nvPr/>
        </p:nvPicPr>
        <p:blipFill>
          <a:blip r:embed="rId1"/>
          <a:stretch/>
        </p:blipFill>
        <p:spPr>
          <a:xfrm>
            <a:off x="657360" y="2000160"/>
            <a:ext cx="7915320" cy="41054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3"/>
          <p:cNvSpPr/>
          <p:nvPr/>
        </p:nvSpPr>
        <p:spPr>
          <a:xfrm>
            <a:off x="357120" y="814320"/>
            <a:ext cx="8572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alibri"/>
                <a:ea typeface="Times New Roman"/>
              </a:rPr>
              <a:t>ASSESSMENT OF DATA METHODOLOGIES USED FOR INDICATOR CALCULATION 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alibri"/>
                <a:ea typeface="Times New Roman"/>
              </a:rPr>
              <a:t>ACROSS COUNTRIES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Скругленная прямоугольная выноска 3"/>
          <p:cNvSpPr/>
          <p:nvPr/>
        </p:nvSpPr>
        <p:spPr>
          <a:xfrm>
            <a:off x="214200" y="6143760"/>
            <a:ext cx="1928880" cy="500040"/>
          </a:xfrm>
          <a:prstGeom prst="wedgeRoundRectCallout">
            <a:avLst>
              <a:gd name="adj1" fmla="val 28513"/>
              <a:gd name="adj2" fmla="val -106749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Different age criteria are used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Скругленная прямоугольная выноска 4"/>
          <p:cNvSpPr/>
          <p:nvPr/>
        </p:nvSpPr>
        <p:spPr>
          <a:xfrm>
            <a:off x="500040" y="1285920"/>
            <a:ext cx="2857680" cy="642960"/>
          </a:xfrm>
          <a:prstGeom prst="wedgeRoundRectCallout">
            <a:avLst>
              <a:gd name="adj1" fmla="val -26763"/>
              <a:gd name="adj2" fmla="val 5030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When calculating indicators for different countries: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Скругленная прямоугольная выноска 5"/>
          <p:cNvSpPr/>
          <p:nvPr/>
        </p:nvSpPr>
        <p:spPr>
          <a:xfrm>
            <a:off x="5572080" y="6143760"/>
            <a:ext cx="2286000" cy="500040"/>
          </a:xfrm>
          <a:prstGeom prst="wedgeRoundRectCallout">
            <a:avLst>
              <a:gd name="adj1" fmla="val -23314"/>
              <a:gd name="adj2" fmla="val -13013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Different classifications are us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Скругленная прямоугольная выноска 6"/>
          <p:cNvSpPr/>
          <p:nvPr/>
        </p:nvSpPr>
        <p:spPr>
          <a:xfrm>
            <a:off x="2857680" y="6072120"/>
            <a:ext cx="2500200" cy="571680"/>
          </a:xfrm>
          <a:prstGeom prst="wedgeRoundRectCallout">
            <a:avLst>
              <a:gd name="adj1" fmla="val -7087"/>
              <a:gd name="adj2" fmla="val -157449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Different social groups are used in different countri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Номер слайда 8"/>
          <p:cNvSpPr/>
          <p:nvPr/>
        </p:nvSpPr>
        <p:spPr>
          <a:xfrm>
            <a:off x="8758080" y="66801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C121-61BB-402D-A31C-DE2048133F56}" type="slidenum">
              <a:rPr b="0" lang="ru-RU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5"/>
          <p:cNvSpPr/>
          <p:nvPr/>
        </p:nvSpPr>
        <p:spPr>
          <a:xfrm>
            <a:off x="484200" y="785880"/>
            <a:ext cx="82422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  <a:ea typeface="Times New Roman"/>
              </a:rPr>
              <a:t>The structure of the prototype Knowledge Bas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Схема 3" descr=""/>
          <p:cNvPicPr/>
          <p:nvPr/>
        </p:nvPicPr>
        <p:blipFill>
          <a:blip r:embed="rId1"/>
          <a:stretch/>
        </p:blipFill>
        <p:spPr>
          <a:xfrm>
            <a:off x="1335240" y="1341360"/>
            <a:ext cx="6278400" cy="4930920"/>
          </a:xfrm>
          <a:prstGeom prst="rect">
            <a:avLst/>
          </a:prstGeom>
          <a:ln w="0">
            <a:noFill/>
          </a:ln>
        </p:spPr>
      </p:pic>
      <p:sp>
        <p:nvSpPr>
          <p:cNvPr id="122" name="Номер слайда 8"/>
          <p:cNvSpPr/>
          <p:nvPr/>
        </p:nvSpPr>
        <p:spPr>
          <a:xfrm>
            <a:off x="8758080" y="66801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9EB1-AF68-49F4-9306-123336113712}" type="slidenum">
              <a:rPr b="0" lang="ru-RU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Выноска 2 (с границей) 5"/>
          <p:cNvSpPr/>
          <p:nvPr/>
        </p:nvSpPr>
        <p:spPr>
          <a:xfrm>
            <a:off x="7077240" y="4214880"/>
            <a:ext cx="2066760" cy="571320"/>
          </a:xfr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95959"/>
                </a:solidFill>
                <a:latin typeface="Calibri"/>
              </a:rPr>
              <a:t>Strategic documents  setting out organizations’ objectives;  international standards and agreements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Выноска 2 (с границей) 7"/>
          <p:cNvSpPr/>
          <p:nvPr/>
        </p:nvSpPr>
        <p:spPr>
          <a:xfrm>
            <a:off x="5495760" y="1214280"/>
            <a:ext cx="1648080" cy="500400"/>
          </a:xfr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95959"/>
                </a:solidFill>
                <a:latin typeface="Calibri"/>
              </a:rPr>
              <a:t>Terms and definitions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Выноска 2 (с границей) 8"/>
          <p:cNvSpPr/>
          <p:nvPr/>
        </p:nvSpPr>
        <p:spPr>
          <a:xfrm flipH="1">
            <a:off x="218520" y="4286160"/>
            <a:ext cx="1649160" cy="500040"/>
          </a:xfr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95959"/>
                </a:solidFill>
                <a:latin typeface="Calibri"/>
              </a:rPr>
              <a:t>Databases of national statistical offices and international organizations , e.g. UN, OECD, the World Bank, IMF, Eurostat</a:t>
            </a:r>
            <a:r>
              <a:rPr b="1" lang="ru-RU" sz="1000" spc="-1" strike="noStrike">
                <a:solidFill>
                  <a:srgbClr val="595959"/>
                </a:solidFill>
                <a:latin typeface="Calibri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Выноска 2 (с границей) 9"/>
          <p:cNvSpPr/>
          <p:nvPr/>
        </p:nvSpPr>
        <p:spPr>
          <a:xfrm>
            <a:off x="5297400" y="3214800"/>
            <a:ext cx="1648080" cy="500040"/>
          </a:xfr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95959"/>
                </a:solidFill>
                <a:latin typeface="Calibri"/>
              </a:rPr>
              <a:t>Indicator attributes</a:t>
            </a:r>
            <a:r>
              <a:rPr b="1" lang="ru-RU" sz="1000" spc="-1" strike="noStrike">
                <a:solidFill>
                  <a:srgbClr val="595959"/>
                </a:solidFill>
                <a:latin typeface="Calibri"/>
              </a:rPr>
              <a:t>,</a:t>
            </a:r>
            <a:r>
              <a:rPr b="1" lang="en-US" sz="1000" spc="-1" strike="noStrike">
                <a:solidFill>
                  <a:srgbClr val="595959"/>
                </a:solidFill>
                <a:latin typeface="Calibri"/>
              </a:rPr>
              <a:t> calculation methods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7" name="Скругленный прямоугольник 10"/>
          <p:cNvGrpSpPr/>
          <p:nvPr/>
        </p:nvGrpSpPr>
        <p:grpSpPr>
          <a:xfrm>
            <a:off x="8723160" y="6394320"/>
            <a:ext cx="335160" cy="324000"/>
            <a:chOff x="8723160" y="6394320"/>
            <a:chExt cx="335160" cy="324000"/>
          </a:xfrm>
        </p:grpSpPr>
        <p:pic>
          <p:nvPicPr>
            <p:cNvPr id="12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8723160" y="6394320"/>
              <a:ext cx="33516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8798040" y="6440400"/>
              <a:ext cx="1918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5"/>
          <p:cNvSpPr/>
          <p:nvPr/>
        </p:nvSpPr>
        <p:spPr>
          <a:xfrm>
            <a:off x="484200" y="1000080"/>
            <a:ext cx="82422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  <a:ea typeface="Times New Roman"/>
              </a:rPr>
              <a:t>The projected effect of building the Knowledge Bas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Номер слайда 8"/>
          <p:cNvSpPr/>
          <p:nvPr/>
        </p:nvSpPr>
        <p:spPr>
          <a:xfrm>
            <a:off x="8758080" y="66801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B213-38A7-4D57-A202-D9F457B85D69}" type="slidenum">
              <a:rPr b="0" lang="ru-RU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Схема 6" descr=""/>
          <p:cNvPicPr/>
          <p:nvPr/>
        </p:nvPicPr>
        <p:blipFill>
          <a:blip r:embed="rId1"/>
          <a:stretch/>
        </p:blipFill>
        <p:spPr>
          <a:xfrm>
            <a:off x="542880" y="1352520"/>
            <a:ext cx="7924680" cy="52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3"/>
          <p:cNvSpPr/>
          <p:nvPr/>
        </p:nvSpPr>
        <p:spPr>
          <a:xfrm>
            <a:off x="615960" y="3038400"/>
            <a:ext cx="784692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  <a:ea typeface="Times New Roman"/>
              </a:rPr>
              <a:t>Thank you for your attention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  <a:ea typeface="Times New Roman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Номер слайда 8"/>
          <p:cNvSpPr/>
          <p:nvPr/>
        </p:nvSpPr>
        <p:spPr>
          <a:xfrm>
            <a:off x="8758080" y="66801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5A41-47F6-4B8F-A11B-B1A3ACFFD0B8}" type="slidenum">
              <a:rPr b="0" lang="ru-RU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рогноз</cp:lastModifiedBy>
  <dcterms:modified xsi:type="dcterms:W3CDTF">2010-04-06T17:13:05Z</dcterms:modified>
  <cp:revision>1982</cp:revision>
  <dc:subject/>
  <dc:title>Презентация PowerPoint</dc:title>
</cp:coreProperties>
</file>