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458-7FD2-471E-876B-0C7F145D1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2F4-1B95-42D9-BF2B-282A0D3EC3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7F5-A380-4017-B9E7-721CE19E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094-58EF-4BDA-B818-9CCE8C1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A28-C3A9-4789-8D4A-CD27E2DB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EEA-A0FC-43B9-9191-7BC26EDE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FD4-0ADA-4E48-A055-3AE97EA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B26-C3EB-4374-9A73-F936F08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ADA-A73A-41B9-8C01-AE61EE9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C50-3F1E-499D-A1C3-BE8A125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EC3-FC00-4F1B-93AB-B3A0A4B9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AC0-4EFE-41DB-ADCE-F9A9E94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727-4807-49F9-B0F0-76ED69E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353-0CDF-4957-BC24-9C4C96E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7308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6368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5E5C-3C5A-4C8E-9BCC-62389990CE01}" type="datetime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8108-B5D4-43E8-BD65-6598D8634269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46"/>
          <p:cNvSpPr/>
          <p:nvPr/>
        </p:nvSpPr>
        <p:spPr>
          <a:xfrm>
            <a:off x="6477120" y="228600"/>
            <a:ext cx="2438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Рисунок 4" descr="заголовок1.bmp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6" descr="prognoz_white_eng.png"/>
          <p:cNvPicPr/>
          <p:nvPr/>
        </p:nvPicPr>
        <p:blipFill>
          <a:blip r:embed="rId3"/>
          <a:stretch/>
        </p:blipFill>
        <p:spPr>
          <a:xfrm>
            <a:off x="7000920" y="285840"/>
            <a:ext cx="199080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4" descr="заголовок1.bmp"/>
          <p:cNvPicPr/>
          <p:nvPr/>
        </p:nvPicPr>
        <p:blipFill>
          <a:blip r:embed="rId4"/>
          <a:stretch/>
        </p:blipFill>
        <p:spPr>
          <a:xfrm>
            <a:off x="0" y="671508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3"/>
          <p:cNvSpPr/>
          <p:nvPr/>
        </p:nvSpPr>
        <p:spPr>
          <a:xfrm>
            <a:off x="23760" y="6654960"/>
            <a:ext cx="828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© ЗАО "ПРОГНОЗ" 2009 г. Все права защищены.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заголовок1.bmp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prognoz_white_eng.png"/>
          <p:cNvPicPr/>
          <p:nvPr/>
        </p:nvPicPr>
        <p:blipFill>
          <a:blip r:embed="rId3"/>
          <a:stretch/>
        </p:blipFill>
        <p:spPr>
          <a:xfrm>
            <a:off x="7000920" y="285840"/>
            <a:ext cx="1990800" cy="214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заголовок1.bmp"/>
          <p:cNvPicPr/>
          <p:nvPr/>
        </p:nvPicPr>
        <p:blipFill>
          <a:blip r:embed="rId4"/>
          <a:stretch/>
        </p:blipFill>
        <p:spPr>
          <a:xfrm>
            <a:off x="0" y="671508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857160" y="71280"/>
            <a:ext cx="4214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ccounts Chamber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of the Russian Federation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8680" y="6543720"/>
            <a:ext cx="1787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ww.ach.gov.ru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810560" y="655308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ww.prognoz.ru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D:\Миша\База_КНП_Панель\Презентация\decor_logo_img.gif"/>
          <p:cNvPicPr/>
          <p:nvPr/>
        </p:nvPicPr>
        <p:blipFill>
          <a:blip r:embed="rId5"/>
          <a:stretch/>
        </p:blipFill>
        <p:spPr>
          <a:xfrm>
            <a:off x="142920" y="0"/>
            <a:ext cx="714240" cy="830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7308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6368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4280" y="6381360"/>
            <a:ext cx="6400800" cy="1904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c2d5a"/>
                </a:solidFill>
                <a:latin typeface="Calibri"/>
              </a:rPr>
              <a:t>April</a:t>
            </a:r>
            <a:r>
              <a:rPr b="1" lang="ru-RU" sz="900" spc="-1" strike="noStrike">
                <a:solidFill>
                  <a:srgbClr val="2c2d5a"/>
                </a:solidFill>
                <a:latin typeface="Calibri"/>
              </a:rPr>
              <a:t> </a:t>
            </a:r>
            <a:r>
              <a:rPr b="1" lang="en-US" sz="900" spc="-1" strike="noStrike">
                <a:solidFill>
                  <a:srgbClr val="2c2d5a"/>
                </a:solidFill>
                <a:latin typeface="Calibri"/>
              </a:rPr>
              <a:t>20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15960" y="2357280"/>
            <a:ext cx="78469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Key National Indicators Knowledge Bas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Management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одзаголовок 6"/>
          <p:cNvSpPr/>
          <p:nvPr/>
        </p:nvSpPr>
        <p:spPr>
          <a:xfrm>
            <a:off x="6286680" y="5286240"/>
            <a:ext cx="25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Yevgeny Ovcharov</a:t>
            </a:r>
            <a:r>
              <a:rPr b="1" lang="ru-RU" sz="1200" spc="-1" strike="noStrike">
                <a:solidFill>
                  <a:srgbClr val="2c2d5a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Deputy CEO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2d5a"/>
                </a:solidFill>
                <a:latin typeface="Calibri"/>
              </a:rPr>
              <a:t>PROGNOZ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A54-12DA-437F-AE70-78555232F2AE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2960" y="785880"/>
            <a:ext cx="76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SSESSMENT ON DATA AVAILABI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7120" y="1214280"/>
          <a:ext cx="8358120" cy="5286600"/>
        </p:xfrm>
        <a:graphic>
          <a:graphicData uri="http://schemas.openxmlformats.org/drawingml/2006/table">
            <a:tbl>
              <a:tblPr/>
              <a:tblGrid>
                <a:gridCol w="1160640"/>
                <a:gridCol w="931680"/>
                <a:gridCol w="704880"/>
                <a:gridCol w="701640"/>
                <a:gridCol w="703440"/>
                <a:gridCol w="701640"/>
                <a:gridCol w="1112760"/>
                <a:gridCol w="1170000"/>
                <a:gridCol w="1171440"/>
              </a:tblGrid>
              <a:tr h="276480">
                <a:tc gridSpan="2"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ncept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Bank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st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F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S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4496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cally active popu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wag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Produc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Production Inde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0520"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P deflat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34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860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expectanc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ant mortal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ni inde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fixed capital form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3"/>
          <p:cNvSpPr/>
          <p:nvPr/>
        </p:nvSpPr>
        <p:spPr>
          <a:xfrm>
            <a:off x="571680" y="8143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 ASSESSMENT ON DATA QUA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Диаграмма 2" descr=""/>
          <p:cNvPicPr/>
          <p:nvPr/>
        </p:nvPicPr>
        <p:blipFill>
          <a:blip r:embed="rId1"/>
          <a:stretch/>
        </p:blipFill>
        <p:spPr>
          <a:xfrm>
            <a:off x="281160" y="1206360"/>
            <a:ext cx="8521560" cy="510876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20B-66EF-4B74-ACEC-A43BC90687E2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1" descr=""/>
          <p:cNvPicPr/>
          <p:nvPr/>
        </p:nvPicPr>
        <p:blipFill>
          <a:blip r:embed="rId1"/>
          <a:stretch/>
        </p:blipFill>
        <p:spPr>
          <a:xfrm>
            <a:off x="208080" y="1133640"/>
            <a:ext cx="8654760" cy="5443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571680" y="8143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 ASSESSMENT ON DATA QUALITY ACROSS VARIOUS DATA SOUR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143-9729-4127-AFB9-AD4B9D7A7367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3"/>
          <p:cNvSpPr/>
          <p:nvPr/>
        </p:nvSpPr>
        <p:spPr>
          <a:xfrm>
            <a:off x="500040" y="792000"/>
            <a:ext cx="8143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SAMPL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DATA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MIGRATION FLOW PROCESS SHOWN FOR THE INDICATOR VALUE OF U.S. GDP (CURRENT PRICES, US DOLLARS) IN YEAR 2007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071720" y="1438200"/>
            <a:ext cx="7286400" cy="513396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6C4-2E00-436B-AE31-9E6706DC9EB4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D:\Миша\База_КНП_Панель\Презентация\Для 6-го слайда (EAP).JPG"/>
          <p:cNvPicPr/>
          <p:nvPr/>
        </p:nvPicPr>
        <p:blipFill>
          <a:blip r:embed="rId1"/>
          <a:stretch/>
        </p:blipFill>
        <p:spPr>
          <a:xfrm>
            <a:off x="657360" y="2000160"/>
            <a:ext cx="791532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357120" y="814320"/>
            <a:ext cx="857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SSESSMENT OF DATA METHODOLOGIES USED FOR INDICATOR CALCULATION 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alibri"/>
                <a:ea typeface="Times New Roman"/>
              </a:rPr>
              <a:t>ACROSS COUNTRI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ая прямоугольная выноска 3"/>
          <p:cNvSpPr/>
          <p:nvPr/>
        </p:nvSpPr>
        <p:spPr>
          <a:xfrm>
            <a:off x="214200" y="6143760"/>
            <a:ext cx="1928880" cy="500040"/>
          </a:xfrm>
          <a:prstGeom prst="wedgeRoundRectCallout">
            <a:avLst>
              <a:gd name="adj1" fmla="val 28513"/>
              <a:gd name="adj2" fmla="val -10674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age criteria are used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Скругленная прямоугольная выноска 4"/>
          <p:cNvSpPr/>
          <p:nvPr/>
        </p:nvSpPr>
        <p:spPr>
          <a:xfrm>
            <a:off x="500040" y="1285920"/>
            <a:ext cx="2857680" cy="642960"/>
          </a:xfrm>
          <a:prstGeom prst="wedgeRoundRectCallout">
            <a:avLst>
              <a:gd name="adj1" fmla="val -26763"/>
              <a:gd name="adj2" fmla="val 503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When calculating indicators for different countries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ая прямоугольная выноска 5"/>
          <p:cNvSpPr/>
          <p:nvPr/>
        </p:nvSpPr>
        <p:spPr>
          <a:xfrm>
            <a:off x="5572080" y="6143760"/>
            <a:ext cx="2286000" cy="500040"/>
          </a:xfrm>
          <a:prstGeom prst="wedgeRoundRectCallout">
            <a:avLst>
              <a:gd name="adj1" fmla="val -23314"/>
              <a:gd name="adj2" fmla="val -130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classifications are us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ая прямоугольная выноска 6"/>
          <p:cNvSpPr/>
          <p:nvPr/>
        </p:nvSpPr>
        <p:spPr>
          <a:xfrm>
            <a:off x="2857680" y="6072120"/>
            <a:ext cx="2500200" cy="571680"/>
          </a:xfrm>
          <a:prstGeom prst="wedgeRoundRectCallout">
            <a:avLst>
              <a:gd name="adj1" fmla="val -7087"/>
              <a:gd name="adj2" fmla="val -15744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ifferent social groups are used in different countri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7DC-80B8-4FE1-9C78-0A186FF47D45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484200" y="785880"/>
            <a:ext cx="8242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The structure of the prototype Knowledge B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1"/>
          <a:stretch/>
        </p:blipFill>
        <p:spPr>
          <a:xfrm>
            <a:off x="1335240" y="1341360"/>
            <a:ext cx="6278400" cy="493092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BD0-0C34-433C-BF21-A43D4CF6FEBF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Выноска 2 (с границей) 5"/>
          <p:cNvSpPr/>
          <p:nvPr/>
        </p:nvSpPr>
        <p:spPr>
          <a:xfrm>
            <a:off x="7077240" y="4214880"/>
            <a:ext cx="2066760" cy="57132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Strategic documents  setting out organizations’ objectives;  international standards and agreement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Выноска 2 (с границей) 7"/>
          <p:cNvSpPr/>
          <p:nvPr/>
        </p:nvSpPr>
        <p:spPr>
          <a:xfrm>
            <a:off x="5495760" y="1214280"/>
            <a:ext cx="1648080" cy="50040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Terms and definition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Выноска 2 (с границей) 8"/>
          <p:cNvSpPr/>
          <p:nvPr/>
        </p:nvSpPr>
        <p:spPr>
          <a:xfrm flipH="1">
            <a:off x="218520" y="4286160"/>
            <a:ext cx="1649160" cy="50004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Databases of national statistical offices and international organizations , e.g. UN, OECD, the World Bank, IMF, Eurostat</a:t>
            </a:r>
            <a:r>
              <a:rPr b="1" lang="ru-RU" sz="1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Выноска 2 (с границей) 9"/>
          <p:cNvSpPr/>
          <p:nvPr/>
        </p:nvSpPr>
        <p:spPr>
          <a:xfrm>
            <a:off x="5297400" y="3214800"/>
            <a:ext cx="1648080" cy="50004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Indicator attributes</a:t>
            </a:r>
            <a:r>
              <a:rPr b="1" lang="ru-RU" sz="1000" spc="-1" strike="noStrike">
                <a:solidFill>
                  <a:srgbClr val="595959"/>
                </a:solidFill>
                <a:latin typeface="Calibri"/>
              </a:rPr>
              <a:t>,</a:t>
            </a:r>
            <a:r>
              <a:rPr b="1" lang="en-US" sz="1000" spc="-1" strike="noStrike">
                <a:solidFill>
                  <a:srgbClr val="595959"/>
                </a:solidFill>
                <a:latin typeface="Calibri"/>
              </a:rPr>
              <a:t> calculation method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Скругленный прямоугольник 10"/>
          <p:cNvGrpSpPr/>
          <p:nvPr/>
        </p:nvGrpSpPr>
        <p:grpSpPr>
          <a:xfrm>
            <a:off x="8723160" y="6394320"/>
            <a:ext cx="335160" cy="324000"/>
            <a:chOff x="8723160" y="6394320"/>
            <a:chExt cx="335160" cy="324000"/>
          </a:xfrm>
        </p:grpSpPr>
        <p:pic>
          <p:nvPicPr>
            <p:cNvPr id="12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8723160" y="6394320"/>
              <a:ext cx="335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798040" y="6440400"/>
              <a:ext cx="1918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484200" y="1000080"/>
            <a:ext cx="8242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  <a:ea typeface="Times New Roman"/>
              </a:rPr>
              <a:t>The projected effect of building the Knowledge B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2390-4424-4B5B-B294-0F99704CD01D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Схема 6" descr=""/>
          <p:cNvPicPr/>
          <p:nvPr/>
        </p:nvPicPr>
        <p:blipFill>
          <a:blip r:embed="rId1"/>
          <a:stretch/>
        </p:blipFill>
        <p:spPr>
          <a:xfrm>
            <a:off x="542880" y="1352520"/>
            <a:ext cx="79246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3"/>
          <p:cNvSpPr/>
          <p:nvPr/>
        </p:nvSpPr>
        <p:spPr>
          <a:xfrm>
            <a:off x="615960" y="3038400"/>
            <a:ext cx="7846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Thank you for your attention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Номер слайда 8"/>
          <p:cNvSpPr/>
          <p:nvPr/>
        </p:nvSpPr>
        <p:spPr>
          <a:xfrm>
            <a:off x="8758080" y="6680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1A34-10AA-4AAA-A6B3-7488119C5F91}" type="slidenum">
              <a:rPr b="0" lang="ru-RU" sz="9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гноз</cp:lastModifiedBy>
  <dcterms:modified xsi:type="dcterms:W3CDTF">2010-04-06T17:13:05Z</dcterms:modified>
  <cp:revision>1982</cp:revision>
  <dc:subject/>
  <dc:title>Презентация PowerPoint</dc:title>
</cp:coreProperties>
</file>