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001A-1661-4F04-AAAC-B8299EDFE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419E-9439-487C-BC34-CA7B9DAE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37FE-695A-438F-8F40-F76EE9037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7ABE-FF83-42A6-BCF2-27D069E2B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E96B-73E0-47E7-B8AE-35A790CB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933C-23AE-4B8C-903A-F40EFB43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59A8-F7E0-4EE3-BCCF-34A1D08D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FC35-7C8A-4968-B210-0D322594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9DA9-57EB-477C-AF90-4097E74D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397A-8CC7-4EF3-AAB6-560F2C94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F707-4C0A-4991-BB4A-116DA89D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2C18-A0CA-4859-BE50-1ED5A6B6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CE6F-6CB8-4294-ABC7-66FE6E8CD55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B49D-BBAA-48D1-B4F8-45799B3B2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2707920"/>
            <a:ext cx="8291520" cy="21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bsite of the INTOSAI Working Group on Key National Indicator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NTOSAI4KNI.OR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564000" y="692280"/>
          <a:ext cx="177804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692280"/>
                    <a:ext cx="17780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sco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9165-6C1E-45A3-BC47-6689B2C0E27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8DFF60-1CEF-4A49-B59C-5BBE688486E3}" type="datetime1">
              <a:rPr lang="en-US"/>
              <a:t>07/31/26</a:t>
            </a:fld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r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face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8261640" cy="49435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411280" y="2492280"/>
            <a:ext cx="1871640" cy="1944720"/>
          </a:xfrm>
          <a:prstGeom prst="wedgeRectCallout">
            <a:avLst>
              <a:gd name="adj1" fmla="val -104115"/>
              <a:gd name="adj2" fmla="val -107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411280" y="2492280"/>
          <a:ext cx="1866960" cy="195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2492280"/>
                    <a:ext cx="1866960" cy="19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908000" y="4797360"/>
            <a:ext cx="1872000" cy="1728720"/>
          </a:xfrm>
          <a:prstGeom prst="wedgeRectCallout">
            <a:avLst>
              <a:gd name="adj1" fmla="val -76379"/>
              <a:gd name="adj2" fmla="val -523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908000" y="4797360"/>
          <a:ext cx="1852920" cy="166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08000" y="4797360"/>
                    <a:ext cx="1852920" cy="16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900000" y="981000"/>
            <a:ext cx="7775640" cy="503280"/>
          </a:xfrm>
          <a:prstGeom prst="wedgeRectCallout">
            <a:avLst>
              <a:gd name="adj1" fmla="val -40037"/>
              <a:gd name="adj2" fmla="val 1115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00000" y="981000"/>
          <a:ext cx="7777440" cy="444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00000" y="981000"/>
                    <a:ext cx="77774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sco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7C64-19A1-47FF-9A60-4897E5A14B3C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B3FA51-8487-4E5F-8A14-7315D0A898ED}" type="datetime1">
              <a:rPr lang="en-US"/>
              <a:t>07/31/26</a:t>
            </a:fld>
          </a:p>
        </p:txBody>
      </p:sp>
    </p:spTree>
  </p:cSld>
  <p:transition spd="med" advTm="30000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ultilingual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up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261280" cy="49435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340000" y="4508640"/>
            <a:ext cx="2663640" cy="720720"/>
          </a:xfrm>
          <a:prstGeom prst="wedgeRectCallout">
            <a:avLst>
              <a:gd name="adj1" fmla="val -93740"/>
              <a:gd name="adj2" fmla="val 5814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340000" y="4508640"/>
          <a:ext cx="2663640" cy="72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40000" y="4508640"/>
                    <a:ext cx="266364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sco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1957-72AC-48F6-8CD8-007786B1C29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B1E822-9853-437B-A636-C7545EDCCC25}" type="datetime1">
              <a:rPr lang="en-US"/>
              <a:t>07/31/26</a:t>
            </a:fld>
          </a:p>
        </p:txBody>
      </p:sp>
    </p:spTree>
  </p:cSld>
  <p:transition spd="med" advTm="30000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asic Technical Function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052640"/>
            <a:ext cx="7775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8713800" cy="5214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sco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223C-FCBD-49D9-8855-74C833A50BFC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4EF9B2-8959-4C8A-9C3C-F41E4AD005EE}" type="datetime1">
              <a:rPr lang="en-US"/>
              <a:t>07/31/26</a:t>
            </a:fld>
          </a:p>
        </p:txBody>
      </p:sp>
    </p:spTree>
  </p:cSld>
  <p:transition spd="med" advTm="30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asic Technical Function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052640"/>
            <a:ext cx="7775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1197000"/>
            <a:ext cx="403236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ibution of a particip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g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gaz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teg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s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te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te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g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pula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27640" y="1125360"/>
            <a:ext cx="457200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 of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 of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ticles by the date of last redac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ticles with the least quantity of chan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ge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ou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ingual refer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ges included in a big quantity of categ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st referenced p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ges describing many-valued ter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ire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teg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x by the beginning of 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ticle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sco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5256-3FDF-4568-B044-66B4FE9634F3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7C46FD-8CC0-4A01-85A3-1E2D1C67FA8E}" type="datetime1">
              <a:rPr lang="en-US"/>
              <a:t>07/31/26</a:t>
            </a:fld>
          </a:p>
        </p:txBody>
      </p:sp>
    </p:spTree>
  </p:cSld>
  <p:transition spd="med" advTm="30000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di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569080" cy="5129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635280" y="2421000"/>
            <a:ext cx="4897440" cy="433440"/>
          </a:xfrm>
          <a:prstGeom prst="wedgeRectCallout">
            <a:avLst>
              <a:gd name="adj1" fmla="val -60569"/>
              <a:gd name="adj2" fmla="val 1410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635280" y="2421000"/>
          <a:ext cx="4896000" cy="44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2421000"/>
                    <a:ext cx="489600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sco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CF41-18F4-46BD-A659-3F63755B9653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2768EE-AAE0-44DD-BCCA-5BEA0C7EE65D}" type="datetime1">
              <a:rPr lang="en-US"/>
              <a:t>07/31/26</a:t>
            </a:fld>
          </a:p>
        </p:txBody>
      </p:sp>
    </p:spTree>
  </p:cSld>
  <p:transition spd="med" advTm="30000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w docu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50920" y="981000"/>
          <a:ext cx="6985080" cy="35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81000"/>
                    <a:ext cx="6985080" cy="35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 rot="14978400">
            <a:off x="1877040" y="3818520"/>
            <a:ext cx="636480" cy="431640"/>
          </a:xfrm>
          <a:prstGeom prst="rightArrow">
            <a:avLst>
              <a:gd name="adj1" fmla="val 32000"/>
              <a:gd name="adj2" fmla="val 7497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7080" y="4437000"/>
            <a:ext cx="28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Cre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492360" y="3808440"/>
          <a:ext cx="5327640" cy="241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3808440"/>
                    <a:ext cx="5327640" cy="24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sco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E895-3CF7-4622-9F36-7734A878776F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8E2F0F-C23D-45D0-9421-289975A837A7}" type="datetime1">
              <a:rPr lang="en-US"/>
              <a:t>07/31/26</a:t>
            </a:fld>
          </a:p>
        </p:txBody>
      </p:sp>
    </p:spTree>
  </p:cSld>
  <p:transition spd="med" advTm="30000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tributors’ input contr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24000" y="1125360"/>
          <a:ext cx="8424720" cy="42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25360"/>
                    <a:ext cx="8424720" cy="42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sco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91FA-C84C-4229-A86E-D57A5DB9BF93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1BB30E-1EAD-423D-9335-83EC543DF38E}" type="datetime1">
              <a:rPr lang="en-US"/>
              <a:t>07/31/26</a:t>
            </a:fld>
          </a:p>
        </p:txBody>
      </p:sp>
    </p:spTree>
  </p:cSld>
  <p:transition spd="med" advTm="30000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vision his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642160" cy="517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sco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BB8D-FE80-4C81-82A6-600BD1D8700B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8CA3BB-AC7D-48E0-8333-39D6EDF2250E}" type="datetime1">
              <a:rPr lang="en-US"/>
              <a:t>07/31/26</a:t>
            </a:fld>
          </a:p>
        </p:txBody>
      </p:sp>
    </p:spTree>
  </p:cSld>
  <p:transition spd="med" advTm="30000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ocuments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496000" cy="5084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sco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3212-9BEE-42C5-B5AD-F5FBE36B83D2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AD16D4-23E0-4BB1-8D09-D7157AB416D8}" type="datetime1">
              <a:rPr lang="en-US"/>
              <a:t>07/31/26</a:t>
            </a:fld>
          </a:p>
        </p:txBody>
      </p:sp>
    </p:spTree>
  </p:cSld>
  <p:transition spd="med" advTm="30000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ultimedia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upport fi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39640" y="3573360"/>
          <a:ext cx="8064720" cy="25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573360"/>
                    <a:ext cx="8064720" cy="25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 rot="14978400">
            <a:off x="1260720" y="5043600"/>
            <a:ext cx="636840" cy="431640"/>
          </a:xfrm>
          <a:prstGeom prst="rightArrow">
            <a:avLst>
              <a:gd name="adj1" fmla="val 32000"/>
              <a:gd name="adj2" fmla="val 750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71280" y="5084640"/>
            <a:ext cx="33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Down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484360" y="808200"/>
          <a:ext cx="6335640" cy="381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808200"/>
                    <a:ext cx="6335640" cy="38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108000" y="2276640"/>
          <a:ext cx="2262240" cy="55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000" y="2276640"/>
                    <a:ext cx="22622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179280" y="2781360"/>
          <a:ext cx="2160720" cy="625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9280" y="2781360"/>
                    <a:ext cx="216072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2627280" y="3500280"/>
          <a:ext cx="5988240" cy="544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27280" y="3500280"/>
                    <a:ext cx="598824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sco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A284-FC38-41D6-9AA6-4839DB859721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A84137-9BDF-47FA-B762-FF214161B52E}" type="datetime1">
              <a:rPr lang="en-US"/>
              <a:t>07/31/26</a:t>
            </a:fld>
          </a:p>
        </p:txBody>
      </p:sp>
    </p:spTree>
  </p:cSld>
  <p:transition spd="med" advTm="30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01640" y="285480"/>
            <a:ext cx="77580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ical framework of the KNI WG Webs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560" y="2060280"/>
            <a:ext cx="8713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and up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sco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ACBC-D9B9-4C32-882A-3098985292F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515906-BD0C-41B2-B0B3-884AA8DE6155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arch on the webs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332000" y="746280"/>
          <a:ext cx="6553080" cy="554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746280"/>
                    <a:ext cx="6553080" cy="55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sco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DE15-8E4E-4F3D-8480-F2889199B078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651578-9B32-4B64-BAB2-3517B8F3D3BD}" type="datetime1">
              <a:rPr lang="en-US"/>
              <a:t>07/31/26</a:t>
            </a:fld>
          </a:p>
        </p:txBody>
      </p:sp>
    </p:spTree>
  </p:cSld>
  <p:transition spd="med" advTm="30000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ccess poli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5037120" cy="1935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073880" y="1125360"/>
            <a:ext cx="59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: Access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uthentific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20520" y="3789360"/>
            <a:ext cx="78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: Personal profile (personal passwo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96600" y="2205000"/>
            <a:ext cx="42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n: intos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word: gimmewi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148360" y="4275000"/>
          <a:ext cx="3238560" cy="202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48360" y="4275000"/>
                    <a:ext cx="3238560" cy="20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sco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3583-EE5C-4576-897E-08465F0741AD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DCFD9A-35C5-414D-BB6C-6240FF5173AE}" type="datetime1">
              <a:rPr lang="en-US"/>
              <a:t>07/31/26</a:t>
            </a:fld>
          </a:p>
        </p:txBody>
      </p:sp>
    </p:spTree>
  </p:cSld>
  <p:transition spd="med" advTm="30000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accou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458200" cy="506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sco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9958-C178-4940-8165-621C393C78E5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AFFD55-7ACF-4C4D-AD5B-EB57F0508625}" type="datetime1">
              <a:rPr lang="en-US"/>
              <a:t>07/31/26</a:t>
            </a:fld>
          </a:p>
        </p:txBody>
      </p:sp>
    </p:spTree>
  </p:cSld>
  <p:transition spd="med" advTm="30000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elp fu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496000" cy="5084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sco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38CA-E470-4AC4-BAEF-918ED9EE1B4F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6636DA-B079-49A6-80CF-D3A3D45183A2}" type="datetime1">
              <a:rPr lang="en-US"/>
              <a:t>07/31/26</a:t>
            </a:fld>
          </a:p>
        </p:txBody>
      </p:sp>
    </p:spTree>
  </p:cSld>
  <p:transition spd="med" advTm="30000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292428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ank you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r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ttention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!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sco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2E9C-BCDE-4D26-AD47-C3A9EF48EACF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37BCB2-8127-41A6-A612-BB6795246EB7}" type="datetime1">
              <a:rPr lang="en-US"/>
              <a:t>07/31/26</a:t>
            </a:fld>
          </a:p>
        </p:txBody>
      </p:sp>
    </p:spTree>
  </p:cSld>
  <p:transition spd="med" advTm="30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01640" y="285840"/>
            <a:ext cx="77580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’s purpose of the Websi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 base conso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t community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oothing work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to INTOSAI regulations &amp;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ing resource in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sco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47F7-160C-46B0-B003-489642EC724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D7DE02-7CAC-4B11-8698-6A76A8E88958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ructure of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intosai4kni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3429000"/>
            <a:ext cx="259236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Ar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80000" y="3429000"/>
            <a:ext cx="259236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Ar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2133720"/>
            <a:ext cx="2592360" cy="57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I Working Group web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95640" y="3500280"/>
            <a:ext cx="1079640" cy="360360"/>
          </a:xfrm>
          <a:prstGeom prst="leftRightArrow">
            <a:avLst>
              <a:gd name="adj1" fmla="val 50000"/>
              <a:gd name="adj2" fmla="val 59643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934400">
            <a:off x="5437080" y="2852280"/>
            <a:ext cx="503280" cy="360360"/>
          </a:xfrm>
          <a:prstGeom prst="rightArrow">
            <a:avLst>
              <a:gd name="adj1" fmla="val 50000"/>
              <a:gd name="adj2" fmla="val 34915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8162400">
            <a:off x="2916000" y="2852280"/>
            <a:ext cx="503280" cy="360360"/>
          </a:xfrm>
          <a:prstGeom prst="rightArrow">
            <a:avLst>
              <a:gd name="adj1" fmla="val 50000"/>
              <a:gd name="adj2" fmla="val 34915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00000" y="4076640"/>
            <a:ext cx="360072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for Working Group members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flow and internal report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4149720"/>
            <a:ext cx="36003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icial reports and insigh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851280" y="836640"/>
          <a:ext cx="1417680" cy="121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836640"/>
                    <a:ext cx="141768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sco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7980-3682-4382-BE49-68CBD1E8889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E7D514-D14C-4214-8370-0237E9AD3185}" type="datetime1">
              <a:rPr lang="en-US"/>
              <a:t>07/31/26</a:t>
            </a:fld>
          </a:p>
        </p:txBody>
      </p:sp>
    </p:spTree>
  </p:cSld>
  <p:transition spd="med" advTm="30000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ructure of intosai4kni.org se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981000"/>
            <a:ext cx="259236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p Memb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628640"/>
            <a:ext cx="259236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c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87640" y="909720"/>
            <a:ext cx="590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reme Audit Institutions, INTOSAI Working Group members on Key National Indicators: bio, contact inf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87640" y="1628640"/>
            <a:ext cx="590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les of procedure, terms of reference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2278080"/>
            <a:ext cx="259236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2925720"/>
            <a:ext cx="259236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e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3573360"/>
            <a:ext cx="259236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4221000"/>
            <a:ext cx="259236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ing 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4870440"/>
            <a:ext cx="259236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ledge B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518080"/>
            <a:ext cx="259236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987640" y="2278080"/>
            <a:ext cx="590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ing Group agenda 2008, 2009 and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87640" y="2925720"/>
            <a:ext cx="590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ing Group meeting materi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87640" y="3573360"/>
            <a:ext cx="590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ners of the INTOSAI working group on Key National Indica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87640" y="4221000"/>
            <a:ext cx="590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lossary, White Paper, review of scientific literature and international best pract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87640" y="4870440"/>
            <a:ext cx="590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wledge bases on KNI methodology, including regional co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87640" y="5518080"/>
            <a:ext cx="590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ing Group contacts, the address, phone numbers and e-mails of particip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sco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69EB-8E91-47EC-B4FB-0EF1AA9EC80D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237F41-A036-45ED-BC47-23DF4CF94944}" type="datetime1">
              <a:rPr lang="en-US"/>
              <a:t>07/31/26</a:t>
            </a:fld>
          </a:p>
        </p:txBody>
      </p:sp>
    </p:spTree>
  </p:cSld>
  <p:transition spd="med" advTm="30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1914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latform of intosai4kni.or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W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ource and free license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ed Internet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tion us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-user frien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0" t="41381" r="24925" b="17321"/>
          <a:stretch/>
        </p:blipFill>
        <p:spPr>
          <a:xfrm>
            <a:off x="2843280" y="1557360"/>
            <a:ext cx="1081080" cy="10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sco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D6EB-F681-48D8-907E-435689C3B62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028FCA-5866-43E4-87B0-5BDFA002C09D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1592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unctiona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1341360"/>
            <a:ext cx="7775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ation of collaborative work of the Working Group members (authorized access, activities update, time-tabl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sharing (publication, forums, insights, editing capabilitie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ing con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lingual support (Russian, English) structures of the site with possibility of cross references between multilingual materials (translation of material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ve storage (storage of all versions and variants of working docum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sco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1167-DCB7-4D06-AB7A-F54D5FC45787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66E234-7055-4886-AAB0-7FB445AB58D8}" type="datetime1">
              <a:rPr lang="en-US"/>
              <a:t>07/31/26</a:t>
            </a:fld>
          </a:p>
        </p:txBody>
      </p:sp>
    </p:spTree>
  </p:cSld>
  <p:transition spd="med" advTm="30000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ebsite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550360" cy="509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sco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904F-A1FB-4EA5-9C9D-8645256F27DB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8435BA-BFF7-4104-ACD3-C7E328B8A7DB}" type="datetime1">
              <a:rPr lang="en-US"/>
              <a:t>07/31/26</a:t>
            </a:fld>
          </a:p>
        </p:txBody>
      </p:sp>
    </p:spTree>
  </p:cSld>
  <p:transition spd="med" advTm="30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r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face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497800" cy="50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403280" y="4221000"/>
            <a:ext cx="2232000" cy="936720"/>
          </a:xfrm>
          <a:prstGeom prst="wedgeRectCallout">
            <a:avLst>
              <a:gd name="adj1" fmla="val -69560"/>
              <a:gd name="adj2" fmla="val -1530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403280" y="4221000"/>
          <a:ext cx="2232000" cy="94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4221000"/>
                    <a:ext cx="22320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4500720" y="2492280"/>
            <a:ext cx="1655640" cy="2881440"/>
          </a:xfrm>
          <a:prstGeom prst="wedgeRectCallout">
            <a:avLst>
              <a:gd name="adj1" fmla="val -124208"/>
              <a:gd name="adj2" fmla="val -485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00720" y="2492280"/>
          <a:ext cx="1647720" cy="2857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00720" y="2492280"/>
                    <a:ext cx="164772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7236000" y="3645000"/>
            <a:ext cx="865080" cy="503280"/>
          </a:xfrm>
          <a:prstGeom prst="wedgeRectCallout">
            <a:avLst>
              <a:gd name="adj1" fmla="val -100458"/>
              <a:gd name="adj2" fmla="val -1846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308720" y="3645000"/>
          <a:ext cx="720720" cy="439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308720" y="3645000"/>
                    <a:ext cx="72072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sco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357F-06AF-486A-AA71-68FB91C8F7AA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76FE02-9F98-4E3A-8E0A-00ED94D15D52}" type="datetime1">
              <a:rPr lang="en-US"/>
              <a:t>07/31/26</a:t>
            </a:fld>
          </a:p>
        </p:txBody>
      </p:sp>
    </p:spTree>
  </p:cSld>
  <p:transition spd="med" advTm="30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9T08:51:50Z</dcterms:created>
  <dc:creator>rdtex</dc:creator>
  <dc:description/>
  <dc:language>en-US</dc:language>
  <cp:lastModifiedBy>1</cp:lastModifiedBy>
  <dcterms:modified xsi:type="dcterms:W3CDTF">2008-05-29T10:34:04Z</dcterms:modified>
  <cp:revision>393</cp:revision>
  <dc:subject/>
  <dc:title>Слайд 1</dc:title>
</cp:coreProperties>
</file>