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A358-284A-4285-BD4B-7E106BA5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5B05-5622-4893-9D8A-6931944E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BF8-218A-4F11-A59C-C6D7ED3C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952-057B-46A4-9210-B07C265C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9B51-4474-4DE5-9D49-7C06EAE8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6BE8-BA49-40B8-A611-16345AFD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722F-09AF-4E13-B310-AB4CD026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004-F4DF-44C9-9FE9-E28F2AB0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DCD-25FA-468C-BCD0-0B548856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33B-7686-4322-B79C-BB125143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FBC-27CC-481E-B79D-0893A657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B4F-4686-4C62-8658-76F8FC67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8A6E-24A3-4E0B-B7FD-55F00476CD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C2FB-0473-4C67-81E1-58034835C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707920"/>
            <a:ext cx="829152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site of the INTOSAI Working Group on Key National Indicato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TOSAI4KNI.OR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564000" y="692280"/>
          <a:ext cx="177804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692280"/>
                    <a:ext cx="17780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214C-4889-4921-BC77-9B905C34856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409F6-5D79-41BD-A3EE-E62C2F30DB87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r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face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261640" cy="4943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11280" y="2492280"/>
            <a:ext cx="1871640" cy="1944720"/>
          </a:xfrm>
          <a:prstGeom prst="wedgeRectCallout">
            <a:avLst>
              <a:gd name="adj1" fmla="val -104115"/>
              <a:gd name="adj2" fmla="val -10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411280" y="2492280"/>
          <a:ext cx="1866960" cy="195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492280"/>
                    <a:ext cx="186696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908000" y="4797360"/>
            <a:ext cx="1872000" cy="1728720"/>
          </a:xfrm>
          <a:prstGeom prst="wedgeRectCallout">
            <a:avLst>
              <a:gd name="adj1" fmla="val -76379"/>
              <a:gd name="adj2" fmla="val -52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908000" y="4797360"/>
          <a:ext cx="1852920" cy="166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8000" y="4797360"/>
                    <a:ext cx="185292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900000" y="981000"/>
            <a:ext cx="7775640" cy="503280"/>
          </a:xfrm>
          <a:prstGeom prst="wedgeRectCallout">
            <a:avLst>
              <a:gd name="adj1" fmla="val -40037"/>
              <a:gd name="adj2" fmla="val 111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00000" y="981000"/>
          <a:ext cx="7777440" cy="44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981000"/>
                    <a:ext cx="77774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63A-50EB-4D2E-AAB1-DF62E74BBA2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E1724-8B13-46E8-B98E-6176C681F988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ultilingual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261280" cy="4943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340000" y="4508640"/>
            <a:ext cx="2663640" cy="720720"/>
          </a:xfrm>
          <a:prstGeom prst="wedgeRectCallout">
            <a:avLst>
              <a:gd name="adj1" fmla="val -93740"/>
              <a:gd name="adj2" fmla="val 581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340000" y="4508640"/>
          <a:ext cx="266364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4508640"/>
                    <a:ext cx="26636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972E-0EF3-43BE-B1C4-4908B68F873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A1E22-8CFF-4A84-832C-ECB728B6B4D1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asic Technical Function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52640"/>
            <a:ext cx="777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13800" cy="521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484-0D06-415F-AB23-54AFE7CE37D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98911-4B1B-46AD-85F9-D9289C5A12DD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asic Technical Function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052640"/>
            <a:ext cx="777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1197000"/>
            <a:ext cx="403236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of a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gaz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e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1125360"/>
            <a:ext cx="457200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icles by the date of last reda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icles with the least quantity of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ingual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s included in a big quantity of categ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referenced 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s describing many-valued ter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 by the beginning of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icle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4CC-4820-457C-8871-9435CCCE552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A60FD-5F10-4370-9247-462F37EA88A0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d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569080" cy="5129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635280" y="2421000"/>
            <a:ext cx="4897440" cy="433440"/>
          </a:xfrm>
          <a:prstGeom prst="wedgeRectCallout">
            <a:avLst>
              <a:gd name="adj1" fmla="val -60569"/>
              <a:gd name="adj2" fmla="val 141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635280" y="2421000"/>
          <a:ext cx="4896000" cy="44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2421000"/>
                    <a:ext cx="489600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60A-D5E2-47B1-AED4-461DED6EC3F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B7758-FF6F-4EAB-95E5-2F95BB90CE50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w docu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981000"/>
          <a:ext cx="6985080" cy="35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698508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rot="14978400">
            <a:off x="1877040" y="3818520"/>
            <a:ext cx="636480" cy="431640"/>
          </a:xfrm>
          <a:prstGeom prst="rightArrow">
            <a:avLst>
              <a:gd name="adj1" fmla="val 32000"/>
              <a:gd name="adj2" fmla="val 749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7080" y="4437000"/>
            <a:ext cx="28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Cre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492360" y="3808440"/>
          <a:ext cx="5327640" cy="24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3808440"/>
                    <a:ext cx="532764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219-536A-4D29-B795-1C82BC8835B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F1C96-41EA-4AB5-880E-EC9CC47B6BA7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ributors’ input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1125360"/>
          <a:ext cx="8424720" cy="42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8424720" cy="42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88BF-E1F5-408C-9DA2-ADDF1B4612F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E5160-76B4-4160-8780-AB62B8FF3749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vision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2160" cy="517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A59-28A9-46FF-B24D-0268834D68D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F0DD7-679C-4838-B295-707E5F8E6753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ocuments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96000" cy="508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E01E-3C6F-4131-AF4F-EE5F73BBEC5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3322E-DA06-44F6-A224-E56C83322004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ultimedia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pport 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39640" y="3573360"/>
          <a:ext cx="8064720" cy="25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573360"/>
                    <a:ext cx="8064720" cy="25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 rot="14978400">
            <a:off x="1260720" y="5043600"/>
            <a:ext cx="636840" cy="431640"/>
          </a:xfrm>
          <a:prstGeom prst="rightArrow">
            <a:avLst>
              <a:gd name="adj1" fmla="val 32000"/>
              <a:gd name="adj2" fmla="val 750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1280" y="508464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Down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484360" y="808200"/>
          <a:ext cx="6335640" cy="38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08200"/>
                    <a:ext cx="633564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08000" y="2276640"/>
          <a:ext cx="22622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2276640"/>
                    <a:ext cx="22622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79280" y="2781360"/>
          <a:ext cx="2160720" cy="62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2781360"/>
                    <a:ext cx="216072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627280" y="3500280"/>
          <a:ext cx="59882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7280" y="3500280"/>
                    <a:ext cx="59882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CD25-A74A-4BE3-8B38-9B78EED93EA9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1BFC0-1E71-4D6D-BD2B-357B607A7D25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1640" y="285480"/>
            <a:ext cx="77580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al framework of the KNI WG Webs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713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and up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3FA-A80C-4F6B-B9CF-582FEA9749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13C42-9521-4809-98C1-4ED63F5492E7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arch on the web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332000" y="746280"/>
          <a:ext cx="6553080" cy="55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746280"/>
                    <a:ext cx="6553080" cy="55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EC0-1DD9-46DD-B8F7-5CD4F8CEBABF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7DF95-38B6-4345-8BF2-86FD684D08C9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ess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5037120" cy="1935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73880" y="1125360"/>
            <a:ext cx="59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Access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uthentific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20520" y="3789360"/>
            <a:ext cx="78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Personal profile (personal passw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96600" y="2205000"/>
            <a:ext cx="42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n: intos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word: gimmew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148360" y="4275000"/>
          <a:ext cx="3238560" cy="202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4275000"/>
                    <a:ext cx="3238560" cy="20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AECE-68E3-47A1-B020-16A7597557D0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9ADD8-FA01-4932-8D37-3EAFA4F84882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accou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458200" cy="506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E559-E125-4DDC-B834-00680FD44EB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8A738-BF5E-44F8-8E42-3989240A9FD4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lp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96000" cy="508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E78-4CB1-443B-BA44-E0739F1B4246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BD302-25BB-4A0D-9174-3C5439159321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92428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ank you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ttention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E0E-6DEF-4A7B-91F0-78338D00F0C2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A27BA-875D-4C1A-9E75-5CF46B5D0B3B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1640" y="285840"/>
            <a:ext cx="7758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purpose of the Webs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base conso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community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ing work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o INTOSAI regulations &amp;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ing resource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AF24-34F7-466B-BEDA-A76EB289CC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E61C8-0727-49F8-AC5B-56F54993280C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ucture of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intosai4kni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3429000"/>
            <a:ext cx="25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3429000"/>
            <a:ext cx="25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2133720"/>
            <a:ext cx="2592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I Working Group 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95640" y="3500280"/>
            <a:ext cx="1079640" cy="360360"/>
          </a:xfrm>
          <a:prstGeom prst="leftRightArrow">
            <a:avLst>
              <a:gd name="adj1" fmla="val 50000"/>
              <a:gd name="adj2" fmla="val 5964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934400">
            <a:off x="5437080" y="285228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8162400">
            <a:off x="2916000" y="285228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4076640"/>
            <a:ext cx="36007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for Working Group members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 and internal repor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149720"/>
            <a:ext cx="3600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ial reports and insigh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51280" y="836640"/>
          <a:ext cx="1417680" cy="12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836640"/>
                    <a:ext cx="14176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7D2-CEB8-4356-A1F0-D0D91E200B8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F8FEC-01F1-4BD5-9380-3D53D3F16EF3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ucture of intosai4kni.org s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981000"/>
            <a:ext cx="25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Me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628640"/>
            <a:ext cx="25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87640" y="909720"/>
            <a:ext cx="59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reme Audit Institutions, INTOSAI Working Group members on Key National Indicators: bio, contact 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87640" y="1628640"/>
            <a:ext cx="59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of procedure, terms of reference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278080"/>
            <a:ext cx="25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2925720"/>
            <a:ext cx="25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3573360"/>
            <a:ext cx="25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4221000"/>
            <a:ext cx="25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 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4870440"/>
            <a:ext cx="25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B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518080"/>
            <a:ext cx="25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87640" y="2278080"/>
            <a:ext cx="59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 Group agenda 2008, 2009 and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2925720"/>
            <a:ext cx="59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 Group meeting materi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87640" y="3573360"/>
            <a:ext cx="59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ners of the INTOSAI working group on Key National Indic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4221000"/>
            <a:ext cx="59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ossary, White Paper, review of scientific literature and international best pract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87640" y="4870440"/>
            <a:ext cx="59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wledge bases on KNI methodology, including regional co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87640" y="5518080"/>
            <a:ext cx="59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 Group contacts, the address, phone numbers and e-mails of particip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928B-B39F-499F-8E37-7D9E20E28CD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CF60D-D189-4736-A6E8-E6F64F49432B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1914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latform of intosai4kni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urce and free licens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Internet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 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-user frien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41381" r="24925" b="17321"/>
          <a:stretch/>
        </p:blipFill>
        <p:spPr>
          <a:xfrm>
            <a:off x="2843280" y="1557360"/>
            <a:ext cx="1081080" cy="10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D7E-E1E0-4DA6-AB18-2DC3EE8C2D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0D919-5EF5-4C7B-8664-B243D755C38A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1592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unction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1341360"/>
            <a:ext cx="7775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 of collaborative work of the Working Group members (authorized access, activities update, time-tabl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sharing (publication, forums, insights, editing capabiliti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con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lingual support (Russian, English) structures of the site with possibility of cross references between multilingual materials (translation of material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storage (storage of all versions and variants of working docu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F68-18C8-4D2D-94D6-5401F1E2716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B7C57-9CAB-466A-9640-96D79CAD5DA9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bsite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550360" cy="50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C9E0-4F99-4C38-99F2-0EF2D3B6817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A386C-F873-4A67-80A2-7B757BC5BE5C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r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face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497800" cy="50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03280" y="4221000"/>
            <a:ext cx="2232000" cy="936720"/>
          </a:xfrm>
          <a:prstGeom prst="wedgeRectCallout">
            <a:avLst>
              <a:gd name="adj1" fmla="val -69560"/>
              <a:gd name="adj2" fmla="val -1530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403280" y="4221000"/>
          <a:ext cx="2232000" cy="94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221000"/>
                    <a:ext cx="2232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4500720" y="2492280"/>
            <a:ext cx="1655640" cy="2881440"/>
          </a:xfrm>
          <a:prstGeom prst="wedgeRectCallout">
            <a:avLst>
              <a:gd name="adj1" fmla="val -124208"/>
              <a:gd name="adj2" fmla="val -48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00720" y="2492280"/>
          <a:ext cx="1647720" cy="285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00720" y="2492280"/>
                    <a:ext cx="164772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7236000" y="3645000"/>
            <a:ext cx="865080" cy="503280"/>
          </a:xfrm>
          <a:prstGeom prst="wedgeRectCallout">
            <a:avLst>
              <a:gd name="adj1" fmla="val -100458"/>
              <a:gd name="adj2" fmla="val -184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308720" y="3645000"/>
          <a:ext cx="720720" cy="439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08720" y="3645000"/>
                    <a:ext cx="72072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73B-D89A-4439-94B6-17CC5B03895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28C68-B405-4E04-9F56-4A266822B6C3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08:51:50Z</dcterms:created>
  <dc:creator>rdtex</dc:creator>
  <dc:description/>
  <dc:language>en-US</dc:language>
  <cp:lastModifiedBy>1</cp:lastModifiedBy>
  <dcterms:modified xsi:type="dcterms:W3CDTF">2008-05-29T10:34:04Z</dcterms:modified>
  <cp:revision>393</cp:revision>
  <dc:subject/>
  <dc:title>Слайд 1</dc:title>
</cp:coreProperties>
</file>